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99B-AB62-43EF-9DE6-66E17FDA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8FC-B954-40EF-8A9F-0BE48979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244-E093-4F06-9C15-AD0A6234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EAC-BD78-41BA-915C-8C36CD52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191-39E3-4786-9B94-E79D598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C03-12D9-4A1C-8664-0C9474B7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4E9-8B6E-4C50-B136-40D8493E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161-A863-40F6-B7D3-0598B195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9FF-2388-4DF7-9846-FCB7BB5A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410-2173-46D8-8D1B-55D4AED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184-91FB-49A0-8361-5F9BE49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699-9BF3-4E13-BCB9-A3844374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2B04-12E8-418A-BF9A-62E2A9DF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омоносов Михаил Васильевич– первый русский академи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65440" cy="4900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2254680"/>
            <a:ext cx="368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23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ды жизни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ноября 1711 — 15 апреля 1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на рождения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ера деятельности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лософ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гвист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ый деятель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56275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й российский ученый-энциклопедист мирового значения. Самородок, опередивший время. Просветитель, поэт, переводчик. Ломоносов был не только гением, но и фантастическим баловнем суд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8447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33112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ын деревенского рыбака с северной окраины России, простолюдин, мужик, он стал членом Российской и Шведской академий наук, дворянином, ученым, признанным не только в России, но и во всей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50418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всю историю ни один крестьянин не смог повторить судьбу Ломоносова. Он родился в деревне Денисовка близ города Холмогоры Архангельской губернии в семье помора. Ходил с отцом на судах за рыбой в Белое море и Северный Ледовитый океан. Когда ему было всего девять, умерла его мать, а отец его всегда относился к нему сур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1847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476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ьчик рано выучился грамоте и к 14 годам прочел все книги, которые смог достать, среди них «Арифметику», «Славянскую грамматику». В декабре 1730 г. он просто ушел с рыбным обозом в Москву за новыми зна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3111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677844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яд ли найдется на свете такой человек, который не знает, кто такой Ломоносов. Михаил Васильевич – это гениальнейший российский ученый, который сделал неоспоримый вклад во многие отрасли естествознания. Он первым открыл химическую лабораторию, сделал множество физических открытий и усовершенствовал русский язы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3189240"/>
            <a:ext cx="5302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9T18:35:09Z</dcterms:created>
  <dc:creator>ALEX</dc:creator>
  <dc:description/>
  <dc:language>en-US</dc:language>
  <cp:lastModifiedBy>Коля</cp:lastModifiedBy>
  <dcterms:modified xsi:type="dcterms:W3CDTF">2019-09-27T17:18:56Z</dcterms:modified>
  <cp:revision>28</cp:revision>
  <dc:subject/>
  <dc:title>Моржи –обитатели северных широт.</dc:title>
</cp:coreProperties>
</file>