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C4C-A252-442B-8333-00612FFF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1DE-EEC0-4D10-B718-23F698B6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09B-494E-41D0-B121-56FDDEEF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632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2444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820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632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2444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2CD-5E26-49AD-A94B-290D8294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20720" y="0"/>
            <a:ext cx="899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003-AE49-4572-ADC6-AEA51A83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632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2444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6820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632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2444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94E-A098-4020-B166-53E16750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A61-28E6-4D39-BA4E-A844392E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F6D-AFD7-4818-8C1A-759AB72D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0"/>
            <a:ext cx="899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03C-EB92-4470-AECA-EC04ACFF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06B-CD1F-4E92-AD0B-A3EE1F8C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6E4-4DB7-49B3-8DFD-7328DF52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B62-4C87-42E2-8A32-E25B997D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47165-A1F7-4C0E-AB89-AC109C8C0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6BAAC19-FF26-4C9C-B939-AB9190F25485}" type="slidenum">
              <a:rPr b="0" lang="de-DE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720720" y="-3240"/>
            <a:ext cx="899964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4200" bIns="0" anchor="ctr">
            <a:norm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КОНСТРУКТИВНОЕ ОБЩЕНИЕ КАК ФАКТОР ДУХОВНО-НРАВСТВЕННОГО РАЗВИТИЯ ПОДРО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Магистранта 2-ого гурса магистерск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Духовно-нравственное воспитан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Головиной В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Научный 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доц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Гутник И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САНКТ-ПЕТЕРБУ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91803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езультаты «КОС» до и после процедуры внедрения КСО, отражающие уровень коммуникативных и организаторских способностей учеников в 2014 и 2015 г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243320" y="4224240"/>
          <a:ext cx="5311800" cy="2530440"/>
        </p:xfrm>
        <a:graphic>
          <a:graphicData uri="http://schemas.openxmlformats.org/drawingml/2006/table">
            <a:tbl>
              <a:tblPr/>
              <a:tblGrid>
                <a:gridCol w="1925640"/>
                <a:gridCol w="1693800"/>
                <a:gridCol w="1692360"/>
              </a:tblGrid>
              <a:tr h="340200">
                <a:tc row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 gridSpan="2">
                  <a:txBody>
                    <a:bodyPr lIns="90000" rIns="90000" tIns="5544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рганизаторские способ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1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иже средн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2560" y="1330200"/>
          <a:ext cx="5319720" cy="2530440"/>
        </p:xfrm>
        <a:graphic>
          <a:graphicData uri="http://schemas.openxmlformats.org/drawingml/2006/table">
            <a:tbl>
              <a:tblPr/>
              <a:tblGrid>
                <a:gridCol w="1933560"/>
                <a:gridCol w="1693800"/>
                <a:gridCol w="1692360"/>
              </a:tblGrid>
              <a:tr h="340200">
                <a:tc row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 gridSpan="2">
                  <a:txBody>
                    <a:bodyPr lIns="90000" rIns="90000" tIns="5544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ные способ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1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иже средн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00160" y="2160720"/>
            <a:ext cx="4659120" cy="3493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Показатели методики „Я о себе“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60600" y="1079280"/>
            <a:ext cx="465948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Девятое утверждение было направлено на выявление мнения обучающихся об умении выразить свое мнение, уважая мнение других, конструктивно ведя дискусс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Результаты сравнения сформированности коммуникативных умений представлены на рисунке 9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з мнений обучающихся о себе в перспективе развитий КУ показал, что на конец эксперимента показатели коммуникативные умения изменились в целом в лучшую ст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Показатели методики „Я о себе“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60520" y="1079280"/>
            <a:ext cx="465948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ятнадцатое утверждение определяет отношение опрашиваемых к мнению других о выполненной работе (рисунок 15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дтвердилась необходимость развития коммуникативных умений на уроках с целью формирования коммуникативной компетенци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60360" y="2519280"/>
            <a:ext cx="4500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20720" y="0"/>
            <a:ext cx="899964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ходе исследования наша гипотеза подтвердилась: развитие навыков конструктивного общения как фактора духовно-нравственного воспитания младших подростков действительно будет эффективным в том случае, если будут применяться технологии учитывающие требования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720720" y="0"/>
            <a:ext cx="899964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ctr">
            <a:norm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 результатам диагностики было выявлено, что практическое применение технологий КСО в период с сентября 2014 года по сентябрь 2015 года имеет положительное влияние на становление и развитие коммуникативной компетентности младших подрос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ровень коммуникативной компетентности имеет существенное влияние на процесс конструктивного общения, что в свою очередь позволяет утверждать о положительном влиянии на духовно-нравственное развитие младших подрос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ставленные нами технологии могут быть взаимозаменяемы в зависимости от предметной области, типа урока и возрастной группы обучающихся. Это говорит об универсальном характере технологий коллективного способа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720720" y="0"/>
            <a:ext cx="899964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rmAutofit/>
          </a:bodyPr>
          <a:p>
            <a:pPr algn="just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 для учителя математики по развитию навыков конструктивного общ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Шаг 1. Замеряем исходный уровень развития коммуникативных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младших подро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Шаг 2. Отбираем технологие, сензетивные возрасту и особенностям данного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Шаг 3.  Планируем очередность и соотношение необходим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Шаг 4. Создаем карточки и другой необходимый раздаточный 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Шаг 5. Поэтапно внедряем необходим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Шаг 6. Рефлексируем промежуточные 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Шаг 7.  Используем результаты рефлексии для включения в процесс улучшения навыков общения других коллег и при необходимости, родителей уче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Шаг 8. Корректируем при необходимости состав технологий, осуществляем замену, вводим н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Шаг 9. Внедряем итоговый комплексный набор мето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Шаг 10. Осуществляем контрольный замер исходного уровня развития коммуникативных навыков младших подро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519280" y="0"/>
            <a:ext cx="575964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rm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Актуальность исслед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Духовно-нравственн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Социализация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720720" y="0"/>
            <a:ext cx="899964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Объект исследования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– Духовно-нравственное воспитание младших подрост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Предмет исследования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– Использование возможностей технологий КСО для конструктивного общения младших подростков на уроках математики как фактор их духовно-нравственного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Цель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исследования являлось изучение теоретических основ  конструктивного общения как фактора духовно-нравственного воспитания младших подростков и разработка практических способов духовно-нравственного воспитания младших подростков посредством технологий КС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720720" y="0"/>
            <a:ext cx="899964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16000" indent="-216000" algn="ctr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: Развитие навыков конструктивного общения как фактора духовно-нравственного воспитания младших подростков будет эффективным в том случае, есл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Будут применяться технологии учитывающие требования ФГО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Технологии будут применяться на предметах как гуманитарного, так и естественнонаучного циклов (математик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Будут применяться технологи различной направлен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Будут применяться сензитивные технолог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Будут применяться технологии, учитывающие особенности подросткового этапа развит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Технологии будут применяться комплекс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720720" y="360360"/>
            <a:ext cx="899964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16000" indent="-216000" algn="ctr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В соответствие с целью, гипотезой, объектом и предметом исследования поставлены следующие</a:t>
            </a: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ознакомиться с теоретическими основами и понятиями духовно-нравственного воспитания и технологиями конструктивного общения   (КСО) посредством педагогической и психологической литературы, а также официальных док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на основе анализа литературы выявить особенности духовно-нравственного развития младших подростков, а также отобрать необходимые для уроков математики технологии конструктивного 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720720" y="0"/>
            <a:ext cx="899964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16000" indent="-216000" algn="just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выработать методические рекомендации к применению технологий КСО в ходе образовательного процесса с целью влияния на духовно-нравственное развитие младших подрост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отобрать диагностические методики, необходимые для исследования влияния технологий конструктивного общения на духовно-нравственное воспитание младших подрост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практически реализовать комплекс технологий конструктивного общения в ходе обучения на уроках математики, а также проанализировать полученные данные о влиянии технологий КСО на духовно-нравственное воспитание младших подрост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720720" y="0"/>
            <a:ext cx="899964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16000" indent="-216000" algn="just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труктивное общение в учебной деятельности будет духовно-нравственным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при взаимодействии с другими подросток принимает правила колл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принимает другое мнение в отношении к какому-то событию или фа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наблюдается проявление собственного отношения к другим через понимание и желание пом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20720" y="0"/>
            <a:ext cx="899964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е технологии  коллективного способа обучения, направленных на развитие навыков конструктивного общения у младших подрост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Коллективная система обучения (КСО)» А.Г. Ривин, В.К. Дьяченко, М.А. Мкртчан, В.В. Архип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Исследовательские и проектные методы» Л.С. Выготский, С.Т. Шацкий, Б.В. Игнатьев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Дебаты» Т.В. Свет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Игровые технологии» Л.С. Выготский, А.П. Леонтьев, Д.Б. Элько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720720" y="0"/>
            <a:ext cx="899964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16000" indent="-21600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Состав коммуникативных действ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щение и взаимодействие с партнерами по совместной деятельности или обмену информа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особность действовать с учетом позиции другого и уметь согласовывать свои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зация и планирование учебного сотрудничества с учителем и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бота в группе (включая ситуации учебного сотрудничества и проектные формы рабо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4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едование морально-этическим и психологическим принципам общения и сотрудни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>1</cp:lastModifiedBy>
  <dcterms:modified xsi:type="dcterms:W3CDTF">2020-07-31T06:20:13Z</dcterms:modified>
  <cp:revision>12</cp:revision>
  <dc:subject/>
  <dc:title>Презентация PowerPoint</dc:title>
</cp:coreProperties>
</file>