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F07-2F48-4178-8D25-0FE2E64B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2B05-212F-446C-8134-5A28268F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D2951-3D5A-4928-9E7A-29D0E5E7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1221B-2318-4B1F-96AA-2014FFE3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BA287-C02E-4309-9483-F1AEB67D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70214-2FF0-4ECE-935B-7DFAC530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775FC-13E6-4A8B-BA6F-EDB286CB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CC5DE-5288-422F-9F31-771C5488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565E1-D1DF-40E2-A162-2A9235A7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3AD73-7606-4A10-927F-35955B82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A4F44-F538-4FB1-A0A7-884DA298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3D485-1211-4435-86FB-3A97558D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3A7-E995-479F-8477-2841C0DD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906C8-62E0-4E06-AF82-34E812C5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43DB7-119E-470A-938E-2660D8BF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EB827-71A5-4317-AB8C-02BF2EA7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A499C-0004-487B-93F4-EF76879E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E3D5F-BB58-405E-A9EA-E36481AE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673DE-0F21-4FDE-B686-0493D3CE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5387D-5BEA-4031-9826-09DD1635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3553F-63B2-437B-ADBD-A9E0B952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0DF3C-F9E9-40D0-B42E-26B07DA6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27D47-5DD2-4C40-9451-DD498BC0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C4D-1BE5-4C8F-9EAB-78FA7B9D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673BD-9463-4EF1-904A-39E3708F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0708F-0463-41CE-A2C9-952B7033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FAD77-A9BA-4707-AA94-6194CB8C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E030D-C5EC-46E9-BE07-FD078DEF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EECF3-7E06-4F7A-BD8D-2C136820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80395-926D-449C-8B5C-73389339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7F050-EDF9-43E3-B288-610BD5A8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81AAB-6340-45E5-8D00-5CD19465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3DE4B-2F99-45B2-9EB5-121B4012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30535-8F3D-4E7F-B2B2-701D265E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F6BB-1A7F-4F7B-A629-F13AD1C4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9D584-735F-4116-A703-04E81C07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EB4EF-44C4-426E-ACF9-D905B988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2731C-8014-43FA-9745-69B78353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39632-9C4D-40B3-8CB9-7D60F4DF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92436-CEAF-4302-BC9E-299603D6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2A780-8B65-4412-BA48-CBA5CD16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F109C-8328-42E4-8093-91DEF55A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037AF-EDE3-464F-8520-482F5E5C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2ACD7-5FAC-4ADB-B9A5-DD566915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38D1A-07EC-4B33-834D-3BFE3440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9F6C-5544-4A79-8A4B-63FE4CC0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2587D-44BC-48D9-BCEB-126BF866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CBEC2-8CAD-4E32-899C-92F32328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00298-A2DB-4321-9805-C5C047FE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E30B0-4C28-4087-AB99-D24C3DE8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DC983-252A-45BC-BCFC-81A0AFEE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F850-5FBE-4AB2-9B64-1053AE33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1086-AE6B-4C0B-AD81-D99960E1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55BA-67B1-4872-91F0-AAAE8C1A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43DC-F287-4595-ABAC-C0C3F987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6C3F-3468-4BD5-ADC2-3DF796D9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22AF-0DB0-4B47-BA68-0DA2C480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DB9C-034B-45F2-A48F-9DCB21EC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7B4E-DE19-4FE2-8664-AD409422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82E9-EB6D-4729-96B2-6EA585A1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8133-9603-4E58-AA0A-EF064086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6760-C62A-4659-B90A-EA2CD405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2D165-009F-4205-93FF-6C9CE7FA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67D18-68AC-4C66-B497-76F8D226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622D-0556-4F51-82E6-64E50CD3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F1E54-801D-4201-A461-C6EAC941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94F47-9322-4784-866E-1C8EF074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A7B-6C32-4BB4-A1DD-692DE148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62EE0-2D4E-492E-AC30-1E0B6F20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34E05-731A-4443-9B54-C9485E26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0B362-250B-44B3-8A2C-844AEB73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9CCB2-797C-4893-8A26-B9C38FB3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E40F9-ED93-4046-A933-637F7D17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FBB96-0079-45AE-B097-E9CDE958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28BF9-58A0-4F8B-9438-179011E0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29998-C93E-438C-9BED-F37C0B9D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58B45-4B2C-4DA2-AE2D-533ACED4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53D58-E1A6-4D42-8E0B-7867BB50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87AE-7BB0-47DF-941B-07118A2E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D3EC6-2737-425E-BC8D-261DFF7A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BD866-8A82-4A24-88DD-E68E352E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761E0-8B7B-4D5A-93AF-EBCA0EBD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FA40F-B0E2-4C19-A184-70FCD744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07398-1F89-4B86-B03E-96BEFA7D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0166D-31E6-4667-A671-636EF0AA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B147D-417E-4901-BF53-6B407BE4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7F5F5-60F3-4280-8B53-419A392D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58382-DF55-4793-A45A-FC5E8964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97E24-6D98-430C-9B37-83B54AF3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FFE-2A42-44F0-BDD3-14C5446E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724ED-671F-4496-8EE8-19CAF68A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F568F-A3C8-4A9C-B892-7AB0EC4C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4F76D-1720-4FDA-8C9B-6F546D30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626E5-4458-4DC3-84DC-082532A3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0729-1F78-460B-8339-8CF6679E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1190F-F0D2-4F4E-905C-4559E8ED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5725A-875E-441C-9F68-F26C4830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0537A-CB8A-40E0-BF15-E26CB84F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36D8E-BAD2-4EEE-AFCF-97921392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92C66-DAAD-4625-AD68-A79BCF22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E42-0B9E-487D-B511-757A2CE4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66935-3B7E-4A2F-8259-7D8F2C51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C1BA7-4AE1-4990-BBE2-DDE0D74F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ECD94-4203-4523-A088-70D9010D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5A11F-CB14-4D6F-ACBB-57912A39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96420-FE43-4B82-B92D-77FD8310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5434C-837B-4398-BDF4-B5333B45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5B2F7-6237-4809-BE2B-A90C988C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C771E-A200-4FA1-9DE7-E1598014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5A03B-DA15-4E9A-B5D2-DA654F7F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FACB9-9243-4F70-A802-1841415C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FBF-786A-4B33-829F-E2827105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588A4-CBAA-4F65-8F1C-61D40706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9C3B9-7ED8-4D9A-B064-7752D356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1D151-6BBB-4D1D-85F2-11978451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AA119-E434-48D2-BC60-965CB24D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7F3A7-29A8-4A44-AFC6-EB0D9E41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75F38-E5AA-48C8-8A9E-12BA2456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42762-0B1A-4BB1-8D3A-5F95176D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2E9C4-E237-4D37-BD92-DC6B5B83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A654C-8CDD-48E0-AB96-92167B3D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0EEFD-FCC7-4DCC-8ABC-2805EDFF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DF1D-96FD-4BD8-9468-1AE444CF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18ED3-B7D6-46AF-BABB-4DC851D3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1CA39-3B26-4D30-89FC-DBF12CA1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A055A-0847-4387-BBD5-AA5FF503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B8F50-A363-47DD-A9B9-3A7E7170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CB921-F547-440D-8573-D4196D95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966E4-5061-4EFD-9068-4FA14FB4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D69CC-A46A-4EB3-AB34-D0CD5E0C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91AE2-456F-4600-8ADA-4C9AB729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BF87A-D5E7-4191-BB1B-103F3BF2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04EC3-2661-42DB-9A58-37475BAC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C0D7-7233-4DBD-AE36-E557441C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37110-C6F0-4560-BFF6-766CB90C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AE392-EBC8-415C-ADFF-09966258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68961-21C7-4FFD-898B-E4EAF69D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8ECE8-7AFC-4090-8658-337FE6B1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B2242-7EDE-44D8-9C8D-732CFC66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8E3F3-5359-43FA-A58C-57174746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D64C8-ED36-4209-9C4E-FF085F5B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20C07-B9FE-4628-9056-D2409AD8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12BBB-DF01-44BC-AB20-C1774207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711B7-07E7-4749-9B1D-BC5283AB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BB46-320F-4B9B-96E6-9582890D2C1C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05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407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408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5085360" y="494640"/>
                <a:ext cx="3310920" cy="48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411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5383080" y="807840"/>
                <a:ext cx="2718720" cy="425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8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9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21C5-B833-4494-A4EC-A2AA59A3A0DA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7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6240-3AC8-4084-80E0-B17E6C016D95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0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5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6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5CF8-88B4-4419-A491-2736C8BD8A4B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7ECC-797F-4479-8322-8F65F98C09C6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232E-F63F-4F74-BB97-66EE646FFD02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5B99-78B0-42B9-AC3F-519E69D605B0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9B60-69B5-4FB9-9345-5A8E410F48D2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6568-7EB5-4ECA-A368-0B1F20E7D0DB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B5D2-FB34-4C73-A140-482008F099CE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830D-9F9A-4746-868A-B230E17AFFDA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0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9316-5D5B-4506-9443-94A25B16BBD3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cdorealestate.com/" TargetMode="External"/><Relationship Id="rId3" Type="http://schemas.openxmlformats.org/officeDocument/2006/relationships/hyperlink" Target="http://yandex.ru/" TargetMode="Externa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одзаголовок 2"/>
          <p:cNvSpPr/>
          <p:nvPr/>
        </p:nvSpPr>
        <p:spPr>
          <a:xfrm>
            <a:off x="468360" y="692280"/>
            <a:ext cx="8207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доврачебная помощ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строй сердечной недостаточности и инсуль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 учитель ОБ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БОУ школы № 48 Приморского района Санкт-Петербург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сайцев Сергей Николаеви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Рисунок 1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97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Рисунок 1" descr=""/>
          <p:cNvPicPr/>
          <p:nvPr/>
        </p:nvPicPr>
        <p:blipFill>
          <a:blip r:embed="rId1"/>
          <a:stretch/>
        </p:blipFill>
        <p:spPr>
          <a:xfrm>
            <a:off x="307800" y="206280"/>
            <a:ext cx="8528400" cy="64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3" descr="Симптомы инсуль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3"/>
          <p:cNvSpPr/>
          <p:nvPr/>
        </p:nvSpPr>
        <p:spPr>
          <a:xfrm>
            <a:off x="539640" y="476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54545"/>
                </a:solidFill>
                <a:latin typeface="Times New Roman"/>
              </a:rPr>
              <a:t>Первая доврачебная помощь </a:t>
            </a:r>
            <a:r>
              <a:rPr b="1" i="1" lang="ru-RU" sz="2800" spc="-1" strike="noStrike" u="sng">
                <a:solidFill>
                  <a:srgbClr val="454545"/>
                </a:solidFill>
                <a:uFillTx/>
                <a:latin typeface="Times New Roman"/>
              </a:rPr>
              <a:t>при инсульте</a:t>
            </a:r>
            <a:r>
              <a:rPr b="1" i="1" lang="ru-RU" sz="2800" spc="-1" strike="noStrike">
                <a:solidFill>
                  <a:srgbClr val="454545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250920" y="976320"/>
            <a:ext cx="88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рочно вызвать «скорую помощь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ложить пострадавшего в удобное положение, ослабить тугую одежду у него на шее, груди, тал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еспечить приток свежего воздух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верить наличие дыхания. Если дыхание отсутствует, делать искусственное дых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проверить наличие пульса. При отсутствии пульса начинать реани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если нет травмы головы, шеи или позвоночника, надо помочь больному перекатиться на повреждённую сторону, немного приподнять голову и грудь больного и подложить под них подушки или одеяло. Обеспечить тепло. К голове можно приложить хол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ПОМНИТЕ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и инсульте не давайте пострадавшему есть или пить: он может оказаться неспособным глотать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ИСТОЧНИКИ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Учебник «Основы безопасности жизнедеятельности», В.В.Марков, В.Н.Латчук, С.К.Миронов, С.Н.Вангородский, 11 класс – М. : Дрофа, 2013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 u="sng">
                <a:solidFill>
                  <a:srgbClr val="fa2b5c"/>
                </a:solidFill>
                <a:uFillTx/>
                <a:latin typeface="Gill Sans MT"/>
                <a:hlinkClick r:id="rId1"/>
              </a:rPr>
              <a:t>http://images.yandex.ru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 u="sng">
                <a:solidFill>
                  <a:srgbClr val="fa2b5c"/>
                </a:solidFill>
                <a:uFillTx/>
                <a:latin typeface="Gill Sans MT"/>
                <a:hlinkClick r:id="rId2"/>
              </a:rPr>
              <a:t>http://cdorealestate.com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 u="sng">
                <a:solidFill>
                  <a:srgbClr val="fa2b5c"/>
                </a:solidFill>
                <a:uFillTx/>
                <a:latin typeface="Gill Sans MT"/>
                <a:hlinkClick r:id="rId3"/>
              </a:rPr>
              <a:t>http://yandex.ru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Подзаголовок 2"/>
          <p:cNvSpPr/>
          <p:nvPr/>
        </p:nvSpPr>
        <p:spPr>
          <a:xfrm>
            <a:off x="539640" y="476280"/>
            <a:ext cx="83534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539640" y="1125360"/>
            <a:ext cx="820908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54545"/>
                </a:solidFill>
                <a:latin typeface="Times New Roman"/>
              </a:rPr>
              <a:t>Острая сердечная недостаточность (ОСН) в большинстве случаев возникает при ослаблении деятельности сердечной мышцы (миокарда), реже - при нарушении сердечного рит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Подзаголовок 2"/>
          <p:cNvSpPr/>
          <p:nvPr/>
        </p:nvSpPr>
        <p:spPr>
          <a:xfrm>
            <a:off x="539640" y="476280"/>
            <a:ext cx="83534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7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ОСН ОБЫЧНО РАЗВИВАЕТСЯ В ТЕЧЕНИЕ 10-15 МИНУТ. ВСЕ ПАТОЛОГИЧЕСКИЕ ЯВЛЕНИЯ НАРАСТАЮТ БЫСТРО, И ЕСЛИ БОЛЬНОМУ НЕ ОКАЗАНА СРОЧНАЯ ПОМОЩЬ, ЭТО МОЖЕТ ЗАКОНЧИТЬСЯ ЛЕТАЛЬНЫМ ИСХОДОМ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5400" y="2276280"/>
            <a:ext cx="822636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ОСН обычно развивается неожиданно, чаще среди ночи. Больной внезапно просыпается от кошмарного сновидения, чувства удушья и нехватки воздуха. Когда больной садится, ему становится легче дышать. Иногда это не помогает, и тогда нарастает одышка, появляется кашель с выделением вязкой мокроты с примесью крови, дыхание становится клокочущим. Если больному в этот момент не оказать срочную помощь, он может погибнуть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4247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ПЕРВАЯ ДОВРАЧЕБНАЯ ПОМОЩ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ПРИ ОСТРОЙ СЕРДЕЧНОЙ НЕДОСТАТОЧНОСТИ: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36080" y="1988640"/>
            <a:ext cx="9001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идать пострадавшему удобное полусидячее положение в постели и обеспечить приток свежего воздуха (открыть форточку, окно, дверь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обрызгать пострадавшему на лицо и шею прохладной водой и дать понюхать нашатырный спирт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ложить пострадавшего грелками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Дать пострадавшему валидол, или нитроглицерин (под язык), или корвалол (40 капель на 100 мл воды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Срочно вызвать «скорую помощь»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3"/>
          <p:cNvSpPr/>
          <p:nvPr/>
        </p:nvSpPr>
        <p:spPr>
          <a:xfrm>
            <a:off x="468360" y="40464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нсульт</a:t>
            </a:r>
            <a:r>
              <a:rPr b="1" i="1" lang="ru-RU" sz="3200" spc="-1" strike="noStrike">
                <a:solidFill>
                  <a:srgbClr val="454545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3200" spc="-1" strike="noStrike">
                <a:solidFill>
                  <a:srgbClr val="454545"/>
                </a:solidFill>
                <a:latin typeface="Times New Roman"/>
              </a:rPr>
              <a:t> это внезапное прекращение деятельности мозга или отдельных его частей из-за острого нарушения кровообращения или кровоизлия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5" descr=""/>
          <p:cNvPicPr/>
          <p:nvPr/>
        </p:nvPicPr>
        <p:blipFill>
          <a:blip r:embed="rId1"/>
          <a:stretch/>
        </p:blipFill>
        <p:spPr>
          <a:xfrm>
            <a:off x="155520" y="3139920"/>
            <a:ext cx="4145040" cy="2953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АЛКОГОЛЬ+ТАБАК=ИНСУЛЬТ"/>
          <p:cNvPicPr/>
          <p:nvPr/>
        </p:nvPicPr>
        <p:blipFill>
          <a:blip r:embed="rId2"/>
          <a:stretch/>
        </p:blipFill>
        <p:spPr>
          <a:xfrm>
            <a:off x="4608360" y="3192480"/>
            <a:ext cx="4361040" cy="290052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9"/>
          <p:cNvSpPr/>
          <p:nvPr/>
        </p:nvSpPr>
        <p:spPr>
          <a:xfrm>
            <a:off x="700200" y="26114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шемический инсуль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0"/>
          <p:cNvSpPr/>
          <p:nvPr/>
        </p:nvSpPr>
        <p:spPr>
          <a:xfrm>
            <a:off x="4743360" y="26370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моррагический инсуль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ИНСУЛЬТ ПРОИСХОДИТ ПРИ РЕЗКОМ СОКРАЩЕНИИ ПРИТОКА КРОВИ К ОДНОМУ ИЗ УЧАСТКОВ МОЗГА. БЕЗ ДОЛЖНОГО КРОВООБРАЩЕНИЯ МОЗГ НЕ ПОЛУЧАЕТ ДОСТАТОЧНО КИСЛОРОДА, МОЗГОВЫЕ КЛЕТКИ БЫСТРО ПОВРЕЖДАЮТСЯ И ГИБНУТ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30040" y="2923920"/>
            <a:ext cx="8226720" cy="20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Хотя по большей части инсульты бывают у пожилых людей, они могут случиться в любом возрасте. Чаще наблюдаются у мужчин, чем у женщин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ПРИЧИНАМИ ВОЗНИКНОВЕНИЯ ИНСУЛЬТА МОГУТ БЫТЬ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блокирование кровеносного сосуда сгустком кров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мозговое кровотечени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Рисунок 1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351640" cy="29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2:13:54Z</dcterms:created>
  <dc:creator>Admin</dc:creator>
  <dc:description/>
  <dc:language>en-US</dc:language>
  <cp:lastModifiedBy>AMDen</cp:lastModifiedBy>
  <dcterms:modified xsi:type="dcterms:W3CDTF">2020-08-03T15:33:19Z</dcterms:modified>
  <cp:revision>30</cp:revision>
  <dc:subject/>
  <dc:title>Лесков</dc:title>
</cp:coreProperties>
</file>