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5.jpeg" ContentType="image/jpeg"/>
  <Override PartName="/ppt/media/image22.png" ContentType="image/png"/>
  <Override PartName="/ppt/media/image20.gif" ContentType="image/gif"/>
  <Override PartName="/ppt/media/image13.png" ContentType="image/png"/>
  <Override PartName="/ppt/media/image24.png" ContentType="image/png"/>
  <Override PartName="/ppt/media/image1.gif" ContentType="image/gif"/>
  <Override PartName="/ppt/media/image31.gif" ContentType="image/gif"/>
  <Override PartName="/ppt/media/image21.gif" ContentType="image/gif"/>
  <Override PartName="/ppt/media/image19.gif" ContentType="image/gif"/>
  <Override PartName="/ppt/media/image14.jpeg" ContentType="image/jpeg"/>
  <Override PartName="/ppt/media/image18.jpeg" ContentType="image/jpeg"/>
  <Override PartName="/ppt/media/image15.png" ContentType="image/png"/>
  <Override PartName="/ppt/media/image23.gif" ContentType="image/gif"/>
  <Override PartName="/ppt/media/image28.gif" ContentType="image/gif"/>
  <Override PartName="/ppt/media/image8.png" ContentType="image/png"/>
  <Override PartName="/ppt/media/image30.gif" ContentType="image/gif"/>
  <Override PartName="/ppt/media/image5.jpeg" ContentType="image/jpeg"/>
  <Override PartName="/ppt/media/image11.gif" ContentType="image/gif"/>
  <Override PartName="/ppt/media/hammer.wav" ContentType="audio/x-wav"/>
  <Override PartName="/ppt/media/image10.gif" ContentType="image/gif"/>
  <Override PartName="/ppt/media/image33.png" ContentType="image/png"/>
  <Override PartName="/ppt/media/image40.gif" ContentType="image/gif"/>
  <Override PartName="/ppt/media/image38.gif" ContentType="image/gif"/>
  <Override PartName="/ppt/media/image29.png" ContentType="image/png"/>
  <Override PartName="/ppt/media/image3.gif" ContentType="image/gif"/>
  <Override PartName="/ppt/media/image26.gif" ContentType="image/gif"/>
  <Override PartName="/ppt/media/image37.gif" ContentType="image/gif"/>
  <Override PartName="/ppt/media/image34.gif" ContentType="image/gif"/>
  <Override PartName="/ppt/media/image4.gif" ContentType="image/gif"/>
  <Override PartName="/ppt/media/image27.gif" ContentType="image/gif"/>
  <Override PartName="/ppt/media/whoosh.wav" ContentType="audio/x-wav"/>
  <Override PartName="/ppt/media/image32.gif" ContentType="image/gif"/>
  <Override PartName="/ppt/media/image2.gif" ContentType="image/gif"/>
  <Override PartName="/ppt/media/image6.png" ContentType="image/png"/>
  <Override PartName="/ppt/media/image36.png" ContentType="image/png"/>
  <Override PartName="/ppt/media/image35.gif" ContentType="image/gif"/>
  <Override PartName="/ppt/media/image7.jpeg" ContentType="image/jpeg"/>
  <Override PartName="/ppt/media/image9.gif" ContentType="image/gif"/>
  <Override PartName="/ppt/media/image39.gif" ContentType="image/gif"/>
  <Override PartName="/ppt/media/image16.jpeg" ContentType="image/jpeg"/>
  <Override PartName="/ppt/media/image12.gif" ContentType="image/gif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5CD7-484C-488E-AB62-BB73F37E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2985-8FE9-4F58-A1D4-B3331BB7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B19F6-173E-406A-8ABC-D44D2265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B43B5-76D1-4BD1-A0ED-8DE6AEBF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81623-FF69-474E-B767-43728C8C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F77B1-196F-4F63-9C86-9AEB6CF2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07192-B647-4D7A-B0F4-C7460A35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34F2B-B0DB-4393-886F-20B07F77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378A1-1782-402F-924D-BA5A25A4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50F63-F233-4ACD-A677-803FB581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D765F-7F23-40C3-A153-74CB51E6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D9451-AB8E-45E4-833B-5EE81BC7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414-3FE1-4769-B1A2-3BFFC133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DDC14-D2D8-42DB-B1D8-15E719CC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9E50B-A7E6-4C2D-B55A-086481A2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5A573-B78A-4BA4-90AF-311C1BD2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0BBD0-96CD-45B8-81CE-C1DB931C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10398-4834-4546-BEB9-EC12B409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7D8A5-6BA5-4E78-B241-F7F45C02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1D27B-127D-4E1A-B970-C6BB7DEE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AACCA-A511-4551-B6DF-2481F4B7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5E1CE-1090-4041-8EBE-EF21E7B1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46CF0-CCFA-4928-A576-8D5CA012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EF51-25C0-4F65-9C5A-B001D002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06BE4-F994-4F50-A42D-8451E562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074A9-7DE4-4432-BC0E-01802692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03000-194B-419D-996C-8004111A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A25A8-1F28-4F5D-8946-281B9366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DF026-72C5-4EF5-AE5C-BFC66C2F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E2FB0-CDA5-46AB-87BF-13B8C883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1FFA3-F2BF-495E-AAE8-7EFA17D8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4735E-916A-450F-9A45-DAF48F18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CC21D-F48F-44A7-A94A-1F69C9DF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5EB54-A4F0-4244-A245-841C29E1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1141-4D74-4353-A8AD-FA5EE121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B4248-C3A8-47C8-AA76-8FD74F04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B9E11-1BC9-4B32-9275-B598073F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A0BCC-BDE4-4D2B-8401-8CA630E3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1F61A-833B-4E69-B582-34DC8E46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5471B-4002-405D-9307-A98476FF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0A509-ABD1-43B3-B4D2-AC3EA5A8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09E6F-A991-46E2-BEB8-9CAA75AD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FDDB0-7E8A-473B-BB60-9C65A748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23619-B318-4EDF-8B3E-92A740D4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BF990-39FC-40A1-A765-9E8CA446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AD1A-B7B6-4CD7-8586-EB7B7CB2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68311-34CF-4E30-B795-19A2469D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45F71-FF86-4645-B243-CE5B1C10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9FABD-01E3-4AA4-B8C7-010A1E25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C4DFB-739D-438E-890E-1F312908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A7A05-7EB0-4CFE-97C6-C8ADA0D6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2C024-54E7-42C2-8C37-BB05C556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D251F-0125-4BAA-889F-98732546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F2B53-113A-4F85-B108-D5C622C7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39143-767E-44AE-8BAC-96963FCC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F62E1-01D2-4593-BBA4-2F42851B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753C-D9A1-4B32-8FE5-A8871419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999CD0-E530-4E66-A2F7-00AAF325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6CEA84-5DE3-4BFD-BBF0-AB5BF6AB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B986E9-9587-4B6E-876E-D749CBAD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C809B-BE63-45EC-8462-F19306E1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C1050-2BF6-4CBC-A507-05845A0A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6E463-4BA5-4FEF-B70B-4F321C4D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7C2505-6FD4-4B29-8D9B-BA712677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AFEF-F512-4BD2-A3CD-007D7795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3EF0-B21F-449B-9254-B41C7464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0E7B-9891-49C3-9DFC-BB2322BA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D00E-4D38-4878-A48C-BDC9A911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AC5-13E3-4D06-A81F-37DF974F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4B92-2309-473A-9319-02596103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E1FD-5121-4CD5-942A-ED774D21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41C9-D7B4-47FC-AD66-3A7D4D92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BD7C-66D1-48B3-A1DB-2BD33F16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8484-D7E9-486E-80A1-6BB22B80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54AE2-EC8A-432B-B0AA-E41A6048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EBFDC-B222-4306-AC59-FCD3C550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64FF5-8BE8-4156-8381-12DC1379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B716D-EEC3-4289-9DEF-EC060B1B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19830-08C3-4511-BCD3-908C47E6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7BF-1D58-435F-88C3-1ADAC896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909F0-82C6-4CE9-B194-24951402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0327F-B3C3-4663-B71A-3C535902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CFCC6-8CC9-45D6-BB36-F4215190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86023-8EB5-4644-B59A-3FEFF3D4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22015-4AE5-42E7-A98B-D8D3CC3B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51269-EDC1-4F60-B065-9387C8BF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8711E-30E9-4A2A-A3F8-4B250D23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1073BB-2EF2-4A3F-934B-761887FE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439C7A-AA6B-4073-92F5-09B24348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806FC5-B446-4D33-BC27-B79A65AC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9CB-816F-498A-8911-AA18F386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ADC4DA-5F50-423D-B1A3-5FB084C7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807617-74A3-4BB6-A7A3-B1B87534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91879A-33E7-4F92-9639-47B77532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21E2D1-22F1-42E9-B8EF-CC04B810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AE4C4F-4C92-4C6A-BF8C-39C01BE0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09AD6F-4705-447F-A7AA-EB830CC6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D04266-D98A-4681-9E90-02B576EF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05FA70-438B-48D0-B7DA-A38A6C11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9300E4-6F05-4623-BAE2-71467BC0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3DFA5-EF58-45C6-9342-29BA01EC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F9F7-BCB9-4E78-964A-3D019DFC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CE06B-B909-4401-9A84-85D37B55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3DC5A-52C5-4D80-A5CF-DF4A7501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FB630-7DDA-40A4-8653-35A671DF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5A1E4-E17C-4A54-9725-BACAA796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CA431-9E3B-46B9-AF47-DB2286C0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5D5B0-5C3C-427B-BC2C-E3C04638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14285-FF8A-4D65-A9A9-1F620EA3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A247B-79D7-4C81-AFDA-C0B4CD7A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57F73-F73E-48EA-B72C-037531A1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308D7-0B0E-4436-82D4-4D971461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66D9-7600-4B52-B1E8-64CC8CA9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C4F69-06D6-426E-80AA-009534CE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3B5FB-F74F-44EC-B933-00C8FF98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A705C-1CC3-4722-80DC-0B565E13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0AC76-96F3-4C62-B92A-0CB47251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E8387-D83A-4991-9CC2-4359111F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25F00-0EB9-47A7-8ED5-D27F2A8F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2AC62-9E1D-42A9-A931-AAC0F5ED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4D76E-E6F2-4697-8310-B1D17563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4DC2D-C823-417C-B830-81639534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B57B3-B25F-4D9E-B8A9-72FB179A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CFA5-1735-4B4C-BB47-BA0EA492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0A04A-100D-4726-AC62-6EC41A1F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80B7A-E9D2-4FBA-ACDA-2E5F0CE2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F7AFE-F890-4791-A4D0-49E8DB6B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1298F-66B3-4F60-8D21-68C19DCA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130BA-EFFB-45CC-AA6A-E3AED97C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C377B-CFF3-4348-8068-32070DEA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15F52-482E-431C-ACB2-E035E0B0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E5B8F-32F6-428C-A6BF-E1D91D88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9A1DC-930F-41D5-8CB0-51B1C91D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A4771-7839-48B9-B909-F6E57A07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424-EDFA-451E-A149-2D014D14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C06F0-115A-432E-8744-C1A42074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C7998-B717-4DDE-82D9-9317891B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37B61-DF3D-4AA8-8423-44BD22AF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19D3D-ED9A-4015-B2EB-9EF47CEE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42DE5-2F2E-43DA-BBB5-35967385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C95F2-420B-47F8-B80A-23411637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576BB-6A1E-4D56-AF41-B3BF1C07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F258F-A73B-4B68-80F3-0F7F8BFE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A39BA-7EDA-4DF5-9B90-4B488682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4E99B-2F70-40E0-B79C-ECBBDEDD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E2C-6760-4EE3-8B94-0CD674A9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842D7-7D04-420F-9116-4AEA2B64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2F982-1062-4B77-8B57-100CFB21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0064F-FEC5-4BA6-BEB4-B8A66E3F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3484D-86E0-4B49-A267-A240F7D0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8BEE4-53DB-4C37-82CF-2FF2F8C6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7B626-2A61-4A05-97AD-82BA01A1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AA375-1130-4BBE-9B21-F2191676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4D37E-49B6-4313-8969-498EF6BE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342AF-C430-4770-820A-F7205D28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A5891-F2AE-4C41-BCD1-8D7CCAC3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112D-81D1-4526-91CF-EDD0594EB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5A99-4C4B-49BC-998D-1B0D8F705EB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3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754A-4402-4ABF-BC20-3EB1D0D1FBB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52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2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52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3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3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54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54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B908-746C-449B-894E-6E5A42705F4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60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60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62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62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62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63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63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AA72-238E-4CC5-8E87-68CC925EFF9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9E42-239A-43B8-8100-5F11780765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184B-27F4-4507-9188-57AA41A919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E8AB-BE96-4D80-94C6-B8223CD0E7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6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9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946A-4513-4D9D-BF6F-B5FA47DA27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C320-4033-40F8-9F88-248623347D0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F56D-0A1C-484D-BC04-8000DB74140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309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2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3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F277-2F87-4358-A00A-FAE7BAD3A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354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5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ftr" idx="26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sldNum" idx="27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2ABB-E3D8-4BE4-AA2B-624E3F46E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pn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image" Target="../media/image35.gif"/><Relationship Id="rId4" Type="http://schemas.openxmlformats.org/officeDocument/2006/relationships/image" Target="../media/image39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755640" y="620640"/>
            <a:ext cx="777708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рок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емецкого языка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о 2 классе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8244000" y="2781360"/>
            <a:ext cx="28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04000" y="313056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32360" y="2276640"/>
            <a:ext cx="2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067280" y="5938920"/>
            <a:ext cx="28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3"/>
          <a:stretch/>
        </p:blipFill>
        <p:spPr>
          <a:xfrm rot="19993200">
            <a:off x="7380360" y="692280"/>
            <a:ext cx="952560" cy="115236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1258920" y="119700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4"/>
          <a:stretch/>
        </p:blipFill>
        <p:spPr>
          <a:xfrm>
            <a:off x="3419640" y="4508640"/>
            <a:ext cx="1800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266080" cy="558972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4140360" y="3141720"/>
            <a:ext cx="79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132000" y="3645000"/>
            <a:ext cx="863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067280" y="27082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W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211640" y="429264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276720" y="328464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d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003640" y="3284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b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692360" y="5373720"/>
            <a:ext cx="67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Wie alt bist du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rot="21348600">
            <a:off x="826560" y="3068640"/>
            <a:ext cx="1897200" cy="1081080"/>
          </a:xfrm>
          <a:prstGeom prst="cloudCallout">
            <a:avLst>
              <a:gd name="adj1" fmla="val 97634"/>
              <a:gd name="adj2" fmla="val -6433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Qua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Qua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 rot="732600">
            <a:off x="3634920" y="501336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932360" y="4149720"/>
            <a:ext cx="2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508720" y="3213000"/>
            <a:ext cx="2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796000" y="450864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244000" y="2781360"/>
            <a:ext cx="28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804000" y="313056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156360" y="3716280"/>
            <a:ext cx="2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508720" y="4724280"/>
            <a:ext cx="2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rot="18218400">
            <a:off x="3575880" y="4208760"/>
            <a:ext cx="4008240" cy="4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rot="1218600">
            <a:off x="5002920" y="292428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rot="586200">
            <a:off x="6587640" y="3499920"/>
            <a:ext cx="3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156360" y="22766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211640" y="4076640"/>
            <a:ext cx="2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572000" y="6021360"/>
            <a:ext cx="2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rot="21352200">
            <a:off x="5724360" y="1989000"/>
            <a:ext cx="4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067280" y="5938920"/>
            <a:ext cx="28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995640" y="5661000"/>
            <a:ext cx="2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rot="1825800">
            <a:off x="5435280" y="2491920"/>
            <a:ext cx="360360" cy="3922920"/>
          </a:xfrm>
          <a:prstGeom prst="flowChartPunchedTap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 rot="19993200">
            <a:off x="7380360" y="692280"/>
            <a:ext cx="952560" cy="115236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1258920" y="119700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734520" y="27082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760200">
            <a:off x="6948000" y="256536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rot="20299200">
            <a:off x="5866920" y="227664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rot="1960200">
            <a:off x="4931640" y="5943240"/>
            <a:ext cx="7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ree"/>
          <p:cNvSpPr/>
          <p:nvPr/>
        </p:nvSpPr>
        <p:spPr>
          <a:xfrm>
            <a:off x="250920" y="1197000"/>
            <a:ext cx="2089080" cy="24591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ree"/>
          <p:cNvSpPr/>
          <p:nvPr/>
        </p:nvSpPr>
        <p:spPr>
          <a:xfrm>
            <a:off x="3203640" y="1268280"/>
            <a:ext cx="2089080" cy="24591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ree"/>
          <p:cNvSpPr/>
          <p:nvPr/>
        </p:nvSpPr>
        <p:spPr>
          <a:xfrm>
            <a:off x="3780000" y="4005360"/>
            <a:ext cx="2089080" cy="24588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684360" y="3860640"/>
            <a:ext cx="2303280" cy="266400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6443640" y="3716280"/>
            <a:ext cx="2303640" cy="2664000"/>
          </a:xfrm>
          <a:prstGeom prst="rect">
            <a:avLst/>
          </a:prstGeom>
          <a:ln w="0">
            <a:noFill/>
          </a:ln>
        </p:spPr>
      </p:pic>
      <p:sp>
        <p:nvSpPr>
          <p:cNvPr id="797" name="Tree"/>
          <p:cNvSpPr/>
          <p:nvPr/>
        </p:nvSpPr>
        <p:spPr>
          <a:xfrm>
            <a:off x="6516720" y="1413000"/>
            <a:ext cx="2089080" cy="24588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ree"/>
          <p:cNvSpPr/>
          <p:nvPr/>
        </p:nvSpPr>
        <p:spPr>
          <a:xfrm>
            <a:off x="4859280" y="1413000"/>
            <a:ext cx="2089080" cy="24588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ree"/>
          <p:cNvSpPr/>
          <p:nvPr/>
        </p:nvSpPr>
        <p:spPr>
          <a:xfrm>
            <a:off x="1547640" y="1268280"/>
            <a:ext cx="2089440" cy="24591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4824720" cy="4897440"/>
          </a:xfrm>
          <a:prstGeom prst="rect">
            <a:avLst/>
          </a:prstGeom>
          <a:ln w="0">
            <a:noFill/>
          </a:ln>
        </p:spPr>
      </p:pic>
      <p:sp>
        <p:nvSpPr>
          <p:cNvPr id="801" name="Tree"/>
          <p:cNvSpPr/>
          <p:nvPr/>
        </p:nvSpPr>
        <p:spPr>
          <a:xfrm>
            <a:off x="250920" y="2565360"/>
            <a:ext cx="1800000" cy="21589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ree"/>
          <p:cNvSpPr/>
          <p:nvPr/>
        </p:nvSpPr>
        <p:spPr>
          <a:xfrm>
            <a:off x="6588000" y="2781360"/>
            <a:ext cx="1944720" cy="24588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2"/>
          <a:stretch/>
        </p:blipFill>
        <p:spPr>
          <a:xfrm>
            <a:off x="7451640" y="549360"/>
            <a:ext cx="1095480" cy="111420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3"/>
          <a:stretch/>
        </p:blipFill>
        <p:spPr>
          <a:xfrm>
            <a:off x="684360" y="5373720"/>
            <a:ext cx="1095120" cy="111456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 txBox="1"/>
          <p:nvPr/>
        </p:nvSpPr>
        <p:spPr>
          <a:xfrm>
            <a:off x="1979640" y="476280"/>
            <a:ext cx="518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Wer ist das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 rot="715800">
            <a:off x="4500360" y="5516280"/>
            <a:ext cx="793440" cy="573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ree"/>
          <p:cNvSpPr/>
          <p:nvPr/>
        </p:nvSpPr>
        <p:spPr>
          <a:xfrm>
            <a:off x="6732720" y="3716280"/>
            <a:ext cx="1871640" cy="24591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ree"/>
          <p:cNvSpPr/>
          <p:nvPr/>
        </p:nvSpPr>
        <p:spPr>
          <a:xfrm>
            <a:off x="900000" y="4149720"/>
            <a:ext cx="1729080" cy="24591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rot="1047600">
            <a:off x="8062560" y="6092640"/>
            <a:ext cx="1081080" cy="431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 rot="3568800">
            <a:off x="251280" y="5947920"/>
            <a:ext cx="57492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rot="20901000">
            <a:off x="3059280" y="5950080"/>
            <a:ext cx="1081080" cy="50328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 rot="9691800">
            <a:off x="6803640" y="6307560"/>
            <a:ext cx="574560" cy="28728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000"/>
                            </p:stCondLst>
                            <p:childTnLst>
                              <p:par>
                                <p:cTn id="6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7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3276720" y="501336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Das 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ist</a:t>
            </a: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 Lulu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71640" y="3429000"/>
            <a:ext cx="144000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788000" y="3284640"/>
            <a:ext cx="1441440" cy="10792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804000" y="3357720"/>
            <a:ext cx="151128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1332000" y="260280"/>
            <a:ext cx="68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ate mal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226836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3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6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971640" y="530064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Ist das Weise Eule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292720" y="3284640"/>
            <a:ext cx="144000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971640" y="3213000"/>
            <a:ext cx="1441440" cy="107964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987640" y="3284640"/>
            <a:ext cx="151128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093080" y="2997360"/>
            <a:ext cx="107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6443640" y="620640"/>
            <a:ext cx="216072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324000" y="3284640"/>
            <a:ext cx="75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Ja</a:t>
            </a:r>
            <a:r>
              <a:rPr b="1" lang="ru-RU" sz="4800" spc="-1" strike="noStrike">
                <a:solidFill>
                  <a:srgbClr val="ff33cc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 das ist Winni Pu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84360" y="1413000"/>
            <a:ext cx="144000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500720" y="1268280"/>
            <a:ext cx="1441440" cy="107964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732720" y="1268280"/>
            <a:ext cx="1511280" cy="100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55640" y="1268280"/>
            <a:ext cx="19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804000" y="6381720"/>
            <a:ext cx="23400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2"/>
          <a:stretch/>
        </p:blipFill>
        <p:spPr>
          <a:xfrm>
            <a:off x="6372360" y="2637000"/>
            <a:ext cx="2476440" cy="31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395280" y="836640"/>
            <a:ext cx="1224000" cy="13683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826920" y="404640"/>
            <a:ext cx="1297080" cy="13687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916360" y="1197000"/>
            <a:ext cx="1582560" cy="93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148360" y="1125360"/>
            <a:ext cx="1584360" cy="93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084720" y="549360"/>
            <a:ext cx="151164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667640" y="836640"/>
            <a:ext cx="125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2374920" cy="237636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3"/>
          <a:stretch/>
        </p:blipFill>
        <p:spPr>
          <a:xfrm>
            <a:off x="3203640" y="3284640"/>
            <a:ext cx="2160360" cy="260352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395280" y="5877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Sind da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Alex und Ma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5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1258920" y="260280"/>
            <a:ext cx="4681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ема урока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826920" y="1628640"/>
            <a:ext cx="74170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1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Wir kennen jetzt das Abc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cc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 rot="20995200">
            <a:off x="899640" y="5373720"/>
            <a:ext cx="486000" cy="71748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 rot="496200">
            <a:off x="5076720" y="5734080"/>
            <a:ext cx="503280" cy="72720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 rot="678000">
            <a:off x="7667280" y="333000"/>
            <a:ext cx="576360" cy="86364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4"/>
          <a:stretch/>
        </p:blipFill>
        <p:spPr>
          <a:xfrm rot="518400">
            <a:off x="7812000" y="5516640"/>
            <a:ext cx="5032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4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4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4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4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2268360" y="260280"/>
            <a:ext cx="46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66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ingen wir!</a:t>
            </a:r>
            <a:endParaRPr b="0" lang="en-US" sz="1800" spc="1" strike="noStrike">
              <a:ln w="19080">
                <a:solidFill>
                  <a:srgbClr val="0066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3" name=""/>
          <p:cNvSpPr/>
          <p:nvPr/>
        </p:nvSpPr>
        <p:spPr>
          <a:xfrm>
            <a:off x="1979640" y="1197000"/>
            <a:ext cx="56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Bernard MT Condensed"/>
              </a:rPr>
              <a:t>Ist das / sind d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" y="2565360"/>
            <a:ext cx="4427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st das Uli? Ist das Len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ind das Hugo und Iren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as ist Uli. Das ist Le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as sind Hugo und Ir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643280" y="2565360"/>
            <a:ext cx="45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st das, ist das Ul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st das, ist das Len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ind das, sind das Hu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und Ire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627280" y="4869000"/>
            <a:ext cx="54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Nein, das ist nicht Ul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Nein, das ist nicht L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Nein, das sind nicht Hugo und Ire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7380360" y="260280"/>
            <a:ext cx="1512720" cy="259236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1655640" cy="201636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4"/>
          <a:stretch/>
        </p:blipFill>
        <p:spPr>
          <a:xfrm>
            <a:off x="7236000" y="450864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5"/>
          <a:stretch/>
        </p:blipFill>
        <p:spPr>
          <a:xfrm>
            <a:off x="611280" y="4941720"/>
            <a:ext cx="1439640" cy="15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4500"/>
                            </p:stCondLst>
                            <p:childTnLst>
                              <p:par>
                                <p:cTn id="7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500"/>
                            </p:stCondLst>
                            <p:childTnLst>
                              <p:par>
                                <p:cTn id="7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6500"/>
                            </p:stCondLst>
                            <p:childTnLst>
                              <p:par>
                                <p:cTn id="7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5292720" y="3500280"/>
            <a:ext cx="5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62880" cy="648000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 rot="246600">
            <a:off x="610920" y="515772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ff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rot="21133200">
            <a:off x="3995640" y="4436640"/>
            <a:ext cx="11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443640" y="429264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rot="504600">
            <a:off x="5795640" y="263700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rot="19109400">
            <a:off x="2845440" y="522900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270520" y="335772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380360" y="371628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Arial"/>
              </a:rPr>
              <a:t>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rot="21369600">
            <a:off x="324000" y="32130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Arial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rot="710400">
            <a:off x="1834920" y="486864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rot="20572800">
            <a:off x="4113000" y="318888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ff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rot="20971200">
            <a:off x="5436720" y="537336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rot="20874600">
            <a:off x="7165800" y="5465520"/>
            <a:ext cx="140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3500"/>
                            </p:stCondLst>
                            <p:childTnLst>
                              <p:par>
                                <p:cTn id="8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500"/>
                            </p:stCondLst>
                            <p:childTnLst>
                              <p:par>
                                <p:cTn id="8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0"/>
                            </p:stCondLst>
                            <p:childTnLst>
                              <p:par>
                                <p:cTn id="8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500"/>
                            </p:stCondLst>
                            <p:childTnLst>
                              <p:par>
                                <p:cTn id="8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6000"/>
                            </p:stCondLst>
                            <p:childTnLst>
                              <p:par>
                                <p:cTn id="8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6500"/>
                            </p:stCondLst>
                            <p:childTnLst>
                              <p:par>
                                <p:cTn id="8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7000"/>
                            </p:stCondLst>
                            <p:childTnLst>
                              <p:par>
                                <p:cTn id="8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7500"/>
                            </p:stCondLst>
                            <p:childTnLst>
                              <p:par>
                                <p:cTn id="8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8000"/>
                            </p:stCondLst>
                            <p:childTnLst>
                              <p:par>
                                <p:cTn id="8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" descr=""/>
          <p:cNvPicPr/>
          <p:nvPr/>
        </p:nvPicPr>
        <p:blipFill>
          <a:blip r:embed="rId1"/>
          <a:stretch/>
        </p:blipFill>
        <p:spPr>
          <a:xfrm>
            <a:off x="3635280" y="2492280"/>
            <a:ext cx="2305080" cy="338472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 txBox="1"/>
          <p:nvPr/>
        </p:nvSpPr>
        <p:spPr>
          <a:xfrm>
            <a:off x="539640" y="333360"/>
            <a:ext cx="784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3333cc"/>
                  </a:solidFill>
                  <a:miter/>
                </a:ln>
                <a:solidFill>
                  <a:srgbClr val="ff00ff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urnen wir!</a:t>
            </a:r>
            <a:endParaRPr b="1" lang="en-US" sz="1800" spc="1" strike="noStrike">
              <a:ln w="57240">
                <a:solidFill>
                  <a:srgbClr val="3333cc"/>
                </a:solidFill>
                <a:miter/>
              </a:ln>
              <a:solidFill>
                <a:srgbClr val="ff00ff">
                  <a:alpha val="77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4140360" y="981000"/>
            <a:ext cx="431640" cy="60984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280360" cy="621036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4859280" y="314172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e</a:t>
            </a:r>
            <a:r>
              <a:rPr b="1" lang="en-US" sz="4400" spc="-1" strike="noStrike">
                <a:solidFill>
                  <a:srgbClr val="f20e1e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941440" y="4724280"/>
            <a:ext cx="17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f20e1e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710160" y="2133720"/>
            <a:ext cx="148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re</a:t>
            </a:r>
            <a:r>
              <a:rPr b="1" lang="en-US" sz="4400" spc="-1" strike="noStrike">
                <a:solidFill>
                  <a:srgbClr val="f20e1e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924360" y="486900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700360" y="414972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f20e1e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052720" y="321300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ab</a:t>
            </a:r>
            <a:r>
              <a:rPr b="1" lang="en-US" sz="4400" spc="-1" strike="noStrike">
                <a:solidFill>
                  <a:srgbClr val="f20e1e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851280" y="58053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Xen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259640" y="5013360"/>
            <a:ext cx="167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r</a:t>
            </a:r>
            <a:r>
              <a:rPr b="1" lang="en-US" sz="4400" spc="-1" strike="noStrike">
                <a:solidFill>
                  <a:srgbClr val="f20e1e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n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125800" y="5805360"/>
            <a:ext cx="12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t</a:t>
            </a:r>
            <a:r>
              <a:rPr b="1" lang="en-US" sz="4400" spc="-1" strike="noStrike">
                <a:solidFill>
                  <a:srgbClr val="f20e1e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012000" y="5661000"/>
            <a:ext cx="21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o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771640" y="5805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859280" y="580536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164360" y="5661000"/>
            <a:ext cx="6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443640" y="4724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780000" y="4797360"/>
            <a:ext cx="2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836720" y="501336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132000" y="4149720"/>
            <a:ext cx="5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00720" y="400536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S 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508720" y="31417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059280" y="31417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356000" y="2133720"/>
            <a:ext cx="2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859280" y="4005360"/>
            <a:ext cx="2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3"/>
          <a:stretch/>
        </p:blipFill>
        <p:spPr>
          <a:xfrm>
            <a:off x="3851280" y="1052640"/>
            <a:ext cx="792000" cy="100800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2771640" y="5805360"/>
            <a:ext cx="36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859280" y="580536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164360" y="56610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835280" y="5013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4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635280" y="4869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300720" y="4724280"/>
            <a:ext cx="2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059280" y="414972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859280" y="400536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059280" y="321300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508720" y="31417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356000" y="21337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000"/>
                            </p:stCondLst>
                            <p:childTnLst>
                              <p:par>
                                <p:cTn id="9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4000"/>
                            </p:stCondLst>
                            <p:childTnLst>
                              <p:par>
                                <p:cTn id="9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0"/>
                            </p:stCondLst>
                            <p:childTnLst>
                              <p:par>
                                <p:cTn id="9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6000"/>
                            </p:stCondLst>
                            <p:childTnLst>
                              <p:par>
                                <p:cTn id="9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7000"/>
                            </p:stCondLst>
                            <p:childTnLst>
                              <p:par>
                                <p:cTn id="9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8000"/>
                            </p:stCondLst>
                            <p:childTnLst>
                              <p:par>
                                <p:cTn id="9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3767040" y="2476440"/>
            <a:ext cx="1609920" cy="190512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2050920" y="-243000"/>
            <a:ext cx="5472360" cy="619128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4"/>
          <a:stretch/>
        </p:blipFill>
        <p:spPr>
          <a:xfrm>
            <a:off x="3635280" y="3357720"/>
            <a:ext cx="1800360" cy="244764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3780000" y="155736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ff"/>
                </a:solidFill>
                <a:latin typeface="Arial Black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724360" y="1484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 Black"/>
              </a:rPr>
              <a:t>S</a:t>
            </a:r>
            <a:r>
              <a:rPr b="0" lang="de-DE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780000" y="234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 Black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700360" y="3429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0099"/>
                </a:solidFill>
                <a:latin typeface="Arial Black"/>
              </a:rPr>
              <a:t> </a:t>
            </a:r>
            <a:r>
              <a:rPr b="0" lang="de-DE" sz="3200" spc="-1" strike="noStrike">
                <a:solidFill>
                  <a:srgbClr val="990099"/>
                </a:solidFill>
                <a:latin typeface="Arial Black"/>
              </a:rPr>
              <a:t>C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700360" y="508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 Black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29272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de-DE" sz="2800" spc="-1" strike="noStrike">
                <a:solidFill>
                  <a:srgbClr val="0000ff"/>
                </a:solidFill>
                <a:latin typeface="Arial Black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788000" y="227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de-DE" sz="3600" spc="-1" strike="noStrike">
                <a:solidFill>
                  <a:srgbClr val="0000ff"/>
                </a:solidFill>
                <a:latin typeface="Arial Black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580000" y="4292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 Black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700360" y="4076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Arial Black"/>
              </a:rPr>
              <a:t>K</a:t>
            </a:r>
            <a:r>
              <a:rPr b="0" lang="de-DE" sz="32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19640" y="458136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435640" y="4797360"/>
            <a:ext cx="71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197080" y="5278320"/>
            <a:ext cx="40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132" dur="20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0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0.03727 L 0.22465 0.63565 E">
                                      <p:cBhvr>
                                        <p:cTn id="1139" dur="2000" fill="hold"/>
                                        <p:tgtEl>
                                          <p:spTgt spid="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-0.00023 L 0.07882 0.65 E">
                                      <p:cBhvr>
                                        <p:cTn id="1141" dur="2000" fill="hold"/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-0.07986 L -0.16927 0.56065 E">
                                      <p:cBhvr>
                                        <p:cTn id="1143" dur="2000" fill="hold"/>
                                        <p:tgtEl>
                                          <p:spTgt spid="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23 0.0463 L -0.21649 0.32963 E">
                                      <p:cBhvr>
                                        <p:cTn id="1146" dur="2000" fill="hold"/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83 0.02686 L 0.20087 0.13172 E">
                                      <p:cBhvr>
                                        <p:cTn id="1149" dur="2000" fill="hold"/>
                                        <p:tgtEl>
                                          <p:spTgt spid="9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23 0.01481 L -0.22448 0.36111 E">
                                      <p:cBhvr>
                                        <p:cTn id="1152" dur="2000" fill="hold"/>
                                        <p:tgtEl>
                                          <p:spTgt spid="9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02 0.3419 L 0.21667 0.53079 E">
                                      <p:cBhvr>
                                        <p:cTn id="1155" dur="2000" fill="hold"/>
                                        <p:tgtEl>
                                          <p:spTgt spid="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25 -0.23496 L -0.03542 0.25185 E">
                                      <p:cBhvr>
                                        <p:cTn id="1157" dur="2000" fill="hold"/>
                                        <p:tgtEl>
                                          <p:spTgt spid="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-0.00782 0.28333 E">
                                      <p:cBhvr>
                                        <p:cTn id="1159" dur="2000" fill="hold"/>
                                        <p:tgtEl>
                                          <p:spTgt spid="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-0.04676 L -0.06771 0.1213 E">
                                      <p:cBhvr>
                                        <p:cTn id="1161" dur="20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2843280" y="260280"/>
            <a:ext cx="518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as Abc</a:t>
            </a:r>
            <a:endParaRPr b="0" lang="en-US" sz="4800" spc="1" strike="noStrike">
              <a:ln w="12600">
                <a:solidFill>
                  <a:srgbClr val="0033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763640" y="0"/>
            <a:ext cx="0" cy="685800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435640" y="1125360"/>
            <a:ext cx="0" cy="573264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308720" y="1125360"/>
            <a:ext cx="0" cy="573264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 flipV="1">
            <a:off x="3634920" y="1125360"/>
            <a:ext cx="73080" cy="573264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5516640"/>
            <a:ext cx="9144000" cy="7308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68360" y="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68360" y="98100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124000" y="981000"/>
            <a:ext cx="10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924360" y="1052640"/>
            <a:ext cx="93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Arial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796000" y="105264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812000" y="105264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F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68360" y="2133720"/>
            <a:ext cx="11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Arial"/>
              </a:rPr>
              <a:t>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124000" y="213372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140360" y="2205000"/>
            <a:ext cx="57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796000" y="220500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J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7740720" y="2205000"/>
            <a:ext cx="107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39640" y="321300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124000" y="3213000"/>
            <a:ext cx="93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33"/>
                </a:solidFill>
                <a:latin typeface="Arial"/>
              </a:rPr>
              <a:t>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924360" y="3213000"/>
            <a:ext cx="93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Arial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724360" y="3213000"/>
            <a:ext cx="10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7667640" y="321300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68360" y="4292640"/>
            <a:ext cx="7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124000" y="4365720"/>
            <a:ext cx="10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Arial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995640" y="436572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33"/>
                </a:solidFill>
                <a:latin typeface="Arial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796000" y="4365720"/>
            <a:ext cx="10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667640" y="4365720"/>
            <a:ext cx="115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Arial"/>
              </a:rPr>
              <a:t>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68360" y="5661000"/>
            <a:ext cx="7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33"/>
                </a:solidFill>
                <a:latin typeface="Arial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268360" y="5661000"/>
            <a:ext cx="115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W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995640" y="5661000"/>
            <a:ext cx="10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940360" y="5661000"/>
            <a:ext cx="10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Arial"/>
              </a:rPr>
              <a:t>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812000" y="566100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1908000" y="1341360"/>
            <a:ext cx="6409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uf Wiedersehn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2737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0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3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3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3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3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1547640" y="692280"/>
            <a:ext cx="273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дачи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971640" y="1916280"/>
            <a:ext cx="61243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1. Повторить пройденный материал в игровой форме.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971640" y="2997360"/>
            <a:ext cx="6867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2. Совершенствовать навыки устной и письменной речи.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900000" y="5084640"/>
            <a:ext cx="6858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4. Поддерживать интерес к изучению немецкого языка.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971640" y="4076640"/>
            <a:ext cx="4314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3. Закрепление знания счета до 12.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519280" cy="374328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699" name=""/>
          <p:cNvSpPr/>
          <p:nvPr/>
        </p:nvSpPr>
        <p:spPr>
          <a:xfrm>
            <a:off x="3564000" y="765000"/>
            <a:ext cx="3240000" cy="1293840"/>
          </a:xfrm>
          <a:prstGeom prst="cloudCallout">
            <a:avLst>
              <a:gd name="adj1" fmla="val -73740"/>
              <a:gd name="adj2" fmla="val 31171"/>
            </a:avLst>
          </a:prstGeom>
          <a:solidFill>
            <a:srgbClr val="ffcc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Black"/>
              </a:rPr>
              <a:t>- Guten Tag! Ich hei</a:t>
            </a:r>
            <a:r>
              <a:rPr b="0" lang="de-DE" sz="2000" spc="-1" strike="noStrike">
                <a:solidFill>
                  <a:srgbClr val="009900"/>
                </a:solidFill>
                <a:latin typeface="Arial Black"/>
              </a:rPr>
              <a:t>ße Alb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10665600">
            <a:off x="2123640" y="4365720"/>
            <a:ext cx="3313080" cy="1224000"/>
          </a:xfrm>
          <a:prstGeom prst="cloudCallout">
            <a:avLst>
              <a:gd name="adj1" fmla="val -67972"/>
              <a:gd name="adj2" fmla="val 63874"/>
            </a:avLst>
          </a:prstGeom>
          <a:solidFill>
            <a:srgbClr val="ffcc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9900"/>
                </a:solidFill>
                <a:latin typeface="Arial Black"/>
              </a:rPr>
              <a:t>- Hallo!  Ich heiße Wal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6156360" y="3141720"/>
            <a:ext cx="2519280" cy="33116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6732720" y="404640"/>
            <a:ext cx="1871640" cy="223236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 txBox="1"/>
          <p:nvPr/>
        </p:nvSpPr>
        <p:spPr>
          <a:xfrm>
            <a:off x="1619280" y="1125360"/>
            <a:ext cx="5184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uten Tag!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35280" y="2205000"/>
            <a:ext cx="6265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uten Tag! Guten Ta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agen alle Kin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roße Kinder, kleine Kind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icke Kinder, dünne Kin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uten Tag! Guten Tag!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»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agen alle Kin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3"/>
          <a:stretch/>
        </p:blipFill>
        <p:spPr>
          <a:xfrm>
            <a:off x="7885080" y="5084640"/>
            <a:ext cx="714240" cy="79056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4"/>
          <a:stretch/>
        </p:blipFill>
        <p:spPr>
          <a:xfrm>
            <a:off x="395280" y="1413000"/>
            <a:ext cx="714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5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2484360" y="189000"/>
            <a:ext cx="547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as Abc</a:t>
            </a:r>
            <a:endParaRPr b="0" lang="en-US" sz="4800" spc="1" strike="noStrike">
              <a:ln w="12600">
                <a:solidFill>
                  <a:srgbClr val="ff00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63640" y="0"/>
            <a:ext cx="0" cy="685800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435640" y="1125360"/>
            <a:ext cx="0" cy="573264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308720" y="1125360"/>
            <a:ext cx="0" cy="573264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3634920" y="1125360"/>
            <a:ext cx="73080" cy="573264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5516640"/>
            <a:ext cx="9144000" cy="7308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68360" y="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68360" y="98100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796000" y="105264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812000" y="105264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F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124000" y="213372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796000" y="220500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J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39640" y="321300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124000" y="3213000"/>
            <a:ext cx="93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33"/>
                </a:solidFill>
                <a:latin typeface="Arial"/>
              </a:rPr>
              <a:t>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924360" y="3213000"/>
            <a:ext cx="93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Arial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667640" y="321300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68360" y="4292640"/>
            <a:ext cx="7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24000" y="4365720"/>
            <a:ext cx="10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Arial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796000" y="4365720"/>
            <a:ext cx="10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68360" y="5661000"/>
            <a:ext cx="7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33"/>
                </a:solidFill>
                <a:latin typeface="Arial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5661000"/>
            <a:ext cx="10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940360" y="5661000"/>
            <a:ext cx="10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Arial"/>
              </a:rPr>
              <a:t>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812000" y="566100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097080" cy="187344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2376720" cy="165276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960720" cy="316872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 rot="628200">
            <a:off x="684360" y="2133360"/>
            <a:ext cx="792000" cy="129672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84360" y="27082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116000" y="27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971640" y="2781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rot="20410800">
            <a:off x="900000" y="3068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55640" y="234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187280" y="2276640"/>
            <a:ext cx="2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700360" y="907920"/>
            <a:ext cx="4608360" cy="4969080"/>
          </a:xfrm>
          <a:prstGeom prst="verticalScrol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635280" y="1700280"/>
            <a:ext cx="2808360" cy="3606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Hal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Ich heiße Hex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Ich bin a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Ich komme aus Bro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4"/>
          <a:stretch/>
        </p:blipFill>
        <p:spPr>
          <a:xfrm>
            <a:off x="4572000" y="4292640"/>
            <a:ext cx="1152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59 0.14213 L 0.24844 0.50949 E">
                                      <p:cBhvr>
                                        <p:cTn id="305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75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5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5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5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25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5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5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5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500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500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500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33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69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3:51:40Z</dcterms:created>
  <dc:creator>Галина</dc:creator>
  <dc:description/>
  <dc:language>en-US</dc:language>
  <cp:lastModifiedBy>Галина</cp:lastModifiedBy>
  <dcterms:modified xsi:type="dcterms:W3CDTF">2010-02-17T16:34:49Z</dcterms:modified>
  <cp:revision>55</cp:revision>
  <dc:subject/>
  <dc:title>Слайд 1</dc:title>
</cp:coreProperties>
</file>