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E5D-4B35-4731-9DC8-E4F14065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6E3-F6CA-467F-BF99-77AAB7B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5D2-5265-49C4-B1E2-58DF7B97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714-C8D5-4FA3-BA10-7DCED777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1B61-8EEC-40C9-8E33-59F8F97E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92A2-EDB2-445F-8EDC-83C5C31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2CC5-9F4E-411F-BEF5-05994AB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0B0F-D27F-4E87-B92B-BC86DA5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A7FA-35DF-4F04-94B1-B6DA595A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782B-6F1F-4844-91A9-D6A47995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C99C-EA3E-49DD-8B23-9E26ECD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6FA-E1B4-4222-AA2E-045E5134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FB86-E725-4F5F-833D-49E420A6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0B32-6FAE-49D3-B75D-445123C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835C-5709-49D9-8D55-15EA93A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46F-29CD-4A71-B3EB-5509D66E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606E-E54F-4745-AF13-B08C08D0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619-FBAA-49F7-A795-0710235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8B7-0DF2-45A5-9127-7780FA47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F79-DD4C-4070-874E-29D5356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365-9F56-43EA-B83F-34A62465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6A0-B0F9-47F0-A19C-930D621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901-92FF-4434-A5DC-F01B225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51D-3006-4A85-9E2D-3043112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5A7B-A410-4DA9-BAFD-C46E37B6A7EB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C93-7238-4718-903F-1DD386BED401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057400"/>
            <a:ext cx="80726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Comic Sans MS"/>
              </a:rPr>
              <a:t>10 правил </a:t>
            </a:r>
            <a:br>
              <a:rPr sz="5400"/>
            </a:br>
            <a:r>
              <a:rPr b="1" lang="ru-RU" sz="5400" spc="-1" strike="noStrike">
                <a:solidFill>
                  <a:srgbClr val="404040"/>
                </a:solidFill>
                <a:latin typeface="Comic Sans MS"/>
              </a:rPr>
              <a:t>здорового образа жизни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3959280" cy="2506680"/>
          </a:xfrm>
          <a:prstGeom prst="rect">
            <a:avLst/>
          </a:prstGeom>
          <a:ln w="9360">
            <a:solidFill>
              <a:srgbClr val="c1ec76"/>
            </a:solidFill>
            <a:miter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42960" y="35712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И конечно не кури, не злоупотребляй алкоголем и другими вредными привычками. Ведь это основные факторы, ухудшающие здоровье.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2193840" y="57862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УДЬТЕ ЗДОРОВЫ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8" descr="atlet01.gif"/>
          <p:cNvPicPr/>
          <p:nvPr/>
        </p:nvPicPr>
        <p:blipFill>
          <a:blip r:embed="rId1"/>
          <a:stretch/>
        </p:blipFill>
        <p:spPr>
          <a:xfrm>
            <a:off x="3429000" y="3786120"/>
            <a:ext cx="23734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14240" y="1334880"/>
            <a:ext cx="7772400" cy="37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дь на добро отвечают добром. Оно обязательно к вам   вернется в виде хорошего самочувствия и настроения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2833560" y="714240"/>
            <a:ext cx="39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ворите добро!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c5754"/>
                </a:solidFill>
                <a:latin typeface="Comic Sans MS"/>
              </a:rPr>
              <a:t>Даже если у тебя «тройка» по физкультуре, ты любишь «чипсы» и «Кока-колу», тебе с трудом удаётся встать ранним утром и ты до поздней ночи «висишь» «в контакте», ещё не поздно начать здоровый образ жизни…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4240" y="1428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785880" y="3643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т 10 правил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торые тебе в этом помогу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Движение - жизнь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1196640"/>
            <a:ext cx="741528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райся двигаться как можно больш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йся  физической культурой, хот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 30 мин в день. А если у тебя и 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ет времени, то совершай пешие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улки зимой и больше плавай летом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Рисунок 9" descr="delf11.png"/>
          <p:cNvPicPr/>
          <p:nvPr/>
        </p:nvPicPr>
        <p:blipFill>
          <a:blip r:embed="rId1"/>
          <a:stretch/>
        </p:blipFill>
        <p:spPr>
          <a:xfrm>
            <a:off x="492912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9" name="Рисунок 10" descr="delf11.png"/>
          <p:cNvPicPr/>
          <p:nvPr/>
        </p:nvPicPr>
        <p:blipFill>
          <a:blip r:embed="rId2"/>
          <a:stretch/>
        </p:blipFill>
        <p:spPr>
          <a:xfrm>
            <a:off x="192888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14240" y="6426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Соблюдай режим дня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642960" y="1285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жись и вставай в одно и то же время. Это самый простой совет выглядеть красивым, здоровым и отдохнув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7f1f5f717d06.png"/>
          <p:cNvPicPr/>
          <p:nvPr/>
        </p:nvPicPr>
        <p:blipFill>
          <a:blip r:embed="rId1"/>
          <a:stretch/>
        </p:blipFill>
        <p:spPr>
          <a:xfrm>
            <a:off x="2571840" y="2571840"/>
            <a:ext cx="407196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85880" y="1915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Нормальный сон для человека –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7-8 часов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28760" y="1714680"/>
            <a:ext cx="84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ты спишь меньше, возникает хроническая усталость, которая приводит к снижению настроения и работоспособности. Чрезмерный сон и неактивный образ жизни приводят к понижению общего тонуса организма и увеличению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3" descr="8403610125e5.png"/>
          <p:cNvPicPr/>
          <p:nvPr/>
        </p:nvPicPr>
        <p:blipFill>
          <a:blip r:embed="rId1"/>
          <a:stretch/>
        </p:blipFill>
        <p:spPr>
          <a:xfrm>
            <a:off x="3571920" y="4286160"/>
            <a:ext cx="23637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Закаливай свой организм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57120" y="207180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ше всего помогает контрастный душ – теплая и прохладная водичка. Не только полез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и помогает прос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860ea5f4ce4a.png"/>
          <p:cNvPicPr/>
          <p:nvPr/>
        </p:nvPicPr>
        <p:blipFill>
          <a:blip r:embed="rId1"/>
          <a:stretch/>
        </p:blipFill>
        <p:spPr>
          <a:xfrm>
            <a:off x="5643720" y="1357200"/>
            <a:ext cx="29080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85840" y="11430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шь больше пищи, содержащей клетчатк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цельные зерна, и меньше – пищу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щую сахар и приготовленную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пшеничной муки. Чистая вода - источник здоровья! Старайся  пить чистую воду, зелёный чай и другие натуральные напитки. Не забывай об овощах и фруктах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2860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ы  то, что ты ешь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0" descr="7a35eabfa298.png"/>
          <p:cNvPicPr/>
          <p:nvPr/>
        </p:nvPicPr>
        <p:blipFill>
          <a:blip r:embed="rId1"/>
          <a:stretch/>
        </p:blipFill>
        <p:spPr>
          <a:xfrm>
            <a:off x="611280" y="5013360"/>
            <a:ext cx="2214360" cy="14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Рисунок 11" descr="b5b1b994db64.png"/>
          <p:cNvPicPr/>
          <p:nvPr/>
        </p:nvPicPr>
        <p:blipFill>
          <a:blip r:embed="rId2"/>
          <a:stretch/>
        </p:blipFill>
        <p:spPr>
          <a:xfrm>
            <a:off x="7596360" y="4500720"/>
            <a:ext cx="14335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5" descr="7e97d621fc1e.png"/>
          <p:cNvPicPr/>
          <p:nvPr/>
        </p:nvPicPr>
        <p:blipFill>
          <a:blip r:embed="rId1"/>
          <a:stretch/>
        </p:blipFill>
        <p:spPr>
          <a:xfrm>
            <a:off x="2928960" y="2786040"/>
            <a:ext cx="364320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7" descr="607815457.gif"/>
          <p:cNvPicPr/>
          <p:nvPr/>
        </p:nvPicPr>
        <p:blipFill>
          <a:blip r:embed="rId2"/>
          <a:stretch/>
        </p:blipFill>
        <p:spPr>
          <a:xfrm>
            <a:off x="142920" y="1785960"/>
            <a:ext cx="30718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" name=""/>
          <p:cNvSpPr txBox="1"/>
          <p:nvPr/>
        </p:nvSpPr>
        <p:spPr>
          <a:xfrm>
            <a:off x="1142640" y="64296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Почаще гуляй в парке, на свежем воздухе, подальше от автомобилей и других загрязнителей воздуха</a:t>
            </a: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Рисунок 6" descr="strek13.png"/>
          <p:cNvPicPr/>
          <p:nvPr/>
        </p:nvPicPr>
        <p:blipFill>
          <a:blip r:embed="rId3"/>
          <a:stretch/>
        </p:blipFill>
        <p:spPr>
          <a:xfrm>
            <a:off x="6000840" y="3143160"/>
            <a:ext cx="1428840" cy="6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Старайся чаще слушать любимую весёлую музыку -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642960" y="1928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лучшее 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 плохо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3" descr="16328f65414e.png"/>
          <p:cNvPicPr/>
          <p:nvPr/>
        </p:nvPicPr>
        <p:blipFill>
          <a:blip r:embed="rId1"/>
          <a:stretch/>
        </p:blipFill>
        <p:spPr>
          <a:xfrm>
            <a:off x="571680" y="1500120"/>
            <a:ext cx="1971360" cy="17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Рисунок 4" descr="d2b5d50a52c4.png"/>
          <p:cNvPicPr/>
          <p:nvPr/>
        </p:nvPicPr>
        <p:blipFill>
          <a:blip r:embed="rId2"/>
          <a:stretch/>
        </p:blipFill>
        <p:spPr>
          <a:xfrm>
            <a:off x="6786720" y="1428840"/>
            <a:ext cx="208116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Рисунок 8" descr="1c4a6049c8cb.png"/>
          <p:cNvPicPr/>
          <p:nvPr/>
        </p:nvPicPr>
        <p:blipFill>
          <a:blip r:embed="rId3"/>
          <a:stretch/>
        </p:blipFill>
        <p:spPr>
          <a:xfrm>
            <a:off x="2143080" y="2979720"/>
            <a:ext cx="4772160" cy="36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6:12Z</dcterms:created>
  <dc:creator>User</dc:creator>
  <dc:description/>
  <dc:language>en-US</dc:language>
  <cp:lastModifiedBy>Pavilion</cp:lastModifiedBy>
  <dcterms:modified xsi:type="dcterms:W3CDTF">2020-08-04T10:36:54Z</dcterms:modified>
  <cp:revision>66</cp:revision>
  <dc:subject/>
  <dc:title>Решение зада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c0000000000010250300207f7000400038000</vt:lpwstr>
  </property>
</Properties>
</file>