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10.gif" ContentType="image/gif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F0E-DF71-4719-8023-62CA2E69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3E6-36EC-4D06-BB65-2C35B992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5C6-A832-40C0-82C0-AF924E14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90B-BC08-4264-B465-C6E5B90C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2C2-4947-4F5E-AD5C-89731D6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BED-2BEE-407F-95AA-892365A9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B3E-0CA8-4C20-B9FB-0C254185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A8D-E81D-437D-B944-24C7AB05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5EA-4145-4FD8-A574-F20C1D7A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290-E619-49DA-AA9B-03911B44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FBA-2C57-4B6C-8508-CF4D28C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924-E947-4CCA-8AC5-D2BFF59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0588-6029-43B7-A32F-F11FD5214C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65360"/>
            <a:ext cx="6221520" cy="14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проведен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руглый стол»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форма организац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аторского выступл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1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300280"/>
            <a:ext cx="623232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амукова И.П.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019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324000" y="-387360"/>
            <a:ext cx="8429400" cy="222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углый стол «Морально-этические  ценности современного чело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1 кл, 03.04.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ормы проведения К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400" y="1643040"/>
            <a:ext cx="83581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бесе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ированная дискусс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у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конферен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встреч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уктура 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ановка ц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о для приветств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существующих труднос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возможнос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аргумен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едение ит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ботка рекоменд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JOSALES"/>
          <p:cNvPicPr/>
          <p:nvPr/>
        </p:nvPicPr>
        <p:blipFill>
          <a:blip r:embed="rId1"/>
          <a:stretch/>
        </p:blipFill>
        <p:spPr>
          <a:xfrm>
            <a:off x="7215120" y="3786120"/>
            <a:ext cx="151308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ства ведения дискусс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3640" y="2276640"/>
            <a:ext cx="8351640" cy="36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ка вопро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D:\doc\duc\Мои рисунки\Рисунки, анимашки\Рисунки,анимашк\анимашки1\9b68628fcdf1dcba45704937c509c566.gif"/>
          <p:cNvPicPr/>
          <p:nvPr/>
        </p:nvPicPr>
        <p:blipFill>
          <a:blip r:embed="rId1"/>
          <a:stretch/>
        </p:blipFill>
        <p:spPr>
          <a:xfrm>
            <a:off x="642960" y="4214880"/>
            <a:ext cx="2666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юансы организации "круглого стола" на уроке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000" y="692280"/>
            <a:ext cx="8496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какой последовательности давать слово участникам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ажно, чтобы принял участие каждый ученик. Слово дают поочередно всем желающим, указав, что повторов не должно быт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ругой вариант: в микрогруппах….!!!!!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к оценивать учащихся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едущему (учителю/модератору) сложно будет запомнить степень участия каждого ученика. Поэтому можно выбрать один из вариантов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редняя оценка, которая складывается из трех /нескольких: самооценки, оценки товарищей, сидящих слева и справа (по необходимост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Calibri"/>
              </a:rPr>
              <a:t>Оценки микрогруппы/группы  экспертов (жюри), которые в ходе урока будут фиксировать выступления каждого участни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54061"/>
                </a:solidFill>
                <a:latin typeface="Calibri"/>
              </a:rPr>
              <a:t>Как вариант!!!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В созданных микрогруппах выбрать  одного «человека», который также будет фиксировать степень участия каждого ученика и оценивать по заранее обговоренным критериям</a:t>
            </a:r>
            <a:r>
              <a:rPr b="1" lang="ru-RU" sz="21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4"/>
          <p:cNvSpPr/>
          <p:nvPr/>
        </p:nvSpPr>
        <p:spPr>
          <a:xfrm>
            <a:off x="611280" y="2997360"/>
            <a:ext cx="8281800" cy="180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имущества  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1280" y="1052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к в форме «Круглого стола» обладает рядом несомненных достоинств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гает обобщить изученный материал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гает осмыслить тему через призму собственного жизненного опы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ует умение вести спор, излагать свою точку зрения, приводя аргументы и доказательств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гает развивать навыки связной монологической и диалогической реч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ует навыки самостоятельной работы, а также умения работать в команде, сообщ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5" descr="bd06876_"/>
          <p:cNvPicPr/>
          <p:nvPr/>
        </p:nvPicPr>
        <p:blipFill>
          <a:blip r:embed="rId1"/>
          <a:stretch/>
        </p:blipFill>
        <p:spPr>
          <a:xfrm>
            <a:off x="6948360" y="5084640"/>
            <a:ext cx="16430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достатки  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ый и сложный этап подготовки, который требует объемной и тщательной работы не только учителя, но и уче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жность организации эффективной дискуссии, ведь важно, чтобы каждый принял участие, высказал свое мнение. При этом нужно еще подвести беседу «к общему знаменателю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к возможен в классе с высоким уровнем подготовки. Хотя отдельные элементы «круглого стола» можно вводить в систему уроков постепен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ритарный сти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bd06876_"/>
          <p:cNvPicPr/>
          <p:nvPr/>
        </p:nvPicPr>
        <p:blipFill>
          <a:blip r:embed="rId1"/>
          <a:stretch/>
        </p:blipFill>
        <p:spPr>
          <a:xfrm>
            <a:off x="6443640" y="4869000"/>
            <a:ext cx="2371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1268280"/>
            <a:ext cx="8043840" cy="38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руглый ст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временная форма публичного обсуждения или освещения каких- либо вопросов, когда участники, имеющие равные права, высказываются по очереди или в определенном поряд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а работы с аудиторией, как правило, имеющей опыт практической деятельности в области обсуждаемого вопрос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D:\doc\duc\Мои рисунки\Рисунки, анимашки\Рисунки,анимашк\Материал\bisfm028.gif"/>
          <p:cNvPicPr/>
          <p:nvPr/>
        </p:nvPicPr>
        <p:blipFill>
          <a:blip r:embed="rId1"/>
          <a:stretch/>
        </p:blipFill>
        <p:spPr>
          <a:xfrm>
            <a:off x="3564000" y="5013360"/>
            <a:ext cx="2124000" cy="150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арактерис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одятся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 форме обсужде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дного или нескольких определенных вопросов или пробл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ждаемый вопрос допускает разные мнения и толкования, а также взаимные возражения участ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суждения должны быть выявлены точки зрения всех участников на данный вопро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ники имеют равные права и высказывания в определенном поря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круглого ст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12500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ть спектр мнений по поставленной проблем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дить с позиции разных точек зрения неясные или спорные моменты, связанные с обозначенной проблемат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PE01676_"/>
          <p:cNvPicPr/>
          <p:nvPr/>
        </p:nvPicPr>
        <p:blipFill>
          <a:blip r:embed="rId1"/>
          <a:stretch/>
        </p:blipFill>
        <p:spPr>
          <a:xfrm>
            <a:off x="3214800" y="4286160"/>
            <a:ext cx="3132000" cy="240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гламентация деятель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6920" y="1557000"/>
            <a:ext cx="8143920" cy="41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проведения «круглого стола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олжно превышать 2 час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личество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олжно быть очень больш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едует предусмотреть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в распоряжении участников были необходимые канцелярские принадлежности, общение было удобным, выступающие имели возможность наглядно продемонстрировать различный материа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выступления и порядо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 обговорить с участниками заране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дущему необходим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ть очень внимательным, чтобы дать высказаться всем участникам и соблюсти регламен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ы, предлагаемые для обсуждения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жны быть заранее подготовлены и известны участник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j0335276"/>
          <p:cNvPicPr/>
          <p:nvPr/>
        </p:nvPicPr>
        <p:blipFill>
          <a:blip r:embed="rId1"/>
          <a:stretch/>
        </p:blipFill>
        <p:spPr>
          <a:xfrm>
            <a:off x="395280" y="54936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ль ведущего (модерат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Новый рисуно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429680" y="3429000"/>
            <a:ext cx="1428480" cy="25718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611280" y="1844640"/>
            <a:ext cx="678168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, владею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емого вопро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ующий и направляющий обсу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ющий комментарии и пояс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лан действий ведущего (модератор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вместно с рабочей групп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 подготовке «круглого сто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отать, описать, обосновать выбор темы для обсуж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обрать теоретический и справочный материал как пособие при подготовке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(каждый участник КС должен получить ориентировочный план обсуждения или заявленные заранее темы + обозначение ролей: оппонент, пропонент, аналитик, «третейский судья»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j0284135"/>
          <p:cNvPicPr/>
          <p:nvPr/>
        </p:nvPicPr>
        <p:blipFill>
          <a:blip r:embed="rId1"/>
          <a:stretch/>
        </p:blipFill>
        <p:spPr>
          <a:xfrm>
            <a:off x="4071960" y="50720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«круглых стол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ебные круглые стол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блем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стемн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C:\Program Files\Microsoft Office\Clipart\standard\stddir4\pe02664_.wmf"/>
          <p:cNvPicPr/>
          <p:nvPr/>
        </p:nvPicPr>
        <p:blipFill>
          <a:blip r:embed="rId1"/>
          <a:stretch/>
        </p:blipFill>
        <p:spPr>
          <a:xfrm>
            <a:off x="6000840" y="3286080"/>
            <a:ext cx="2814480" cy="1616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pe01038_"/>
          <p:cNvPicPr/>
          <p:nvPr/>
        </p:nvPicPr>
        <p:blipFill>
          <a:blip r:embed="rId2"/>
          <a:stretch/>
        </p:blipFill>
        <p:spPr>
          <a:xfrm>
            <a:off x="642960" y="2928960"/>
            <a:ext cx="207180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ы круглого сто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400" y="1856880"/>
            <a:ext cx="8258040" cy="40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ивна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ссивна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D:\doc\duc\Мои рисунки\Рисунки, анимашки\Рисунки,анимашк\Материал\voprosy.gif"/>
          <p:cNvPicPr/>
          <p:nvPr/>
        </p:nvPicPr>
        <p:blipFill>
          <a:blip r:embed="rId1"/>
          <a:stretch/>
        </p:blipFill>
        <p:spPr>
          <a:xfrm>
            <a:off x="6429240" y="3643200"/>
            <a:ext cx="1771920" cy="1776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D:\doc\duc\Мои рисунки\Рисунки, анимашки\Рисунки,анимашк\Анимация1\human164.gif"/>
          <p:cNvPicPr/>
          <p:nvPr/>
        </p:nvPicPr>
        <p:blipFill>
          <a:blip r:embed="rId2"/>
          <a:stretch/>
        </p:blipFill>
        <p:spPr>
          <a:xfrm>
            <a:off x="1357200" y="3714840"/>
            <a:ext cx="1386000" cy="1695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3:04:39Z</dcterms:created>
  <dc:creator>Name</dc:creator>
  <dc:description/>
  <dc:language>en-US</dc:language>
  <cp:lastModifiedBy>Ирина Самукова</cp:lastModifiedBy>
  <dcterms:modified xsi:type="dcterms:W3CDTF">2020-08-04T10:52:05Z</dcterms:modified>
  <cp:revision>158</cp:revision>
  <dc:subject/>
  <dc:title>Тема исследования:  ОРГАНИЗАЦИОННО-ПЕДАГОГИЧЕСКИЕ УСЛОВИЯ СОВЕРШЕНСТВОВАНИЯ ВНУТРЕННЕЙ ЭКСПЕРТИЗЫ  В ОБЩЕОБРАЗОВАТЕЛЬНОМ УЧРЕЖДЕНИИ</dc:title>
</cp:coreProperties>
</file>