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81DBC-6EBD-47E6-A0DC-58A5B1110C9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E5CAC-3F53-4CD7-B65B-A9903F578CC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A499-5BC3-46C0-B028-28508AD00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406D-93AB-44FC-B48F-137F44195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14F1-59AE-4824-8F12-293FFA37D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24CA-FD42-4217-8333-DCF3516F6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4BBB-7202-46A5-91AB-A4D7E34A4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DF6F-3034-4E5E-8508-2D27B44B6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090D-8744-4E06-802F-896794F1E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9DB6-0ED3-4D08-A776-87EEFFA54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E8BC-8076-4492-A58A-1C7B4540F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84E9-7530-443D-871F-5C184261F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1E92-A260-4C4B-9B53-AD76129A5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5ED4-34C1-429A-9152-1AB5D8858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33864-24FF-406D-A6F7-A8A6397EF9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images.yandex.ru/yandsearch?p=1&amp;text=&#1085;&#1077;&#1079;&#1072;&#1073;&#1091;&#1076;&#1082;&#1072;%20&#1083;&#1091;&#1075;&#1086;&#1074;&#1072;&#1103;&amp;noreask=1&amp;img_url=img1.liveinternet.ru/images/attach/c/2/71/877/71877954_1299827786_NEZABUDKI.jpg&amp;pos=41&amp;rpt=simage&amp;lr=65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1&amp;text=&#1085;&#1077;&#1079;&#1072;&#1073;&#1091;&#1076;&#1082;&#1072;%20&#1083;&#1091;&#1075;&#1086;&#1074;&#1072;&#1103;&amp;noreask=1&amp;img_url=img1.liveinternet.ru/images/attach/c/2/71/877/71877954_1299827786_NEZABUDKI.jpg&amp;pos=41&amp;rpt=simage&amp;lr=65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Администратор\Pictures\незабудка\1287295278_p.jpg"/>
          <p:cNvPicPr/>
          <p:nvPr/>
        </p:nvPicPr>
        <p:blipFill>
          <a:blip r:embed="rId1"/>
          <a:stretch/>
        </p:blipFill>
        <p:spPr>
          <a:xfrm>
            <a:off x="-973080" y="0"/>
            <a:ext cx="101170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7280" y="260280"/>
            <a:ext cx="4752720" cy="33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ce6f2"/>
                </a:solidFill>
                <a:latin typeface="Arial Narrow"/>
              </a:rPr>
              <a:t>Иль серьёзно, или в шутку, </a:t>
            </a:r>
            <a:br>
              <a:rPr sz="2400"/>
            </a:br>
            <a:r>
              <a:rPr b="1" i="1" lang="en-US" sz="2400" spc="-1" strike="noStrike">
                <a:solidFill>
                  <a:srgbClr val="dce6f2"/>
                </a:solidFill>
                <a:latin typeface="Arial Narrow"/>
              </a:rPr>
              <a:t>Кто ж его назвать так смог? </a:t>
            </a:r>
            <a:br>
              <a:rPr sz="2400"/>
            </a:br>
            <a:r>
              <a:rPr b="1" i="1" lang="en-US" sz="2400" spc="-1" strike="noStrike">
                <a:solidFill>
                  <a:srgbClr val="dce6f2"/>
                </a:solidFill>
                <a:latin typeface="Arial Narrow"/>
              </a:rPr>
              <a:t>Незабудкой. Незабудкой. </a:t>
            </a:r>
            <a:br>
              <a:rPr sz="2400"/>
            </a:br>
            <a:r>
              <a:rPr b="1" i="1" lang="en-US" sz="2400" spc="-1" strike="noStrike">
                <a:solidFill>
                  <a:srgbClr val="dce6f2"/>
                </a:solidFill>
                <a:latin typeface="Arial Narrow"/>
              </a:rPr>
              <a:t>Тот голубенький цвето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900" spc="-1" strike="noStrike">
                <a:solidFill>
                  <a:srgbClr val="10253f"/>
                </a:solidFill>
                <a:latin typeface="Calibri"/>
              </a:rPr>
              <a:t>НЕЗАБУДКА</a:t>
            </a: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C:\Users\Администратор\Pictures\незабудка\1264876847_0lik_ru_926fb7e7a70e.jpg"/>
          <p:cNvPicPr/>
          <p:nvPr/>
        </p:nvPicPr>
        <p:blipFill>
          <a:blip r:embed="rId1"/>
          <a:stretch/>
        </p:blipFill>
        <p:spPr>
          <a:xfrm>
            <a:off x="-3967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940000" y="4220640"/>
            <a:ext cx="259236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0253f"/>
                </a:solidFill>
                <a:latin typeface="Calibri"/>
              </a:rPr>
              <a:t>Легенд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332000" y="620280"/>
            <a:ext cx="396072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дна легенда о незабудке гласит о том, что богиня Флора, раздавая имена разным растениям, обошла вниманием скромный голубой цветок, уже уходя, она услышала,  как этот цветок тихо произнес "Не забудь обо мне!" Флора разглядела и нарекла незабудкой, подарив способность навевать людям воспомина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огласно другому варианту, цветок, которому забыли дать имя, пришел к Богу и попросил дать ему название. "Я тебя не забуду, не забудь и ты меня. Отныне твое имя будет незабудка"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http://im4-tub-ru.yandex.net/i?id=368516985-28-72&amp;n=2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-507960" y="0"/>
            <a:ext cx="104886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4"/>
          <p:cNvSpPr/>
          <p:nvPr/>
        </p:nvSpPr>
        <p:spPr>
          <a:xfrm>
            <a:off x="1619280" y="260280"/>
            <a:ext cx="59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Немного о цветке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5"/>
          <p:cNvSpPr/>
          <p:nvPr/>
        </p:nvSpPr>
        <p:spPr>
          <a:xfrm>
            <a:off x="179280" y="1125360"/>
            <a:ext cx="896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забудка — одно-, дву- и многолетние растения сем. Бурачниковые. Стебли ветвистые 10-40 см высотой. Листья сидячие, ланцетные, линейно-ланцетные или лопатчатые. Цветки обычно голубые с желтым глазком, иногда розовые или белые, собраны в соцветие — завиток. Цветет с мая до середины июня. Плод — орешек. Незабудки растут на лугах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254061"/>
                </a:solidFill>
                <a:latin typeface="Calibri"/>
              </a:rPr>
              <a:t>Ухо мыш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езабудка – род растений из семейства Бурачниковые. Название цветка составлено из двух греческих слов: «myos» (что значит мышь) и «ous» (то есть ухо).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Буквально – ухо мыши.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звано так, вероятно, потому, что густо опушенные короткими волосками листья некоторых видов рода действительно напоминают ушки мышей. В России незабудку еще называют горлянкой, лихорадочной травой или пригожницей. Известно, что в фольклоре разных народов мира отображены легенды об этом цветке, но почему-то все они непременно связаны с понятием о верности и доброй памя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3" descr="C:\Users\Администратор\Pictures\незабудка\mysh.jpg"/>
          <p:cNvPicPr/>
          <p:nvPr/>
        </p:nvPicPr>
        <p:blipFill>
          <a:blip r:embed="rId1"/>
          <a:stretch/>
        </p:blipFill>
        <p:spPr>
          <a:xfrm>
            <a:off x="0" y="4005360"/>
            <a:ext cx="2643120" cy="2852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C:\Users\Администратор\Pictures\незабудка\cvetok-nezabudka.jpg"/>
          <p:cNvPicPr/>
          <p:nvPr/>
        </p:nvPicPr>
        <p:blipFill>
          <a:blip r:embed="rId2"/>
          <a:stretch/>
        </p:blipFill>
        <p:spPr>
          <a:xfrm>
            <a:off x="2627280" y="4005360"/>
            <a:ext cx="3024360" cy="2852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C:\Users\Администратор\Pictures\незабудка\x_329b2aa9.jpg"/>
          <p:cNvPicPr/>
          <p:nvPr/>
        </p:nvPicPr>
        <p:blipFill>
          <a:blip r:embed="rId3"/>
          <a:stretch/>
        </p:blipFill>
        <p:spPr>
          <a:xfrm>
            <a:off x="5651640" y="4005360"/>
            <a:ext cx="349236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C:\Users\Администратор\Pictures\незабудка\37765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Загадочный цветок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исатели, поэты восхищались этим цветком. Один из них писал:</a:t>
            </a: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«Незабудка весь мир в себе держит: в самой середке желтые тычинки — солнце, а вокруг голубые лепестки — небо. Вселенная, а уместилась на человеческой ладони. Мы рвемся во Вселенную, мучительно ищем с нею связь, а она на земле, совсем рядом, только протяни руку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C:\Users\Администратор\Pictures\незабудка\0_44576_da68ab82_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Другие миф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4000" y="1600200"/>
            <a:ext cx="80024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Calibri"/>
              </a:rPr>
              <a:t>В Германии раньше верили, что незабудки помогают обнаруживать клад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Calibri"/>
              </a:rPr>
              <a:t>В Англии дарили венок из </a:t>
            </a:r>
            <a:r>
              <a:rPr b="1" lang="en-US" sz="2400" spc="-1" strike="noStrike">
                <a:solidFill>
                  <a:srgbClr val="0d0d0d"/>
                </a:solidFill>
                <a:latin typeface="Calibri"/>
              </a:rPr>
              <a:t>незабудок Весенней </a:t>
            </a:r>
            <a:r>
              <a:rPr b="1" lang="en-US" sz="2400" spc="-1" strike="noStrike">
                <a:solidFill>
                  <a:srgbClr val="f2f2f2"/>
                </a:solidFill>
                <a:latin typeface="Calibri"/>
              </a:rPr>
              <a:t>королеве,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которую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2f2f2"/>
                </a:solidFill>
                <a:latin typeface="Calibri"/>
              </a:rPr>
              <a:t>выбирали из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самых красивых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девушек, а </a:t>
            </a:r>
            <a:r>
              <a:rPr b="1" lang="en-US" sz="2400" spc="-1" strike="noStrike">
                <a:solidFill>
                  <a:srgbClr val="f2f2f2"/>
                </a:solidFill>
                <a:latin typeface="Calibri"/>
              </a:rPr>
              <a:t>незабудки, выросшие </a:t>
            </a:r>
            <a:r>
              <a:rPr b="1" lang="en-US" sz="2400" spc="-1" strike="noStrike">
                <a:solidFill>
                  <a:srgbClr val="0d0d0d"/>
                </a:solidFill>
                <a:latin typeface="Calibri"/>
              </a:rPr>
              <a:t>на кладбище,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расценивали как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послание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умерших предков </a:t>
            </a:r>
            <a:r>
              <a:rPr b="1" lang="en-US" sz="2400" spc="-1" strike="noStrike">
                <a:solidFill>
                  <a:srgbClr val="0d0d0d"/>
                </a:solidFill>
                <a:latin typeface="Calibri"/>
              </a:rPr>
              <a:t>с их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напоминанием о себ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Во Франции незабудки дарили на память и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сохраняли как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реликвию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В Голландии из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сока незабудки готовили сироп против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кашля. А древние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кузнецы в соке ее закаливали клинки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которые не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уступали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по своей прочности никакой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другой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стали и в то же время были легки и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гибк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8e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84000" y="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ВИДЫ НЕЗАБУДО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 rot="10800000">
            <a:off x="10001160" y="4000680"/>
            <a:ext cx="21456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b">
            <a:normAutofit/>
          </a:bodyPr>
          <a:p>
            <a:pPr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898989"/>
                </a:solidFill>
                <a:latin typeface="Calibri"/>
              </a:rPr>
              <a:t>Незабудка альпийская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C:\Users\Молния\Pictures\2012-10-13\lawn_Myosotis_alpestris_a1.jpg"/>
          <p:cNvPicPr/>
          <p:nvPr/>
        </p:nvPicPr>
        <p:blipFill>
          <a:blip r:embed="rId1"/>
          <a:stretch/>
        </p:blipFill>
        <p:spPr>
          <a:xfrm>
            <a:off x="611280" y="1341360"/>
            <a:ext cx="2928960" cy="221472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13"/>
          <p:cNvSpPr/>
          <p:nvPr/>
        </p:nvSpPr>
        <p:spPr>
          <a:xfrm>
            <a:off x="4236840" y="785880"/>
            <a:ext cx="4964400" cy="4597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3a2c7"/>
                </a:solidFill>
                <a:latin typeface="Arial"/>
              </a:rPr>
              <a:t>Незабудка альпийская садо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9" descr="C:\Users\Молния\Pictures\2012-10-13\lawn_Myosotis_victoria.jpg"/>
          <p:cNvPicPr/>
          <p:nvPr/>
        </p:nvPicPr>
        <p:blipFill>
          <a:blip r:embed="rId2"/>
          <a:stretch/>
        </p:blipFill>
        <p:spPr>
          <a:xfrm>
            <a:off x="5072040" y="1285920"/>
            <a:ext cx="3571920" cy="242892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18"/>
          <p:cNvSpPr/>
          <p:nvPr/>
        </p:nvSpPr>
        <p:spPr>
          <a:xfrm>
            <a:off x="500040" y="3786120"/>
            <a:ext cx="364320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3152"/>
                </a:solidFill>
                <a:latin typeface="Arial"/>
              </a:rPr>
              <a:t>Незабудка болот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1" descr="C:\Users\Молния\Pictures\2012-10-13\Myosotis_palustris.jpg"/>
          <p:cNvPicPr/>
          <p:nvPr/>
        </p:nvPicPr>
        <p:blipFill>
          <a:blip r:embed="rId4"/>
          <a:stretch/>
        </p:blipFill>
        <p:spPr>
          <a:xfrm>
            <a:off x="428760" y="4429080"/>
            <a:ext cx="3357360" cy="242892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23"/>
          <p:cNvSpPr/>
          <p:nvPr/>
        </p:nvSpPr>
        <p:spPr>
          <a:xfrm>
            <a:off x="5357880" y="3786120"/>
            <a:ext cx="3143160" cy="459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Незабудка лес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2" descr="C:\Users\Молния\Pictures\2012-10-13\lawn_sylvatica.jpg"/>
          <p:cNvPicPr/>
          <p:nvPr/>
        </p:nvPicPr>
        <p:blipFill>
          <a:blip r:embed="rId6"/>
          <a:stretch/>
        </p:blipFill>
        <p:spPr>
          <a:xfrm>
            <a:off x="4929120" y="4286160"/>
            <a:ext cx="3849840" cy="257184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26"/>
          <p:cNvSpPr/>
          <p:nvPr/>
        </p:nvSpPr>
        <p:spPr>
          <a:xfrm>
            <a:off x="312480" y="765000"/>
            <a:ext cx="3626640" cy="459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6c0a"/>
                </a:solidFill>
                <a:latin typeface="Arial"/>
              </a:rPr>
              <a:t>Незабудка альпий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8e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715680" y="-1641240"/>
            <a:ext cx="658800" cy="61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215720" y="2785680"/>
            <a:ext cx="37296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3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9" name="Picture 2" descr="http://im4-tub-ru.yandex.net/i?id=368516985-28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4960" y="714240"/>
            <a:ext cx="3714840" cy="2428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http://content.foto.mail.ru/mail/kareglazka_liana/_answers/i-6140.jpg"/>
          <p:cNvPicPr/>
          <p:nvPr/>
        </p:nvPicPr>
        <p:blipFill>
          <a:blip r:embed="rId3"/>
          <a:stretch/>
        </p:blipFill>
        <p:spPr>
          <a:xfrm>
            <a:off x="714240" y="3000240"/>
            <a:ext cx="4772160" cy="38577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http://im0-tub-ru.yandex.net/i?id=508719679-02-72&amp;n=21"/>
          <p:cNvPicPr/>
          <p:nvPr/>
        </p:nvPicPr>
        <p:blipFill>
          <a:blip r:embed="rId4"/>
          <a:stretch/>
        </p:blipFill>
        <p:spPr>
          <a:xfrm>
            <a:off x="214200" y="428760"/>
            <a:ext cx="4000680" cy="2428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http://im7-tub-ru.yandex.net/i?id=582906475-06-72&amp;n=21"/>
          <p:cNvPicPr/>
          <p:nvPr/>
        </p:nvPicPr>
        <p:blipFill>
          <a:blip r:embed="rId5"/>
          <a:stretch/>
        </p:blipFill>
        <p:spPr>
          <a:xfrm>
            <a:off x="5429160" y="3571920"/>
            <a:ext cx="3714840" cy="242892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C:\Users\Администратор\Pictures\незабудка\6742890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37890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Calibri"/>
              </a:rPr>
              <a:t>СПАСИБО ЗА ВНИМАНИЕ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6T18:43:33Z</dcterms:created>
  <dc:creator>BEST</dc:creator>
  <dc:description/>
  <dc:language>en-US</dc:language>
  <cp:lastModifiedBy>TopHits™</cp:lastModifiedBy>
  <dcterms:modified xsi:type="dcterms:W3CDTF">2017-02-23T09:13:37Z</dcterms:modified>
  <cp:revision>17</cp:revision>
  <dc:subject/>
  <dc:title>Слайд 1</dc:title>
</cp:coreProperties>
</file>