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0.gif" ContentType="image/gif"/>
  <Override PartName="/ppt/media/image15.gif" ContentType="image/gif"/>
  <Override PartName="/ppt/media/image5.png" ContentType="image/png"/>
  <Override PartName="/ppt/media/image2.gif" ContentType="image/gif"/>
  <Override PartName="/ppt/media/image14.wmf" ContentType="image/x-wmf"/>
  <Override PartName="/ppt/media/image3.gif" ContentType="image/gif"/>
  <Override PartName="/ppt/media/image11.png" ContentType="image/png"/>
  <Override PartName="/ppt/media/image6.wmf" ContentType="image/x-wmf"/>
  <Override PartName="/ppt/media/image1.jpeg" ContentType="image/jpeg"/>
  <Override PartName="/ppt/media/image7.png" ContentType="image/png"/>
  <Override PartName="/ppt/media/image12.png" ContentType="image/png"/>
  <Override PartName="/ppt/media/image4.png" ContentType="image/png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BE52-8673-4EEF-AE9F-62FC34A6E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885F-EE7E-4B35-8C03-6C799F28C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8477-4EA1-4F1F-9FBF-3692985AB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C85A-AC23-45AA-925A-5CAF8689A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F52A-E212-478A-9ADE-B02CF1886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25EC-B2B9-468E-96B3-F3B75FBBD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EF2A-5A15-49F1-8B0C-8B466E6C6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C10B-76C7-4F85-962D-7EC33B4DE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EEA2-C8B1-4C8B-A32F-97BE45796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E8A9-6C14-4D1C-A32A-E0E4376C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0101-2AFE-44C1-B81F-E16E5F85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5492-7626-4C7D-8C30-C43007A8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bbe0e3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A6A48-0388-4341-A3B9-C2D6CCB6AA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slide52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салтыков"/>
          <p:cNvPicPr/>
          <p:nvPr/>
        </p:nvPicPr>
        <p:blipFill>
          <a:blip r:embed="rId1"/>
          <a:srcRect l="0" t="3522" r="7143" b="3522"/>
          <a:stretch/>
        </p:blipFill>
        <p:spPr>
          <a:xfrm>
            <a:off x="684360" y="620640"/>
            <a:ext cx="3095640" cy="381636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9840" y="1628640"/>
            <a:ext cx="7634160" cy="46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       </a:t>
            </a: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Кто знает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      сказки</a:t>
            </a:r>
            <a:br>
              <a:rPr sz="5400"/>
            </a:br>
            <a:br>
              <a:rPr sz="5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алтыкова-Щедрина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ем этот мужик работал в Петербург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55640" y="1989000"/>
            <a:ext cx="569916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А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Пова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Кузнец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Маляр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Извозчик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8390880" y="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50/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5" dur="2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ем этот мужик работал в Петербург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700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В.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Кузнецо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С.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Маляро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2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21844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ем в своей жизни был очень недоволен герой сказки «Дикий помещик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84360" y="233208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А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Маленькой пенси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Обилием муж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Отсутствием же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Отсутствием де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8390880" y="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0/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8" dur="2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ем в своей жизни был очень недоволен герой сказки «Дикий помещик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050920" y="306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В.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Обилием мужи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С.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Отсутствием же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4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ого звал помещик в гост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155760" y="1557360"/>
            <a:ext cx="598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А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Медвед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Губернат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Генералов-сосе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Судь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матрос"/>
          <p:cNvPicPr/>
          <p:nvPr/>
        </p:nvPicPr>
        <p:blipFill>
          <a:blip r:embed="rId1"/>
          <a:stretch/>
        </p:blipFill>
        <p:spPr>
          <a:xfrm>
            <a:off x="324000" y="2060640"/>
            <a:ext cx="2447640" cy="3456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9"/>
          <p:cNvSpPr/>
          <p:nvPr/>
        </p:nvSpPr>
        <p:spPr>
          <a:xfrm>
            <a:off x="8390880" y="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0/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1" dur="2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ого звал помещик в гост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9080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С.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Генералов-сосед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Судью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7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ой способ прогулки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мещик «считал самым приличным и удобным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68000" y="2332080"/>
            <a:ext cx="61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А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На четверень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В каре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Верхом на лоша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В телег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8390880" y="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0/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ой способ прогулки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мещик «считал самым приличным и удобным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411280" y="292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А.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На четвереньк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В.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В каре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0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каком виде два генерала прибыли на остров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979280" y="2060640"/>
            <a:ext cx="62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А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В мундир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В ночных рубаш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В шубах и вален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Раздет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сканирование004"/>
          <p:cNvPicPr/>
          <p:nvPr/>
        </p:nvPicPr>
        <p:blipFill>
          <a:blip r:embed="rId1"/>
          <a:srcRect l="4192" t="3240" r="4915" b="4230"/>
          <a:stretch/>
        </p:blipFill>
        <p:spPr>
          <a:xfrm>
            <a:off x="6659640" y="2421000"/>
            <a:ext cx="2089080" cy="295272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90" name="Rectangle 8"/>
          <p:cNvSpPr/>
          <p:nvPr/>
        </p:nvSpPr>
        <p:spPr>
          <a:xfrm>
            <a:off x="8390880" y="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0/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7" dur="2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каком виде два генерала прибыли на остров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05092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А.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В мундир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В.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В ночных рубашк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3" dur="2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А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В результате кораблекру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По щучьему велению, по моему хот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С помощью волшеб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Прилетели на ковре-самолё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179280" y="333360"/>
            <a:ext cx="8675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 два генерала оказались на необитаемом острове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джин"/>
          <p:cNvPicPr/>
          <p:nvPr/>
        </p:nvPicPr>
        <p:blipFill>
          <a:blip r:embed="rId1"/>
          <a:stretch/>
        </p:blipFill>
        <p:spPr>
          <a:xfrm>
            <a:off x="7093080" y="4076640"/>
            <a:ext cx="1506240" cy="19432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8">
            <a:hlinkClick r:id="rId2" action="ppaction://hlinksldjump"/>
          </p:cNvPr>
          <p:cNvSpPr/>
          <p:nvPr/>
        </p:nvSpPr>
        <p:spPr>
          <a:xfrm>
            <a:off x="8198640" y="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50/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" dur="2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ой предмет проглотил из генералов за неимением ужин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771280" y="1988640"/>
            <a:ext cx="34578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А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Пуговиц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Орде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Тапоч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Плат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печать"/>
          <p:cNvPicPr/>
          <p:nvPr/>
        </p:nvPicPr>
        <p:blipFill>
          <a:blip r:embed="rId1"/>
          <a:stretch/>
        </p:blipFill>
        <p:spPr>
          <a:xfrm>
            <a:off x="6732720" y="2565360"/>
            <a:ext cx="1966680" cy="24130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8"/>
          <p:cNvSpPr/>
          <p:nvPr/>
        </p:nvSpPr>
        <p:spPr>
          <a:xfrm>
            <a:off x="8390880" y="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0/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0" dur="2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ой предмет проглотил из генералов за неимением ужин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43280" y="270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В.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Орде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С.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Тапочк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6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ой выход придумали генералы, чтобы с голоду не умерет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А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Всё время сп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Научиться работ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Найти муж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Поймать звер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9" descr="сканирование002"/>
          <p:cNvPicPr/>
          <p:nvPr/>
        </p:nvPicPr>
        <p:blipFill>
          <a:blip r:embed="rId1"/>
          <a:stretch/>
        </p:blipFill>
        <p:spPr>
          <a:xfrm>
            <a:off x="5724360" y="2349360"/>
            <a:ext cx="2729160" cy="377532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102" name="Rectangle 10"/>
          <p:cNvSpPr/>
          <p:nvPr/>
        </p:nvSpPr>
        <p:spPr>
          <a:xfrm>
            <a:off x="8390880" y="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0/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8" dur="2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ой выход придумали генералы, чтобы с голоду не умерет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484360" y="314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Найти муж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Поймать звер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4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з чего мужик сделал силки для птиц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7964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А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Из собственных вол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Из собственной рубах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Из собственных лап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Из лес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бегун"/>
          <p:cNvPicPr/>
          <p:nvPr/>
        </p:nvPicPr>
        <p:blipFill>
          <a:blip r:embed="rId1"/>
          <a:stretch/>
        </p:blipFill>
        <p:spPr>
          <a:xfrm>
            <a:off x="6732720" y="4653000"/>
            <a:ext cx="2030400" cy="22050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8390880" y="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0/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1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525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з чего мужик сделал силки для птиц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835280" y="2565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А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Из собственных вол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Из собственной рубах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1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 генералы вернулись домо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А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Заснули и проснулись до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Так же как и попали на ост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Их спасли случай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Мужик построил кораб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8390880" y="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0/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8" dur="2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 генералы вернулись домо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76360" y="263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Их спасли случай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Мужик построил кораб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4" dur="2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 кем помещик охотился на зайцев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34000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А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С вол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С медвед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С лис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С каба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заяу"/>
          <p:cNvPicPr/>
          <p:nvPr/>
        </p:nvPicPr>
        <p:blipFill>
          <a:blip r:embed="rId1"/>
          <a:stretch/>
        </p:blipFill>
        <p:spPr>
          <a:xfrm>
            <a:off x="7308720" y="4941720"/>
            <a:ext cx="1285920" cy="122904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5"/>
          <p:cNvSpPr/>
          <p:nvPr/>
        </p:nvSpPr>
        <p:spPr>
          <a:xfrm>
            <a:off x="8390880" y="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0/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1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 кем помещик охотился на зайцев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195640" y="28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С медвед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С лис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7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 два генерала оказались на необитаемом острове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По щучьему велению, по моему хот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С помощью волшеб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ем дикий помещик угощал всех госте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А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Колбас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Пряни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Варень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Ягодами и гриб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грибок"/>
          <p:cNvPicPr/>
          <p:nvPr/>
        </p:nvPicPr>
        <p:blipFill>
          <a:blip r:embed="rId1"/>
          <a:stretch/>
        </p:blipFill>
        <p:spPr>
          <a:xfrm>
            <a:off x="7020000" y="4149720"/>
            <a:ext cx="1751040" cy="234936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6"/>
          <p:cNvSpPr/>
          <p:nvPr/>
        </p:nvSpPr>
        <p:spPr>
          <a:xfrm>
            <a:off x="8390880" y="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0/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4" dur="2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ем дикий помещик угощал всех госте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700360" y="270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Пряни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Варень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0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чему осенью помещик даже холода не чувствова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А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Надел тулу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Сидел на пе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Оброс волос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Беспробудно п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сканирование002"/>
          <p:cNvPicPr/>
          <p:nvPr/>
        </p:nvPicPr>
        <p:blipFill>
          <a:blip r:embed="rId1"/>
          <a:srcRect l="3840" t="0" r="3084" b="4573"/>
          <a:stretch/>
        </p:blipFill>
        <p:spPr>
          <a:xfrm>
            <a:off x="6300720" y="2349360"/>
            <a:ext cx="2376720" cy="280836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131" name="Rectangle 5"/>
          <p:cNvSpPr/>
          <p:nvPr/>
        </p:nvSpPr>
        <p:spPr>
          <a:xfrm>
            <a:off x="8390880" y="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0/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2" dur="2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чему осенью помещик даже холода не чувствова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24000" y="292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Сидел на пе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Оброс волос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8" dur="2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то побеспокоился о том, чтобы вернуть мужика к помещик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А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Губернское началь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Сам помещ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Сосе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Цар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сканирование003"/>
          <p:cNvPicPr/>
          <p:nvPr/>
        </p:nvPicPr>
        <p:blipFill>
          <a:blip r:embed="rId1"/>
          <a:srcRect l="8070" t="4425" r="3461" b="8370"/>
          <a:stretch/>
        </p:blipFill>
        <p:spPr>
          <a:xfrm>
            <a:off x="5796000" y="3068640"/>
            <a:ext cx="2808360" cy="338472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137" name="Rectangle 5"/>
          <p:cNvSpPr/>
          <p:nvPr/>
        </p:nvSpPr>
        <p:spPr>
          <a:xfrm>
            <a:off x="8390880" y="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0/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0" dur="2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то побеспокоился о том, чтобы вернуть мужика к помещик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411280" y="292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А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Губернское началь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Сам помещ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6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 какой улице в Петербурге жили два генерал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05092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А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На Подьячес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На Фонтан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На Литей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На Невс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8390880" y="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0/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3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 какой улице в Петербурге жили два генерал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9080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А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На Подьячес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На Фонтан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9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ой из двух генералов был поумне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А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Тот, кто был учителем каллигра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от, кто был учителем геогра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Тот, кто был учителем лог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Тот, кто вообще не был учите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8390880" y="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0/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6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ой из двух генералов был поумне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А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Тот, кто был учителем каллигра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от, кто был учителем геогра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2" dur="2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чём мужик варил суп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340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А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В котел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В пригорш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В кокосовой скорлуп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В ча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дядька"/>
          <p:cNvPicPr/>
          <p:nvPr/>
        </p:nvPicPr>
        <p:blipFill>
          <a:blip r:embed="rId1"/>
          <a:stretch/>
        </p:blipFill>
        <p:spPr>
          <a:xfrm>
            <a:off x="250920" y="1197000"/>
            <a:ext cx="1014480" cy="15368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8"/>
          <p:cNvSpPr/>
          <p:nvPr/>
        </p:nvSpPr>
        <p:spPr>
          <a:xfrm>
            <a:off x="8198640" y="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50/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" dur="2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мальчик с удочкой"/>
          <p:cNvPicPr/>
          <p:nvPr/>
        </p:nvPicPr>
        <p:blipFill>
          <a:blip r:embed="rId1"/>
          <a:stretch/>
        </p:blipFill>
        <p:spPr>
          <a:xfrm>
            <a:off x="324000" y="2276640"/>
            <a:ext cx="3095640" cy="33843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то сделали в городе Вятке с пойманной рыбой, прежде чем варить ух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51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А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Высек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Напо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Откорм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Отпустили попла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8390880" y="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0/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4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то сделали в городе Вятке с пойманной рыбой, прежде чем варить ух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59280" y="328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А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Высек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Напо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0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 генералы мужика при себе удерживал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76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А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Цепью приков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Верёвочкой привяз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Смирительную рубашку над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Он остался с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8390880" y="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0/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7" dur="2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 генералы мужика при себе удерживал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76360" y="270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А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Цепью приков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Верёвочкой привяз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3" dur="2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ем генералы наградили мужик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627280" y="1844640"/>
            <a:ext cx="801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А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Бутылкой пи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Медал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Плеть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Рюмкой водки и пята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печать"/>
          <p:cNvPicPr/>
          <p:nvPr/>
        </p:nvPicPr>
        <p:blipFill>
          <a:blip r:embed="rId1"/>
          <a:stretch/>
        </p:blipFill>
        <p:spPr>
          <a:xfrm>
            <a:off x="395280" y="2492280"/>
            <a:ext cx="1440000" cy="16560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5"/>
          <p:cNvSpPr/>
          <p:nvPr/>
        </p:nvSpPr>
        <p:spPr>
          <a:xfrm>
            <a:off x="8390880" y="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0/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5" dur="2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ем генералы наградили мужик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63640" y="292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Плеть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Рюмкой водки и пята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1" dur="2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де живёт главный герой сказки о диком помещик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320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А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В некотором царст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В Орловской губер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В приволжских степ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За границ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8390880" y="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0/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8" dur="2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де живёт главный герой сказки о диком помещик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97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А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В некотором царст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В Орловской губер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4" dur="2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ое золотое слово вычитал помещик в газете «Весть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55640" y="2332080"/>
            <a:ext cx="5327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А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Вперё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Старай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Дол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Даёш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Рисунок5"/>
          <p:cNvPicPr/>
          <p:nvPr/>
        </p:nvPicPr>
        <p:blipFill>
          <a:blip r:embed="rId1"/>
          <a:stretch/>
        </p:blipFill>
        <p:spPr>
          <a:xfrm>
            <a:off x="6084720" y="2205000"/>
            <a:ext cx="2481480" cy="273672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6"/>
          <p:cNvSpPr/>
          <p:nvPr/>
        </p:nvSpPr>
        <p:spPr>
          <a:xfrm>
            <a:off x="8390880" y="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0/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5" dur="indefinite" restart="never" nodeType="tmRoot">
          <p:childTnLst>
            <p:seq>
              <p:cTn id="1026" dur="indefinite" nodeType="mainSeq">
                <p:childTnLst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1" dur="2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ое золотое слово вычитал помещик в газете «Весть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27280" y="270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Старай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Дол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2" dur="indefinite" restart="never" nodeType="tmRoot">
          <p:childTnLst>
            <p:seq>
              <p:cTn id="1063" dur="indefinite" nodeType="mainSeq">
                <p:childTnLst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7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чём мужик варил суп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05092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В пригорш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В кокосовой скорлуп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то помещик, одичав,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е успел-таки приобрест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484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А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Ког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Хво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Звериной с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Шер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8390880" y="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0/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8" dur="indefinite" restart="never" nodeType="tmRoot">
          <p:childTnLst>
            <p:seq>
              <p:cTn id="1069" dur="indefinite" nodeType="mainSeq">
                <p:childTnLst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4" dur="2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то помещик, одичав,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е успел-таки приобрест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59280" y="270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А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Ког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Хво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0" dur="2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к звали главного героя сказки «Дикий помещик»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050920" y="364500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рус-Кучум-Кильдиба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1" dur="indefinite" restart="never" nodeType="tmRoot">
          <p:childTnLst>
            <p:seq>
              <p:cTn id="1112" dur="indefinite" nodeType="mainSeq">
                <p:childTnLst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россворд по сказке М.Е.Салтыкова-Щедрина</a:t>
            </a:r>
            <a:br>
              <a:rPr sz="28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Повесть о том, как один мужик двух генералов прокормил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95280" y="765000"/>
          <a:ext cx="8229600" cy="493740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</a:tblGrid>
              <a:tr h="547560">
                <a:tc gridSpan="3"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0000"/>
                      </a:solidFill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57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0000"/>
                      </a:solidFill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0000"/>
                      </a:solidFill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5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200"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47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gridSpan="3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gridSpan="3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61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7" name="Text Box 637"/>
          <p:cNvSpPr/>
          <p:nvPr/>
        </p:nvSpPr>
        <p:spPr>
          <a:xfrm>
            <a:off x="2110680" y="5991120"/>
            <a:ext cx="37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1. «Вот наконец и Нева-…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38"/>
          <p:cNvSpPr/>
          <p:nvPr/>
        </p:nvSpPr>
        <p:spPr>
          <a:xfrm>
            <a:off x="1693800" y="1844640"/>
            <a:ext cx="58752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39"/>
          <p:cNvSpPr/>
          <p:nvPr/>
        </p:nvSpPr>
        <p:spPr>
          <a:xfrm>
            <a:off x="1098000" y="5805360"/>
            <a:ext cx="704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2. «Если хочешь сыскать восток, то встань глазами на …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 правой руке получишь искомо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40"/>
          <p:cNvSpPr/>
          <p:nvPr/>
        </p:nvSpPr>
        <p:spPr>
          <a:xfrm>
            <a:off x="3133800" y="2349360"/>
            <a:ext cx="485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53"/>
          <p:cNvSpPr/>
          <p:nvPr/>
        </p:nvSpPr>
        <p:spPr>
          <a:xfrm>
            <a:off x="2007000" y="5877000"/>
            <a:ext cx="538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3.Боязнь, которой «набрались» генера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о время пути «от бурь да ветров разных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54"/>
          <p:cNvSpPr/>
          <p:nvPr/>
        </p:nvSpPr>
        <p:spPr>
          <a:xfrm>
            <a:off x="3997080" y="1268280"/>
            <a:ext cx="511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55"/>
          <p:cNvSpPr/>
          <p:nvPr/>
        </p:nvSpPr>
        <p:spPr>
          <a:xfrm>
            <a:off x="1332000" y="5805360"/>
            <a:ext cx="678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4. День торжества, когда «дары всех стран назначали себе как бы рандев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56"/>
          <p:cNvSpPr/>
          <p:nvPr/>
        </p:nvSpPr>
        <p:spPr>
          <a:xfrm>
            <a:off x="4933800" y="1197000"/>
            <a:ext cx="511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57"/>
          <p:cNvSpPr/>
          <p:nvPr/>
        </p:nvSpPr>
        <p:spPr>
          <a:xfrm>
            <a:off x="1910520" y="5877000"/>
            <a:ext cx="531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5. Как автор называет судно, дно котор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ужик устлал лебяжьим пухо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658"/>
          <p:cNvSpPr/>
          <p:nvPr/>
        </p:nvSpPr>
        <p:spPr>
          <a:xfrm>
            <a:off x="6733800" y="1773360"/>
            <a:ext cx="5115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59"/>
          <p:cNvSpPr/>
          <p:nvPr/>
        </p:nvSpPr>
        <p:spPr>
          <a:xfrm>
            <a:off x="1205280" y="5950080"/>
            <a:ext cx="709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6. «Происшествие, которого не запомнят даже…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ем более что в осетре был опознан частный пристав Б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660"/>
          <p:cNvSpPr/>
          <p:nvPr/>
        </p:nvSpPr>
        <p:spPr>
          <a:xfrm>
            <a:off x="3564000" y="177336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     А     О Ж И     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661"/>
          <p:cNvSpPr/>
          <p:nvPr/>
        </p:nvSpPr>
        <p:spPr>
          <a:xfrm>
            <a:off x="1544400" y="5877000"/>
            <a:ext cx="607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7. «Зашёл генерал в лес – а там рябчики свищу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окуют, зайцы бегаю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63"/>
          <p:cNvSpPr/>
          <p:nvPr/>
        </p:nvSpPr>
        <p:spPr>
          <a:xfrm>
            <a:off x="829080" y="2924280"/>
            <a:ext cx="317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  Е     Е  Р     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64"/>
          <p:cNvSpPr/>
          <p:nvPr/>
        </p:nvSpPr>
        <p:spPr>
          <a:xfrm>
            <a:off x="1287720" y="5877000"/>
            <a:ext cx="675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8. «Кто тот …, который над нами такую шутку сыграл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665"/>
          <p:cNvSpPr/>
          <p:nvPr/>
        </p:nvSpPr>
        <p:spPr>
          <a:xfrm>
            <a:off x="5868360" y="3429000"/>
            <a:ext cx="278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  Л     Д  Е 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66"/>
          <p:cNvSpPr/>
          <p:nvPr/>
        </p:nvSpPr>
        <p:spPr>
          <a:xfrm>
            <a:off x="224280" y="5734080"/>
            <a:ext cx="870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9. Специалист, от которого один из генералов слыша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то «человек может долгое время своими собственными соками питатьс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67"/>
          <p:cNvSpPr/>
          <p:nvPr/>
        </p:nvSpPr>
        <p:spPr>
          <a:xfrm>
            <a:off x="756360" y="4508640"/>
            <a:ext cx="246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  О     Т  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5" dur="indefinite" restart="never" nodeType="tmRoot">
          <p:childTnLst>
            <p:seq>
              <p:cTn id="1126" dur="indefinite" nodeType="mainSeq">
                <p:childTnLst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1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3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6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1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9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2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1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4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7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0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1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4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WordArt 4"/>
          <p:cNvSpPr txBox="1"/>
          <p:nvPr/>
        </p:nvSpPr>
        <p:spPr>
          <a:xfrm>
            <a:off x="971640" y="620640"/>
            <a:ext cx="705636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27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908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0000"/>
                    </a:gs>
                    <a:gs pos="100000">
                      <a:srgbClr val="ffff00"/>
                    </a:gs>
                  </a:gsLst>
                  <a:lin ang="18900000"/>
                </a:gradFill>
                <a:latin typeface="Monotype Corsiva"/>
              </a:rPr>
              <a:t>Спасибо </a:t>
            </a:r>
            <a:endParaRPr b="1" lang="en-US" sz="9600" spc="1" strike="noStrike">
              <a:ln w="1908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0000"/>
                  </a:gs>
                  <a:gs pos="100000">
                    <a:srgbClr val="ffff00"/>
                  </a:gs>
                </a:gsLst>
                <a:lin ang="18900000"/>
              </a:gra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908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0000"/>
                    </a:gs>
                    <a:gs pos="100000">
                      <a:srgbClr val="ffff00"/>
                    </a:gs>
                  </a:gsLst>
                  <a:lin ang="18900000"/>
                </a:gradFill>
                <a:latin typeface="Monotype Corsiva"/>
              </a:rPr>
              <a:t>за урок!</a:t>
            </a:r>
            <a:endParaRPr b="1" lang="en-US" sz="9600" spc="1" strike="noStrike">
              <a:ln w="1908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0000"/>
                  </a:gs>
                  <a:gs pos="100000">
                    <a:srgbClr val="ffff00"/>
                  </a:gs>
                </a:gsLst>
                <a:lin ang="18900000"/>
              </a:gradFill>
              <a:latin typeface="Monotype Corsiva"/>
              <a:ea typeface="Monotype Corsiva"/>
            </a:endParaRPr>
          </a:p>
        </p:txBody>
      </p:sp>
      <p:pic>
        <p:nvPicPr>
          <p:cNvPr id="206" name="Picture 5" descr="клоун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3933720"/>
            <a:ext cx="324036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ую газету читали генералы на необитаемом остров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7280" y="1844640"/>
            <a:ext cx="756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А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«Московскую правд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«Московские ведомост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«Московское обозрен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Вестник Москв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8198640" y="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50/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ую газету читали генералы на необитаемом остров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А.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«Московскую правд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В.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«Московские ведомост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7" descr="матрос"/>
          <p:cNvPicPr/>
          <p:nvPr/>
        </p:nvPicPr>
        <p:blipFill>
          <a:blip r:embed="rId1"/>
          <a:stretch/>
        </p:blipFill>
        <p:spPr>
          <a:xfrm>
            <a:off x="250920" y="3645000"/>
            <a:ext cx="2050920" cy="29527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 генералы отыскали на острове мужик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834920" y="1773360"/>
            <a:ext cx="756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А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По следам, оставленным на пес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По звукам балалай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По запаху мякинного хле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По его крик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9"/>
          <p:cNvSpPr/>
          <p:nvPr/>
        </p:nvSpPr>
        <p:spPr>
          <a:xfrm>
            <a:off x="8198640" y="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50/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" dur="2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 генералы отыскали на острове мужик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32000" y="263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С.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По запаху мякинного хле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По его крик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8T09:08:10Z</dcterms:created>
  <dc:creator>VIP</dc:creator>
  <dc:description/>
  <dc:language>en-US</dc:language>
  <cp:lastModifiedBy>User</cp:lastModifiedBy>
  <dcterms:modified xsi:type="dcterms:W3CDTF">2020-08-04T12:23:14Z</dcterms:modified>
  <cp:revision>9</cp:revision>
  <dc:subject/>
  <dc:title>Кто знает сказки Салтыкова-Щедрина?</dc:title>
</cp:coreProperties>
</file>