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44A-CC6C-4874-8A6F-F5788C0A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A75-E37B-4F32-9F00-DC3839B7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636-02E8-4163-9FFA-5780A30F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BCF-4A57-4AE7-A978-4BBE58B1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069-B4E9-4F21-8AB3-EBAB9962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89E-B47B-4273-A640-76A5AB6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35CA-4FCE-4266-B407-C6605A6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823-E992-4DC8-ABEE-8385F0CA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F85-6712-4A7B-B794-734AA6CC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FCC-F307-4931-A652-02E786D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9F73-4FCF-49A0-9935-D816797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BE7-E11A-49BA-940B-7BA5D0C4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8E4-0DCB-4B8E-A24E-A6FD751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90E8-7378-421B-8AAC-3458AB6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1E3-00C7-4655-84CD-5E208B4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B9D6-446A-43DA-A5EB-B23D1710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0DC-92E1-41B4-A87C-F3AD4E7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C2D-C12C-4E45-A815-7D8E096A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3E7-D6EC-4930-8A77-08697E35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521-924B-4E9D-9268-4CFA2F19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B29-B1A3-46B7-BC95-85BB8B61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C11-AE95-4EE2-BA86-FD8A6FD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D46-999E-41C2-B251-C58845E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2D1-FECC-42B8-96B5-EE5D009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277D-99B8-4139-BBAD-B23B867451B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6500-2FC6-4654-B52A-DB6E67D691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6400800" cy="1117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баты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хнология обучения истор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00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нужно знать о «Дебатах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96840"/>
            <a:ext cx="762012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Дебаты» - это дискуссионно-ролевая игровая технология, в основе которой лежит спорный тезис-утверждение, который является темой игры и определяет позиции двух соревнующихся коман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р такого тезиса по истории и педагогик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ктябрьская революция была неизбеж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грарная реформа П.А.Столыпина была неудачн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5372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то участвует в «Дебатах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63800"/>
            <a:ext cx="558324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игре участвует две команды по три человека, которых традиционно называют спикера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дна из команд представляет свою систему доказательств (кейс) в защиту выдвинутого тезиса и пытается убедить зрителей и судей в правильности своей позиции - это команда «Утверждение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торая - критикует позицию оппонентов и стремится обосновать аргументами свою позицию - антитезис. Соответственно, вторая команда - это команда «Отрицание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461280" y="2131920"/>
            <a:ext cx="19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«Дебаты» – игра команды, а не одино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553080" y="3352680"/>
            <a:ext cx="1600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ейс - это система аспектов, аргументов, поддержек, которые используются командой для доказательства правильности и наилучшей обоснованности своей позиц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«кейс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сп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чка зрения, с которой рассматривается какая-либо тем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кономический, социальный, политический, педагогический, психологический, культурн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уждение или совокупность суждений, приводимое в подтверждение истинности или ложности высказанного тези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ддерж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идетельство (цитата, факт, статистика…), подкрепляющее аргумент, позици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поддержки должны иметь ссылки на источни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4876920"/>
            <a:ext cx="12189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876920"/>
            <a:ext cx="12189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4876920"/>
            <a:ext cx="12189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4876920"/>
            <a:ext cx="12193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4876920"/>
            <a:ext cx="12193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4876920"/>
            <a:ext cx="12193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оддержка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733920"/>
            <a:ext cx="27432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ргуме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733920"/>
            <a:ext cx="27432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ргуме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1828800"/>
            <a:ext cx="2971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1"/>
            <a:endCxn id="192" idx="0"/>
          </p:cNvCxnSpPr>
          <p:nvPr/>
        </p:nvCxnSpPr>
        <p:spPr>
          <a:xfrm flipV="1" rot="10800000">
            <a:off x="2285280" y="2323800"/>
            <a:ext cx="9151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3"/>
            <a:endCxn id="193" idx="0"/>
          </p:cNvCxnSpPr>
          <p:nvPr/>
        </p:nvCxnSpPr>
        <p:spPr>
          <a:xfrm>
            <a:off x="6171840" y="2324160"/>
            <a:ext cx="6865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2"/>
            <a:endCxn id="186" idx="0"/>
          </p:cNvCxnSpPr>
          <p:nvPr/>
        </p:nvCxnSpPr>
        <p:spPr>
          <a:xfrm flipH="1">
            <a:off x="914040" y="4267080"/>
            <a:ext cx="13723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2"/>
            <a:endCxn id="187" idx="0"/>
          </p:cNvCxnSpPr>
          <p:nvPr/>
        </p:nvCxnSpPr>
        <p:spPr>
          <a:xfrm>
            <a:off x="2285640" y="4267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2"/>
            <a:endCxn id="188" idx="0"/>
          </p:cNvCxnSpPr>
          <p:nvPr/>
        </p:nvCxnSpPr>
        <p:spPr>
          <a:xfrm>
            <a:off x="2286000" y="4267080"/>
            <a:ext cx="13723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3" idx="2"/>
            <a:endCxn id="191" idx="0"/>
          </p:cNvCxnSpPr>
          <p:nvPr/>
        </p:nvCxnSpPr>
        <p:spPr>
          <a:xfrm flipH="1">
            <a:off x="5333400" y="4267080"/>
            <a:ext cx="15246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3" idx="2"/>
            <a:endCxn id="190" idx="0"/>
          </p:cNvCxnSpPr>
          <p:nvPr/>
        </p:nvCxnSpPr>
        <p:spPr>
          <a:xfrm flipH="1">
            <a:off x="6705000" y="4267080"/>
            <a:ext cx="153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3" idx="2"/>
            <a:endCxn id="189" idx="0"/>
          </p:cNvCxnSpPr>
          <p:nvPr/>
        </p:nvCxnSpPr>
        <p:spPr>
          <a:xfrm>
            <a:off x="6857640" y="4267080"/>
            <a:ext cx="12200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38088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труктура кей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ставлена схема для одного аспекта (кейс как Утверждения, так и Отрицания может содержать в себе до 3-4 аспек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становление двоевластия в России было неизбеж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Аргументы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евральская революция не решила основных ЭКОНОМИЧЕСКИХ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ременное правительство не обладало реальной сил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евральская революция не решила основных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циальных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3004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0160" y="9144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7440" y="510552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унд вопросов: 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2720" y="144792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спикер команды 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5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9720" y="2438280"/>
            <a:ext cx="52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ь свою коман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значить позицию своей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ести ключевые по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ь кейс команды, не раскрывая 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ть развернутую аргумент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97180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7080" y="1523880"/>
            <a:ext cx="40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спикер команды Отриц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5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960" y="2514600"/>
            <a:ext cx="513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ь свою коман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значить позицию своей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ести новые (если есть) ключевые по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ть критику кейса команды Утвер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ть аргументацию своего кей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266688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1371600"/>
            <a:ext cx="18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510552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унд вопросов: 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607212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«Дебаты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ебаты» - это программа, в которой активно участвуют школьные и студенческие команды, проводятся городские, областные, региональные, международные соревнования по дебат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8320" y="1295280"/>
            <a:ext cx="42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спикер команды 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4 мин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3959280"/>
            <a:ext cx="656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51460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72800" y="692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26040" y="533412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унд вопросов: 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2096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овергнуть кейс команды Отриц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становить позицию своей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должить развернутую аргументацию своего кей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кларировать позицию своей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360" y="16002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спикер команды Отриц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4 мин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3886200"/>
            <a:ext cx="656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289548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6462720" y="12193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1480" y="548640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унд вопросов: 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514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становить позицию команды Отриц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должить развернутую аргументацию своего кей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ать опровержение кейсу команды Утвер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кларировать позицию своей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33000" y="1523880"/>
            <a:ext cx="39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спикер команды Отриц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4 мин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6539040" y="15238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делить ключевые проблемы обсу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черкнуть наиболее яркие аспекты выступления своей        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метить слабые места выступления команды Утвер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равнить аргументацию команд в пользу своей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делать краткое резю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680" y="137160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спикер команды 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 выступления: 4 мин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124080"/>
            <a:ext cx="1143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од «Дебатов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72800" y="692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41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5146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делить ключевые проблемы обсу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черкнуть наиболее яркие аспекты выступления своей        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метить слабые места выступления команды Отриц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равнить аргументацию команд в пользу своей кома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делать краткое резю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частники «Дебат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ик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д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ймкип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ппы поддержки (выступления из зал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просы из за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пользование дебатов в учебном процес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форма организации учебной деятельности – учебно-поисковой, исследовательской, творчес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способ работы с содержанием учебного материа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арианты зад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бота с определением понят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улирование утверждения и отрицания по те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бор аргументов и контрарг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здание системы  поддержки арг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авнение аргументов и оценка качества арг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ставление речей на заданную т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Дебаты» - это философ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способ многомерного восприятия мира, где любое событие, факт, явление могут оцениваться с различных сторон и позиц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готовность и способность воспринимать окружающий мир во всей полно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умение признать право на существование другой, отличной от собственной, точки зр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ебаты» - это форма обучени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особ организации учебной работы школьников и студентов, позволяющи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имулировать интерес к предме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нировать навыки самостоятельной работы с литературой и источ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рабатывать умение вести дискуссию и отстаивать свою точку зрения с учетом того, что противоположная позиция тоже имеет право на существ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Дебаты» как технолог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личительным признаком дебатов является высокая степень стандартизац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жесткий временной лимит выступлений,  четкие ролевые предписания, разнообразие  и объективность критериев оценки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5880" y="258480"/>
            <a:ext cx="6073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дают «Дебаты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вык  самостоятельного   сбора  и  обработки,   структурирования информаци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мение компактно, быстро, чётко сформулировать свою позицию по спорному вопрос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выки публичного выступления и ведения дискусси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идерские качества и умение работать в команде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емы обобщения и конкретизации, использования индуктивных и дедуктивных способов анализ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65560" y="1671480"/>
            <a:ext cx="69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Они позволяют развивать у школьников и студ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5880" y="151920"/>
            <a:ext cx="607356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дают «Дебаты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бегать   крайне  упрощённого  видения социально-исторических пробле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знавать за иной точкой зрения право на существование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ходить     и    пересматривать    собственные    стереотипы    и предрассудк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идеть исключения из любого правила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73200" y="16606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«Дебаты» помогают научи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5880" y="365040"/>
            <a:ext cx="6073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дают «Дебаты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мостоятельно работать с литературой и источникам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ознать значимость самообразования, как средства повышения уровня     компетентности     и     возможности     стать     грамотным специалис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ивно   формировать   свою   позицию   по   острым   и   важным общественным вопросам, а значит активно участвовать в социально-политической жизни общества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читься планировать и осуществлять программы личностного роста и самокоррекции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42600" y="1676520"/>
            <a:ext cx="72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«Дебаты» готовят школьников к тому, чтобы они мог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.baburina</cp:lastModifiedBy>
  <dcterms:modified xsi:type="dcterms:W3CDTF">2017-04-20T12:33:0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