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17.png" ContentType="image/png"/>
  <Override PartName="/ppt/media/image15.png" ContentType="image/png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E98E-E381-4CB9-B53E-3A21784428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6811-F1FB-4D9F-830E-7018E7A97C7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E9B-E72B-454E-8A06-E730BC2A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6E6-AAEA-4022-9016-D54FA6C3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646-F6D1-4811-9814-32EED830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1EB-75E3-4E45-90D2-77407A80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569B-7AAC-4B13-B3FB-05B73088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21DA-0763-4826-92F0-5EE22424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EEFF-F208-40D5-BD36-3E7D4C73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ED96-C122-4E5F-A829-BA5F7B5E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545B-8DB3-41DB-B534-DC0E08EA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2445-6764-4390-B315-A129319C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EB77-0CCF-48DC-B0AC-4ACD3003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F6E-C79E-4228-9011-B7151723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D39D-C790-487B-9276-31138E6C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44BB-8282-41A2-AA4E-BBBC4F98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034C-0B8B-481C-A3F2-7E0765BE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D172-8CAC-45BF-9D8F-D1E009C3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EE58-6F24-4D8D-9FF9-0D498281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DAEC7-0E5F-444E-A080-CA827803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B26E-BFC2-4480-A1FA-017A5E82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AAD4-DD1C-4C5E-8200-C9E27268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56B6-FB69-40CB-BAB6-F172072D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12BD-D990-479A-ACD0-F93B224A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4CF-6B0C-405D-B442-BD0CDF3C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46095-FD5F-498D-BC97-ABA6202B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A76C-A877-4CC7-AB38-D0482738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CEB8-27D0-41DE-81A9-D3E8996E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FDBF-F9F0-4A69-AEC2-5E2A520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3F3F-AB29-4105-B93E-A5ED9FFA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067D-E15B-40DC-92F5-D888B3BF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1B56-3EC7-4894-8F66-FA22FBF2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908-53D5-40C5-BC84-0C86B6B3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A0D-1D8F-4920-B26D-99D94A8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8C5-9053-42D7-A82C-D6F78B29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EE8-2BB8-46A7-AFE2-16A5DDE6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2B5-EA4C-4268-8FA4-A7F87990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649-FFC2-4134-8BA8-60BA8909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1DAD-4C81-4336-B0C6-B57176082897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70A4-1CEC-491E-A685-993D98973A1E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A787-F842-4F13-AC89-3F1D1A23541C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682560" y="444600"/>
            <a:ext cx="7785000" cy="1433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4" descr="Shak1"/>
          <p:cNvPicPr/>
          <p:nvPr/>
        </p:nvPicPr>
        <p:blipFill>
          <a:blip r:embed="rId2"/>
          <a:stretch/>
        </p:blipFill>
        <p:spPr>
          <a:xfrm>
            <a:off x="304920" y="2514600"/>
            <a:ext cx="2919240" cy="3581280"/>
          </a:xfrm>
          <a:prstGeom prst="rect">
            <a:avLst/>
          </a:prstGeom>
          <a:ln w="0">
            <a:noFill/>
          </a:ln>
        </p:spPr>
      </p:pic>
      <p:sp>
        <p:nvSpPr>
          <p:cNvPr id="13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45E3-9D26-409A-B643-258CAD0DF40F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movie"/>
          <p:cNvPicPr/>
          <p:nvPr/>
        </p:nvPicPr>
        <p:blipFill>
          <a:blip r:embed="rId3"/>
          <a:stretch/>
        </p:blipFill>
        <p:spPr>
          <a:xfrm>
            <a:off x="3505320" y="2514600"/>
            <a:ext cx="525780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603360" y="29844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Shakespeare wrote 37 plays …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… </a:t>
            </a: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and 154 sonnets…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… </a:t>
            </a: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and an unknown number of long epic po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8" name="Picture 5" descr="imi"/>
          <p:cNvPicPr/>
          <p:nvPr/>
        </p:nvPicPr>
        <p:blipFill>
          <a:blip r:embed="rId2"/>
          <a:stretch/>
        </p:blipFill>
        <p:spPr>
          <a:xfrm>
            <a:off x="4788000" y="1844640"/>
            <a:ext cx="3154320" cy="3352680"/>
          </a:xfrm>
          <a:prstGeom prst="rect">
            <a:avLst/>
          </a:prstGeom>
          <a:ln w="0">
            <a:noFill/>
          </a:ln>
        </p:spPr>
      </p:pic>
      <p:sp>
        <p:nvSpPr>
          <p:cNvPr id="17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F10C-3FB2-420F-91DF-0E272D5C612F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11280" y="558972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"</a:t>
            </a:r>
            <a:r>
              <a:rPr b="0" lang="de-DE" sz="4400" spc="-1" strike="noStrike">
                <a:solidFill>
                  <a:srgbClr val="ffffff"/>
                </a:solidFill>
                <a:latin typeface="Script MT Bold"/>
              </a:rPr>
              <a:t>All‘s well that ends well</a:t>
            </a: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"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440" y="23619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de-DE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lbertus Medium"/>
              </a:rPr>
              <a:t>Born in April 1564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lbertus Medium"/>
              </a:rPr>
              <a:t>in Stratford on Av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5" descr="strat"/>
          <p:cNvPicPr/>
          <p:nvPr/>
        </p:nvPicPr>
        <p:blipFill>
          <a:blip r:embed="rId2"/>
          <a:stretch/>
        </p:blipFill>
        <p:spPr>
          <a:xfrm>
            <a:off x="4572000" y="2438280"/>
            <a:ext cx="3809880" cy="2497320"/>
          </a:xfrm>
          <a:prstGeom prst="rect">
            <a:avLst/>
          </a:prstGeom>
          <a:ln w="0">
            <a:noFill/>
          </a:ln>
        </p:spPr>
      </p:pic>
      <p:sp>
        <p:nvSpPr>
          <p:cNvPr id="13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F863-5B0B-465A-B945-803451F48040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85800" y="4114800"/>
            <a:ext cx="3657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de-DE" sz="2400" spc="-1" strike="noStrike">
                <a:solidFill>
                  <a:srgbClr val="ffffff"/>
                </a:solidFill>
                <a:latin typeface="Albertus Medium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lbertus Medium"/>
              </a:rPr>
              <a:t>His father - a fairly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lbertus Medium"/>
              </a:rPr>
              <a:t>    rich merch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4467-38A3-40D9-8D17-C1EFB7FD12B0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" descr="Unbenannt - 1"/>
          <p:cNvPicPr/>
          <p:nvPr/>
        </p:nvPicPr>
        <p:blipFill>
          <a:blip r:embed="rId2"/>
          <a:stretch/>
        </p:blipFill>
        <p:spPr>
          <a:xfrm>
            <a:off x="1371600" y="1752480"/>
            <a:ext cx="6419880" cy="4707000"/>
          </a:xfrm>
          <a:prstGeom prst="rect">
            <a:avLst/>
          </a:prstGeom>
          <a:ln w="0">
            <a:noFill/>
          </a:ln>
        </p:spPr>
      </p:pic>
      <p:sp>
        <p:nvSpPr>
          <p:cNvPr id="143" name="Oval 4"/>
          <p:cNvSpPr/>
          <p:nvPr/>
        </p:nvSpPr>
        <p:spPr>
          <a:xfrm>
            <a:off x="4343400" y="3124080"/>
            <a:ext cx="1371600" cy="60984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school out"/>
          <p:cNvPicPr/>
          <p:nvPr/>
        </p:nvPicPr>
        <p:blipFill>
          <a:blip r:embed="rId2"/>
          <a:stretch/>
        </p:blipFill>
        <p:spPr>
          <a:xfrm>
            <a:off x="4724280" y="1981080"/>
            <a:ext cx="3810240" cy="279900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0002-0468-412E-B343-3633BDF8E48A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schoolin"/>
          <p:cNvPicPr/>
          <p:nvPr/>
        </p:nvPicPr>
        <p:blipFill>
          <a:blip r:embed="rId3"/>
          <a:stretch/>
        </p:blipFill>
        <p:spPr>
          <a:xfrm>
            <a:off x="457200" y="2057400"/>
            <a:ext cx="4038480" cy="272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life3"/>
          <p:cNvPicPr/>
          <p:nvPr/>
        </p:nvPicPr>
        <p:blipFill>
          <a:blip r:embed="rId4"/>
          <a:stretch/>
        </p:blipFill>
        <p:spPr>
          <a:xfrm>
            <a:off x="2438280" y="3733920"/>
            <a:ext cx="4267440" cy="292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2" descr=""/>
          <p:cNvPicPr/>
          <p:nvPr/>
        </p:nvPicPr>
        <p:blipFill>
          <a:blip r:embed="rId1"/>
          <a:stretch/>
        </p:blipFill>
        <p:spPr>
          <a:xfrm>
            <a:off x="907920" y="182520"/>
            <a:ext cx="7785360" cy="969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en-US" sz="24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Marriage to Anne Hathaway in 1582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Anne was 26, he was 18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3 childre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en-US" sz="2400" spc="-1" strike="noStrike">
                <a:solidFill>
                  <a:srgbClr val="000066"/>
                </a:solidFill>
                <a:latin typeface="Book Antiqu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The youngest,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 Hamnet died at th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 age of 11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Номер слайда 6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99FB-2C04-4798-A9C1-A971071BAD62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SO02963_"/>
          <p:cNvPicPr/>
          <p:nvPr/>
        </p:nvPicPr>
        <p:blipFill>
          <a:blip r:embed="rId2"/>
          <a:stretch/>
        </p:blipFill>
        <p:spPr>
          <a:xfrm>
            <a:off x="4788000" y="2997360"/>
            <a:ext cx="3535200" cy="2974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de-DE" sz="2400" spc="-1" strike="noStrike">
                <a:solidFill>
                  <a:srgbClr val="ffffff"/>
                </a:solidFill>
                <a:latin typeface="Albertus Medium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went to London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at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 2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Picture 6" descr="life7"/>
          <p:cNvPicPr/>
          <p:nvPr/>
        </p:nvPicPr>
        <p:blipFill>
          <a:blip r:embed="rId2"/>
          <a:stretch/>
        </p:blipFill>
        <p:spPr>
          <a:xfrm>
            <a:off x="4140360" y="2276640"/>
            <a:ext cx="4487760" cy="2938320"/>
          </a:xfrm>
          <a:prstGeom prst="rect">
            <a:avLst/>
          </a:prstGeom>
          <a:ln w="0">
            <a:noFill/>
          </a:ln>
        </p:spPr>
      </p:pic>
      <p:sp>
        <p:nvSpPr>
          <p:cNvPr id="15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C017-07C6-4F9D-8D02-8EFED61E962F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5800" y="3200400"/>
            <a:ext cx="365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de-DE" sz="2400" spc="-1" strike="noStrike">
                <a:solidFill>
                  <a:srgbClr val="ffffff"/>
                </a:solidFill>
                <a:latin typeface="Albertus Medium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joined a travelling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     company of 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85800" y="441972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de-DE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worked both as an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    actor and a 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010360" cy="1401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200,000 inhabitant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the cultural and political heart of Engla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71CC-CBE8-4BB7-BCC5-47443F2753C2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slide01"/>
          <p:cNvPicPr/>
          <p:nvPr/>
        </p:nvPicPr>
        <p:blipFill>
          <a:blip r:embed="rId2"/>
          <a:stretch/>
        </p:blipFill>
        <p:spPr>
          <a:xfrm>
            <a:off x="4114800" y="189000"/>
            <a:ext cx="5029200" cy="3284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slide02"/>
          <p:cNvPicPr/>
          <p:nvPr/>
        </p:nvPicPr>
        <p:blipFill>
          <a:blip r:embed="rId3"/>
          <a:stretch/>
        </p:blipFill>
        <p:spPr>
          <a:xfrm>
            <a:off x="4140360" y="3789360"/>
            <a:ext cx="5003640" cy="2583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2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9500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de-DE" sz="1700" spc="-1" strike="noStrike">
                <a:solidFill>
                  <a:srgbClr val="000066"/>
                </a:solidFill>
                <a:latin typeface="Albertus Medium"/>
              </a:rPr>
              <a:t>  </a:t>
            </a:r>
            <a:r>
              <a:rPr b="0" lang="de-DE" sz="2600" spc="-1" strike="noStrike">
                <a:solidFill>
                  <a:srgbClr val="ffffff"/>
                </a:solidFill>
                <a:latin typeface="Albertus Medium"/>
              </a:rPr>
              <a:t>opened in 1599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lbertus Medium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Albertus Medium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Picture 6" descr="Globe1"/>
          <p:cNvPicPr/>
          <p:nvPr/>
        </p:nvPicPr>
        <p:blipFill>
          <a:blip r:embed="rId2"/>
          <a:stretch/>
        </p:blipFill>
        <p:spPr>
          <a:xfrm>
            <a:off x="4643280" y="2133720"/>
            <a:ext cx="4267440" cy="3203280"/>
          </a:xfrm>
          <a:prstGeom prst="rect">
            <a:avLst/>
          </a:prstGeom>
          <a:ln w="0">
            <a:noFill/>
          </a:ln>
        </p:spPr>
      </p:pic>
      <p:sp>
        <p:nvSpPr>
          <p:cNvPr id="16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1506-B414-4B70-A10F-746B76FF1669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95360" y="3048120"/>
            <a:ext cx="3733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de-DE" sz="2400" spc="-1" strike="noStrike">
                <a:solidFill>
                  <a:srgbClr val="000066"/>
                </a:solidFill>
                <a:latin typeface="Albertus Medium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His successes had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    made Shakespeare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    a rich ma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14440" y="457200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de-DE" sz="2400" spc="-1" strike="noStrike">
                <a:solidFill>
                  <a:srgbClr val="000066"/>
                </a:solidFill>
                <a:latin typeface="Albertus Medium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He became one of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lbertus Medium"/>
              </a:rPr>
              <a:t>    the principal investors</a:t>
            </a:r>
            <a:r>
              <a:rPr b="0" lang="de-DE" sz="2400" spc="-1" strike="noStrike">
                <a:solidFill>
                  <a:srgbClr val="ffffff"/>
                </a:solidFill>
                <a:latin typeface="Albertus Medium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9cb08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lbertus Medium"/>
              </a:rPr>
              <a:t>Return to Stratford 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Albertus Medium"/>
              </a:rPr>
              <a:t>in 1610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9cb08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lbertus Medium"/>
              </a:rPr>
              <a:t>Destruction of the Globe Theatre in 1613 (the Great Fire of London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9cb08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lbertus Medium"/>
              </a:rPr>
              <a:t>In 1616 Shakespeare died on April, 23 (his birthday!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Picture 4" descr="grave"/>
          <p:cNvPicPr/>
          <p:nvPr/>
        </p:nvPicPr>
        <p:blipFill>
          <a:blip r:embed="rId2"/>
          <a:stretch/>
        </p:blipFill>
        <p:spPr>
          <a:xfrm>
            <a:off x="4495680" y="2209680"/>
            <a:ext cx="4419720" cy="2982960"/>
          </a:xfrm>
          <a:prstGeom prst="rect">
            <a:avLst/>
          </a:prstGeom>
          <a:ln w="0">
            <a:noFill/>
          </a:ln>
        </p:spPr>
      </p:pic>
      <p:sp>
        <p:nvSpPr>
          <p:cNvPr id="17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DCB2-5649-4D84-BE0E-FCCBF064D6BD}" type="slidenum">
              <a:rPr b="0" lang="de-D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2:20:48Z</dcterms:created>
  <dc:creator>Ludwigs</dc:creator>
  <dc:description/>
  <dc:language>en-US</dc:language>
  <cp:lastModifiedBy>Lenovo</cp:lastModifiedBy>
  <dcterms:modified xsi:type="dcterms:W3CDTF">2020-08-05T20:20:54Z</dcterms:modified>
  <cp:revision>21</cp:revision>
  <dc:subject/>
  <dc:title>William Shakespeare – some biographical notes</dc:title>
</cp:coreProperties>
</file>