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8B0-CAB8-4C97-BBB8-B7DC1A96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7A1-F736-4E15-BAAB-9BB5DCA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40A83-2611-4A3C-87FE-6BB8E5B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79280-111F-4BB8-92CA-A4F04A3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DDD85-8CA9-4EB0-9FF6-89052EA0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18ADD-C40E-4291-A8B4-53A6433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CBAE9-A463-4F01-9ED0-3F47C95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85937-DC33-451D-BC31-7ED19B0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4152FD-2BF9-4E58-A232-E06411C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5B633A-79F7-4EAB-89E5-953689A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1C0ED-9939-45F1-B6F6-3CA3BBCB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82E-1402-4533-BD59-643E6F51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F3C-B81B-4AB0-AA56-4B7ED1B3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3AF44-E480-45EE-AD1D-A033A8F8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8E22-60B7-49E3-9465-F3ACDAB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B3E3-2CAB-4E7B-8C61-9973244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EB5C-9350-447A-BB19-70D261BD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1848D-D764-4713-A514-82C498F9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BFA4-F9AB-4A47-BF60-AF4F0F0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1726E-2BD5-4AE3-A8C9-19A604E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CF7-C823-4797-AD6E-AA6F306E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B5CC5-9AA2-48B4-A9A2-C2D4B748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BEF0-9F1F-4FB1-86C9-C5B29F6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AAE9C-3BD6-4F4F-B090-F69ECE5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B3277-B536-4873-8E3B-F34E74A3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2688-5F42-45D9-9405-10B8711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18FE-9F1B-4102-B16E-B1F97FB0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2D4E-AC57-403B-BFAE-06C0BA6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3E0A-C330-4E14-8A8E-A1735AFE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D640-3A92-495A-90EA-2FEE46A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641B-12DF-46A4-A1A7-73A16E6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54F-2E78-4FE7-A301-E66F2B9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0F91-D9AD-4A3A-AC19-B8191BB9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6271-A14B-4863-9D2A-217A040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5872-1961-4ADF-ABFB-C92F4F7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F791-87EC-469E-90E3-FBD470C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56C7-7D48-4413-B536-543C939D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4A92-1AF4-4BC3-A718-D344B68D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FB27-14E3-41C7-BDE4-9A98E691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A6EAF-0A5D-483B-B120-86727990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46C1E-FA84-4321-88E2-FCA6BF8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BDFAB-86D6-4A95-B120-AC6B398C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1D2-98E7-4D74-BAA4-62BE694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B5A0C-0A9C-4592-ABD6-C16DAD1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967AD-5118-4A4F-95C8-6DD01802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431B1-498C-4104-8720-E974D90E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A63E7-C445-4EE9-87C6-A659312A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0EC3F-DB2C-49E4-BC8E-D3E0A81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798AC-945A-4C02-B0C4-40C6734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9CFCF-014A-4E67-A539-853D20D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81929-30CA-49D4-99E7-4111D24D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A1CF5-DA27-4252-8BBB-F0E4998F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3819-29F3-4975-9C0D-96853B9E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82D-3C7E-4A50-850E-8BE756D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FA70-96EF-4000-9AE8-B522FA9C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F3F3-EA59-450C-AEAF-C18FC0C0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5FCB-C544-472E-A2D7-69D873B2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68BAB-C210-46C0-B4A6-EF6E65E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829D-28AD-4F62-A38E-B70F230A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2D4E-9A3D-4AA8-9C6C-1B7D4A49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897E-028C-4E8C-AAEE-4A312BA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B42E-F7B1-4702-95DA-BB48439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C2EF-6B9D-48E2-8510-4822B56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534D-8C2D-4F66-B304-4021C5D8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794-DD9A-4706-9EF4-47A47A31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98C0-2DDF-44C3-A4D9-02B47F8D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2599-8593-45C2-9B37-682BAC1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C020-0DBA-41F4-AC10-04056838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E6DA-658D-4301-A5D8-219FD04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CF231-E6D5-43F4-ACE1-B56F1F5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A7C1-249F-46DB-B209-6F69591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0B62-4629-4A9A-B93B-3B7E621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E35B-B54F-4CDA-A69B-89C0264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5384-E913-484C-BE72-148E483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174B-C5F0-442F-AD38-D7B93B1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AC5-4EDC-4581-B151-68F2167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7371-498C-4F09-8552-807EE84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A3594-AB0B-40DC-83B4-1AB407C9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0BDA-C036-4F6D-BC70-DB2F6982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488B6-6143-4DF5-915A-EB1049EA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57F4-D128-448C-8465-BBE28CAA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47B4-C41D-4285-925F-75EAA03A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17CC-8190-4D7A-BB5F-9414AD4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00D6-7E6D-4C0B-B40C-6ED1D2A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8500-8E1D-4C55-9D5B-8DE1C99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56DF-9258-4CAC-A4B8-3C66748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418-1722-40C1-83D9-037B0A6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52B3-0001-4D42-8A93-95CD345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193E-14CD-476B-A30E-04BD8784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EFF3-AEFC-4305-8963-A06FD9B6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0B87-504E-472F-9D62-6C3F9632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A0EC-5557-4605-9994-1FFA4DE0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0B815-F4E0-4A4E-982E-1029DBC3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A87BC-D647-4FFA-B655-B3A3639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4A7EB-EB7C-4E5E-9C98-6E62AE7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80D84-C184-4FCA-A39E-3F65DA5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A4EF7-7B5C-450A-940D-DD984E1C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90E-2EFE-4CEA-94AE-4B89829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22EA1-17E2-43A3-A2AF-9EDB490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78AA2-B89D-4AB4-9A0F-4BE70CF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A22CE-69E3-4C4D-8FBD-17EE923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463E3-7C09-438A-9437-153B005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ADBA3-BDA0-4DBD-948B-BF6A660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92059-E503-42F5-A278-CA90CA0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C8A3B-5443-4A81-8AF2-498C4E00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ECAF4-1EF9-47AE-847A-2CB1BB16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19901-1D2C-4BB1-ADF5-0414A7B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F04F8-DC5A-4876-8921-43F4C5B4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EE3-0E6F-4CDC-870E-F8A6A8BE92ED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DA09-7167-451E-B096-28460DD9724F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4AFF-CA66-4FFA-8B89-542E35B5C06E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ACC-045F-4B9B-A9DE-5D141ABFD98B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1FDA-2F90-4E6C-8822-333E578054D5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918-DC1A-433B-ACF0-F42140283452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63B-308E-49AD-BFF1-A8FBAD7530E9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DCDD-3C21-4D68-BDA8-D8523AF6D6B3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9BC-FF62-4DDC-AD27-C80B671844C9}" type="slidenum">
              <a:rPr b="0" lang="ru-RU" sz="1600" spc="-1" strike="noStrike">
                <a:solidFill>
                  <a:srgbClr val="dfe0d4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0.tqn.com/d/gouk/1/0/V/F/-/-/grav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724360" y="2349360"/>
            <a:ext cx="34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64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161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13" descr="013900"/>
          <p:cNvPicPr/>
          <p:nvPr/>
        </p:nvPicPr>
        <p:blipFill>
          <a:blip r:embed="rId1"/>
          <a:stretch/>
        </p:blipFill>
        <p:spPr>
          <a:xfrm>
            <a:off x="539640" y="189000"/>
            <a:ext cx="49024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468360" y="2602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Tahoma"/>
              </a:rPr>
              <a:t>Mach the name of the party with the trans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39640" y="1268280"/>
            <a:ext cx="403884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Комедия ошиб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. «Виндзорские насмешниц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. «Венецианский купе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4. «Лукреци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5. «Все хорошо, что хорошо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6. «Мера за мер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7. «Сон в летнюю ноч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4572000" y="1197000"/>
            <a:ext cx="40384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“A Midsummer Night's Dream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“Measure for Measur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“The Rape of Lucrece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“All’s well that Ends well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. “The Comedy of Error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. “The Merry Wives of Windso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. “The Merchant of Venic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2987640" y="1628640"/>
            <a:ext cx="2305080" cy="22320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95640" y="2205000"/>
            <a:ext cx="2016360" cy="24480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2916360" y="2924280"/>
            <a:ext cx="2519280" cy="2376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2195640" y="2852640"/>
            <a:ext cx="3384360" cy="72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3635280" y="3500280"/>
            <a:ext cx="2376720" cy="6494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Line 14"/>
          <p:cNvSpPr/>
          <p:nvPr/>
        </p:nvSpPr>
        <p:spPr>
          <a:xfrm flipV="1">
            <a:off x="2843280" y="2133720"/>
            <a:ext cx="3384360" cy="273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Line 16"/>
          <p:cNvSpPr/>
          <p:nvPr/>
        </p:nvSpPr>
        <p:spPr>
          <a:xfrm flipV="1">
            <a:off x="3419640" y="1483920"/>
            <a:ext cx="2447640" cy="4032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468360" y="12672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hen was W.</a:t>
            </a: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hakespeare born?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79280" y="40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was born in the 16th century in 156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0" y="237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What do you know about his parent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24000" y="236772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mother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y Arden was the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ughter of a farmer and his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ther John Shakespeare was a glove mak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179280" y="864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here did he bor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0" y="543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was born in Stratford-upon-Av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9" descr="Unbenannt - 1"/>
          <p:cNvPicPr/>
          <p:nvPr/>
        </p:nvPicPr>
        <p:blipFill>
          <a:blip r:embed="rId1"/>
          <a:stretch/>
        </p:blipFill>
        <p:spPr>
          <a:xfrm>
            <a:off x="1692360" y="1052640"/>
            <a:ext cx="5292720" cy="4416120"/>
          </a:xfrm>
          <a:prstGeom prst="rect">
            <a:avLst/>
          </a:prstGeom>
          <a:ln w="0">
            <a:noFill/>
          </a:ln>
        </p:spPr>
      </p:pic>
      <p:sp>
        <p:nvSpPr>
          <p:cNvPr id="403" name="Oval 11"/>
          <p:cNvSpPr/>
          <p:nvPr/>
        </p:nvSpPr>
        <p:spPr>
          <a:xfrm>
            <a:off x="2411280" y="2349360"/>
            <a:ext cx="1224000" cy="503280"/>
          </a:xfrm>
          <a:prstGeom prst="ellipse">
            <a:avLst/>
          </a:prstGeom>
          <a:noFill/>
          <a:ln w="76320">
            <a:solidFill>
              <a:srgbClr val="72a3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0" y="835920"/>
            <a:ext cx="896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ccff"/>
                </a:solidFill>
                <a:latin typeface="Times New Roman"/>
              </a:rPr>
              <a:t>Where did W. Shakespeare get a good education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324000" y="4149000"/>
            <a:ext cx="8964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W.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hakespeare got a good education in the local grammar school in Stratford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0" y="139320"/>
            <a:ext cx="88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hen did W.Shakespeare marry</a:t>
            </a: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.Shakespeare was only eighteen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married Anna Hathawa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is wife was 3 years older than he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5040" y="-360"/>
            <a:ext cx="9265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What did W.</a:t>
            </a:r>
            <a:r>
              <a:rPr b="1" lang="ru-RU" sz="40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hakespeare do in Lond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.Shakespeare worked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London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looked after the horses of ric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ers, which come to see the play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 the theatre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0" y="-2880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Why did he become famou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. Shakespeare became famous because he created the theatre GLO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6" descr="diagram"/>
          <p:cNvPicPr/>
          <p:nvPr/>
        </p:nvPicPr>
        <p:blipFill>
          <a:blip r:embed="rId1"/>
          <a:stretch/>
        </p:blipFill>
        <p:spPr>
          <a:xfrm>
            <a:off x="3059280" y="1341360"/>
            <a:ext cx="352872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0" y="-67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When did W. Shakespeare die and where did he bu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50920" y="4763520"/>
            <a:ext cx="80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. Shakespeare died on April 23, 16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nd he was buried in beautifu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ld church in Stratford-upon-Av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11" descr="Картинка 1 из 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34136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4:59:38Z</dcterms:created>
  <dc:creator>Алексей</dc:creator>
  <dc:description/>
  <dc:language>en-US</dc:language>
  <cp:lastModifiedBy>Lenovo</cp:lastModifiedBy>
  <dcterms:modified xsi:type="dcterms:W3CDTF">2020-08-05T20:19:13Z</dcterms:modified>
  <cp:revision>22</cp:revision>
  <dc:subject/>
  <dc:title>Слайд 1</dc:title>
</cp:coreProperties>
</file>