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5F5D-7231-4339-AE46-62FC3F1167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6C88-EA7D-4110-BE1F-86D69E10AA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25C28-EFF1-46BC-B61A-1E023247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4198E-1FF4-4E44-9F94-9B4D9231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D2F27-3527-4FC8-9715-BD2E0288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1C6C4-6964-4EB3-A577-5129F834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5437E-DDF9-42D4-AB20-C541DAE4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7E387-F108-48D5-84C6-BA3E8D1A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000D3-26C6-47FB-BB4B-B19734E4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D39AF-7165-4048-90A3-685834D0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46932-151B-4D8E-90E1-D773F719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9D51C-CD40-41F3-87D2-53311123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4FF65-204C-4D2D-B02A-7CF1DD3E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9715C-6F4C-479E-B366-D063A3D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72BE0-E61E-4CCE-A824-C2E706E8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CF189-AFCB-45B9-A517-FB865FA5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53F75-8070-40DF-AFB9-9F45C5CC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67397-17E4-4C43-8BE4-80FCE6B4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B9941-DDB7-4995-A4B2-F1B7B9EB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0D81A-4616-4F59-B80C-2ABB96DE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61229-1071-4468-8122-FBC2D988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44C8E-6C43-4148-8315-A6567D38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F6C3B-5C91-4D9D-826F-BDF4314E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F63BD-A1E1-47DA-8F7D-0D287FF5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7E89E-6ACF-47A0-889F-B93D551A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38AA2-6C46-47F6-B156-E6260B50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E7A35-B50F-4675-BF19-B41D73CE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EB64F-EE91-4D9B-8AA2-9C851C1B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5375C-AC9C-4389-AEC4-814770DA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6FE19-09D4-47E9-A1A0-F08FF9F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69739-1C42-4141-984F-C1A604F6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81938-99E2-407F-8AE2-5996DAA7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587-EACA-4EF7-A8B0-C26FA69B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866BC-CA80-435B-B06B-5C1F1E45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B3619-7963-4CAE-A6CD-9CFC3644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CE90D-3B90-4A40-90E5-7F26AA04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225DA-562B-42DB-90F6-96651FD4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AAC25-1B89-4DC5-B9F6-F7520A60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639AE-FC4F-42D2-9C7A-D5BD84B7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645F1-403F-40DC-BE33-C2B5EA91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C5F40-BDAD-4001-B651-DC65C1BA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A9AD9-C1B9-4512-85CA-434D663A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13B93-5576-49B3-B694-E99561C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6FF-CF1A-4DDE-B973-3C3BA78E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B3627-1867-4C73-B76B-F16ACFE1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6E178-82A9-4159-B2E8-4DF6742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1DA99-513E-4312-8568-0CDBA894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9A723-8972-4F60-B956-763CC24A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2F821-68EE-4C59-99C2-F9C7A1D3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C6D-09D8-4ADA-83F0-45017779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4E2-9C58-4226-B80C-EC6CF594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061-A7A5-45DB-B617-AE545275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F2B-D912-407C-9DE0-2A9FF3B4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CEF-32B3-44F8-992A-AD1D396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F27-D8FA-47FB-863A-B13F39D5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45E-ACBF-43F5-9F69-3B7C18F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FC2-F34D-4C70-9C1A-FC6C72C2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2B4-5B6C-47A6-A27A-33462665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A05-D9B5-4C34-938B-17899243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0CC3-B06D-48AB-B44A-708E8865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1086-1912-4843-9B9A-1E24707A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AC93-E3A9-411C-B9ED-64A12623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29A3-6791-4034-A859-DC19EE5D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A50-F285-433B-BADA-3685E5BE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3B28-40E4-4A64-AE4F-26EFAB97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A0DA-0DAB-47FF-8077-3F9E6ACD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C937-45F8-4768-9114-2A7A368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7154-62E6-4F5F-BBD9-AA397ED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A740-E2C7-4E44-9D53-72EF4AA3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2E4A-22AE-436A-A15F-AF874666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B52-4940-4D2C-BBD7-C013E224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FCE1-36B6-4F94-9214-5B939FDD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ED1EA-57A5-4A42-92BE-3CD2C584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003B-D736-48A6-B6F0-BF013CB9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CA14-92B8-4648-B1CC-4CEDE160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0ECE-102B-4B9A-8E0A-59FE3707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D33B-B576-48BB-877F-0E9D4122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59F92-953D-4539-8C50-75166DB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7BF05-9170-4073-9BA3-54FA976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362C-B001-4C75-9AB1-879C3E7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BB60-CC69-4459-BCC6-B0AE0783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FAFF-387F-4BFF-93F4-9C70BB55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0EC6-446B-4DB7-8CBF-5BB6367D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3747-473D-484D-A601-3D4AC372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8093-E426-4C1F-AB3F-8F3530A4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2CDD3-0CF5-476A-81EC-F03F44EE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D2D4-1C2D-4062-AD74-01E18CFC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2B820-05E6-4F83-813E-85CEC305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8DB1E-3F6C-4987-98FD-E7D2D0CE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E0A4-EC22-45AC-A0F1-747BF6B1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30AF6-1C9B-46CF-B8DD-BFE9F53F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B55B-17A3-476D-A28C-AB81BFED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1040-C9D5-4352-A27F-9739D167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AC4CD-2BBF-40AB-A627-AB80B6A7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312A-48A5-4BED-87AD-6655DCD5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ADB9-1964-41DF-A4D2-03B4B34B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C788E-392B-41FC-86B3-8F8FDA31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4FA28-7424-46D3-9C70-0F932D8B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3D7A9-5280-49A0-AE35-49FAD25F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89EC9-EFD1-43EE-AA98-F606E515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09A0-560D-40B9-B52E-4D62566A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BA24-0A90-4C0E-9633-7B7960E8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64DA-BAB4-4247-BD3F-0DF68B9C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BAE5B-104B-45F7-B23F-A3D600F2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89558-3D3C-46DD-AC0A-19A09E46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10FC0-6913-4F68-9F73-C0A8CBA0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BF42-4733-4791-99BB-39F2E327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B117D-5A6D-4B05-8648-B6B98068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0D931-481B-485C-B1CF-0A255518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C2467-4F45-415E-AADC-DD16FC42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5F88E-8EDD-4AFD-B5A4-762B0DB0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B10D-7BDF-45D8-9F08-580B8BC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B249C-528C-4BE5-B35A-477941B4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67465-85C0-4A76-90FE-80C5AAFD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ED670-1C7A-416B-8170-4FE2648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60DEC-9AC9-429E-93E7-A680C5C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1B96-601C-4039-9FF7-BD6BDA11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BA65D-B10A-4AE1-A699-F00E6573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D0259-401F-4E9C-987F-ABA98573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D2D6-B0B6-418B-8466-394E61E8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AD772-4319-4629-B526-8B3DB3B2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2A0CA-A6AE-4A97-83B6-6E1FFE7C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5A030-0A07-4D17-8EED-C7FA6FD5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3D72F-74DE-42EA-9DDF-A28262F9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3CB6-5192-495A-B148-43F4C271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09803-205C-47BC-981D-15F862AA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0C41D-0BD5-491F-8CB4-8F26C0CF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3D34E-028D-40DD-8AF8-60E44812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33C6A-A621-48F9-9357-E0ECCFC9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48FE3-759C-423D-A5A2-43BEB35A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19A06-8253-48D9-9894-5C5AADC9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C761-0296-4EF1-A7B9-EE03B240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09961-DDE7-4320-8530-C7744A09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7B719-797D-4281-A777-6EE9B23E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854C-05D5-4ADD-A2D7-35168BE5C646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48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F93E-C3D7-486C-8129-8749FA6BE409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C692-93DB-43DB-A303-3A499061082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2160" y="664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6811-40F1-43DE-883D-24EC9CD07EA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Скругленный прямоугольник 10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160" y="664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30F7-26A9-49F1-9155-7B47AA7E57C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412D-4755-42FF-920A-8D78D49ED4C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F220-1376-465E-A699-2E406824C79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B01B-9566-4467-98E1-C33FA51B431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кругленный прямоугольник 10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2160" y="664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1F53-639B-4C92-A748-DE3B984F7BB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Скругленный прямоугольник 10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2160" y="664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203F-0FA4-4AD7-A83E-4749660A901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7" descr="http://s43.radikal.ru/i102/0901/35/72544a67e659.jpg"/>
          <p:cNvPicPr/>
          <p:nvPr/>
        </p:nvPicPr>
        <p:blipFill>
          <a:blip r:embed="rId2"/>
          <a:stretch/>
        </p:blipFill>
        <p:spPr>
          <a:xfrm>
            <a:off x="75564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http://s43.radikal.ru/i102/0901/35/72544a67e659.jpg"/>
          <p:cNvPicPr/>
          <p:nvPr/>
        </p:nvPicPr>
        <p:blipFill>
          <a:blip r:embed="rId3"/>
          <a:stretch/>
        </p:blipFill>
        <p:spPr>
          <a:xfrm>
            <a:off x="5364000" y="5373720"/>
            <a:ext cx="3168720" cy="133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s43.radikal.ru/i102/0901/35/72544a67e659.jpg"/>
          <p:cNvPicPr/>
          <p:nvPr/>
        </p:nvPicPr>
        <p:blipFill>
          <a:blip r:embed="rId4"/>
          <a:stretch/>
        </p:blipFill>
        <p:spPr>
          <a:xfrm>
            <a:off x="3059280" y="5373720"/>
            <a:ext cx="3168360" cy="1330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img-fotki.yandex.ru/get/5603/svetlera.233/0_5a2e8_6ca8761b_XS.jpg"/>
          <p:cNvPicPr/>
          <p:nvPr/>
        </p:nvPicPr>
        <p:blipFill>
          <a:blip r:embed="rId5"/>
          <a:stretch/>
        </p:blipFill>
        <p:spPr>
          <a:xfrm>
            <a:off x="468360" y="5157720"/>
            <a:ext cx="1228680" cy="1320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img-fotki.yandex.ru/get/5905/svetlera.233/0_5a2e0_a1798d9c_L.png"/>
          <p:cNvPicPr/>
          <p:nvPr/>
        </p:nvPicPr>
        <p:blipFill>
          <a:blip r:embed="rId6"/>
          <a:stretch/>
        </p:blipFill>
        <p:spPr>
          <a:xfrm>
            <a:off x="0" y="0"/>
            <a:ext cx="1405080" cy="115236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http://img-fotki.yandex.ru/get/5905/svetlera.233/0_5a2e9_2bfbcf22_L.png"/>
          <p:cNvPicPr/>
          <p:nvPr/>
        </p:nvPicPr>
        <p:blipFill>
          <a:blip r:embed="rId7"/>
          <a:stretch/>
        </p:blipFill>
        <p:spPr>
          <a:xfrm>
            <a:off x="7596360" y="4653000"/>
            <a:ext cx="1239840" cy="1736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23C1-3AD3-43A0-8CBA-64B4255FDE2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&#1042;&#1088;&#1077;&#1084;&#1077;&#1085;&#1085;&#1072;&#1103;%20&#1087;&#1072;&#1087;&#1082;&#1072;%201%20&#1076;&#1083;&#1103;%20163150.zip/&#1041;&#1077;&#1089;&#1077;&#1076;&#1072;%20&#1089;%20&#1076;&#1077;&#1090;&#1100;&#1084;&#1080;2.doc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&#1042;&#1088;&#1077;&#1084;&#1077;&#1085;&#1085;&#1072;&#1103;%20&#1087;&#1072;&#1087;&#1082;&#1072;%201%20&#1076;&#1083;&#1103;%20163150.zip/&#1085;&#1072;&#1075;&#1083;.&#1072;&#1075;&#1080;&#1090;.&#1076;&#1083;&#1103;%20&#1088;&#1086;&#1076;&#1080;&#1090;.2.doc" TargetMode="External"/><Relationship Id="rId2" Type="http://schemas.openxmlformats.org/officeDocument/2006/relationships/hyperlink" Target="file:///../Local%20Settings/Temp/&#1042;&#1088;&#1077;&#1084;&#1077;&#1085;&#1085;&#1072;&#1103;%20&#1087;&#1072;&#1087;&#1082;&#1072;%201%20&#1076;&#1083;&#1103;%20163150.zip/&#1087;&#1072;&#1084;&#1103;&#1090;&#1082;&#1072;%20&#1076;&#1077;&#1090;&#1089;&#1082;&#1086;&#1077;%20&#1095;&#1090;&#1077;&#1085;&#1080;&#1077;2.doc" TargetMode="External"/><Relationship Id="rId3" Type="http://schemas.openxmlformats.org/officeDocument/2006/relationships/hyperlink" Target="file:///../Local%20Settings/Temp/&#1042;&#1088;&#1077;&#1084;&#1077;&#1085;&#1085;&#1072;&#1103;%20&#1087;&#1072;&#1087;&#1082;&#1072;%201%20&#1076;&#1083;&#1103;%20163150.zip/&#1087;&#1072;&#1084;&#1103;&#1090;&#1082;&#1072;%20&#1082;&#1072;&#1082;%20&#1085;&#1072;&#1091;&#1095;&#1080;&#1090;&#1100;%20&#1088;&#1077;&#1073;&#1077;&#1085;&#1082;&#1072;%20&#1073;&#1077;&#1088;&#1077;&#1095;&#1100;%20&#1080;%20&#1083;&#1102;&#1073;&#1080;&#1090;&#1100;.pub" TargetMode="External"/><Relationship Id="rId4" Type="http://schemas.openxmlformats.org/officeDocument/2006/relationships/hyperlink" Target="file:///../Local%20Settings/Temp/&#1042;&#1088;&#1077;&#1084;&#1077;&#1085;&#1085;&#1072;&#1103;%20&#1087;&#1072;&#1087;&#1082;&#1072;%201%20&#1076;&#1083;&#1103;%20163150.zip/&#1073;&#1091;&#1082;&#1083;&#1077;&#1090;%20&#1082;&#1072;&#1082;%20&#1088;&#1072;&#1073;&#1086;&#1090;&#1072;&#1090;&#1100;%20&#1089;%20&#1082;&#1085;&#1080;&#1075;&#1086;&#1081;.pub" TargetMode="External"/><Relationship Id="rId5" Type="http://schemas.openxmlformats.org/officeDocument/2006/relationships/hyperlink" Target="file:///../Local%20Settings/Temp/&#1042;&#1088;&#1077;&#1084;&#1077;&#1085;&#1085;&#1072;&#1103;%20&#1087;&#1072;&#1087;&#1082;&#1072;%201%20&#1076;&#1083;&#1103;%20163150.zip/SDC11972.JPG" TargetMode="External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&#1042;&#1088;&#1077;&#1084;&#1077;&#1085;&#1085;&#1072;&#1103;%20&#1087;&#1072;&#1087;&#1082;&#1072;%201%20&#1076;&#1083;&#1103;%20163150.zip/&#1090;&#1074;&#1086;&#1088;&#1095;&#1077;&#1089;&#1090;&#1074;&#1086;%20&#1095;&#1091;&#1082;&#1086;&#1074;&#1089;&#1082;&#1086;&#1075;&#1086;.2docx.doc" TargetMode="External"/><Relationship Id="rId2" Type="http://schemas.openxmlformats.org/officeDocument/2006/relationships/hyperlink" Target="file:///../Local%20Settings/Temp/&#1042;&#1088;&#1077;&#1084;&#1077;&#1085;&#1085;&#1072;&#1103;%20&#1087;&#1072;&#1087;&#1082;&#1072;%201%20&#1076;&#1083;&#1103;%20163150.zip/&#1055;&#1088;&#1077;&#1079;&#1077;&#1085;&#1090;&#1072;&#1094;&#1080;&#1103;%20&#1085;&#1072;%20&#1090;&#1077;&#1084;&#1091;%20&#1090;&#1074;&#1086;&#1088;.&#1063;&#1091;&#1082;&#1086;&#1074;.2pptx.ppt" TargetMode="External"/><Relationship Id="rId3" Type="http://schemas.openxmlformats.org/officeDocument/2006/relationships/hyperlink" Target="file:///../Local%20Settings/Temp/&#1042;&#1088;&#1077;&#1084;&#1077;&#1085;&#1085;&#1072;&#1103;%20&#1087;&#1072;&#1087;&#1082;&#1072;%201%20&#1076;&#1083;&#1103;%20163150.zip/&#1090;&#1077;&#1082;&#1089;&#1090;%20&#1101;&#1082;&#1089;&#1082;&#1091;&#1088;&#1089;.%20&#1074;%20&#1084;&#1091;&#1079;&#1077;&#1081;%20&#1095;&#1091;&#1082;..2docx.doc" TargetMode="External"/><Relationship Id="rId4" Type="http://schemas.openxmlformats.org/officeDocument/2006/relationships/hyperlink" Target="file:///../Local%20Settings/Temp/&#1042;&#1088;&#1077;&#1084;&#1077;&#1085;&#1085;&#1072;&#1103;%20&#1087;&#1072;&#1087;&#1082;&#1072;%201%20&#1076;&#1083;&#1103;%20163150.zip/&#1042;&#1080;&#1088;&#1090;&#1091;&#1072;&#1083;&#1100;&#1085;&#1072;&#1103;%20&#1101;&#1082;&#1089;&#1082;&#1091;&#1088;&#1089;&#1080;&#1103;2.ppt" TargetMode="External"/><Relationship Id="rId5" Type="http://schemas.openxmlformats.org/officeDocument/2006/relationships/hyperlink" Target="file:///../Local%20Settings/Temp/&#1042;&#1088;&#1077;&#1084;&#1077;&#1085;&#1085;&#1072;&#1103;%20&#1087;&#1072;&#1087;&#1082;&#1072;%201%20&#1076;&#1083;&#1103;%20163150.zip/SDC11895.JPG" TargetMode="External"/><Relationship Id="rId6" Type="http://schemas.openxmlformats.org/officeDocument/2006/relationships/hyperlink" Target="file:///../Local%20Settings/Temp/&#1042;&#1088;&#1077;&#1084;&#1077;&#1085;&#1085;&#1072;&#1103;%20&#1087;&#1072;&#1087;&#1082;&#1072;%201%20&#1076;&#1083;&#1103;%20163150.zip/&#1092;&#1086;&#1090;&#1086;%20&#1076;&#1077;&#1088;&#1077;&#1074;&#1086;.JPG" TargetMode="External"/><Relationship Id="rId7" Type="http://schemas.openxmlformats.org/officeDocument/2006/relationships/hyperlink" Target="file:///../Local%20Settings/Temp/&#1042;&#1088;&#1077;&#1084;&#1077;&#1085;&#1085;&#1072;&#1103;%20&#1087;&#1072;&#1087;&#1082;&#1072;%201%20&#1076;&#1083;&#1103;%20163150.zip/&#1047;&#1072;&#1075;&#1072;&#1076;&#1082;&#1080;%20&#1050;2.doc" TargetMode="Externa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&#1042;&#1088;&#1077;&#1084;&#1077;&#1085;&#1085;&#1072;&#1103;%20&#1087;&#1072;&#1087;&#1082;&#1072;%201%20&#1076;&#1083;&#1103;%20163150.zip/SDC11879.JPG" TargetMode="External"/><Relationship Id="rId2" Type="http://schemas.openxmlformats.org/officeDocument/2006/relationships/hyperlink" Target="file:///../Local%20Settings/Temp/&#1042;&#1088;&#1077;&#1084;&#1077;&#1085;&#1085;&#1072;&#1103;%20&#1087;&#1072;&#1087;&#1082;&#1072;%201%20&#1076;&#1083;&#1103;%20163150.zip/SDC11852.JPG" TargetMode="External"/><Relationship Id="rId3" Type="http://schemas.openxmlformats.org/officeDocument/2006/relationships/hyperlink" Target="file:///../Local%20Settings/Temp/&#1042;&#1088;&#1077;&#1084;&#1077;&#1085;&#1085;&#1072;&#1103;%20&#1087;&#1072;&#1087;&#1082;&#1072;%201%20&#1076;&#1083;&#1103;%20163150.zip/&#1053;&#1086;&#1076;%20&#1087;&#1086;%20&#1089;&#1082;&#1072;&#1079;&#1082;&#1072;&#1084;%20&#1063;&#1091;&#1082;&#1086;&#1074;&#1089;&#1082;&#1086;&#1075;&#1086;2.doc" TargetMode="External"/><Relationship Id="rId4" Type="http://schemas.openxmlformats.org/officeDocument/2006/relationships/hyperlink" Target="file:///../Local%20Settings/Temp/&#1042;&#1088;&#1077;&#1084;&#1077;&#1085;&#1085;&#1072;&#1103;%20&#1087;&#1072;&#1087;&#1082;&#1072;%201%20&#1076;&#1083;&#1103;%20163150.zip/&#1055;&#1088;&#1077;&#1079;&#1077;&#1085;&#1090;&#1072;&#1094;&#1080;&#1103;%20&#1082;%20&#1053;&#1054;&#1044;%20&#1089;%20&#1076;&#1077;&#1090;&#1100;&#1084;&#1080;%205-6%20&#1083;&#1077;&#1090;2.ppt" TargetMode="External"/><Relationship Id="rId5" Type="http://schemas.openxmlformats.org/officeDocument/2006/relationships/hyperlink" Target="file:///../Local%20Settings/Temp/&#1042;&#1088;&#1077;&#1084;&#1077;&#1085;&#1085;&#1072;&#1103;%20&#1087;&#1072;&#1087;&#1082;&#1072;%201%20&#1076;&#1083;&#1103;%20163150.zip/&#1055;&#1088;&#1072;&#1082;&#1090;&#1080;&#1095;&#1077;&#1089;&#1082;&#1072;&#1103;%20&#1084;&#1072;&#1089;&#1090;&#1077;&#1088;&#1089;&#1082;&#1072;&#1103;2.doc" TargetMode="External"/><Relationship Id="rId6" Type="http://schemas.openxmlformats.org/officeDocument/2006/relationships/hyperlink" Target="file:///../Local%20Settings/Temp/&#1042;&#1088;&#1077;&#1084;&#1077;&#1085;&#1085;&#1072;&#1103;%20&#1087;&#1072;&#1087;&#1082;&#1072;%201%20&#1076;&#1083;&#1103;%20163150.zip/SDC11889.JPG" TargetMode="External"/><Relationship Id="rId7" Type="http://schemas.openxmlformats.org/officeDocument/2006/relationships/hyperlink" Target="file:///../Local%20Settings/Temp/&#1042;&#1088;&#1077;&#1084;&#1077;&#1085;&#1085;&#1072;&#1103;%20&#1087;&#1072;&#1087;&#1082;&#1072;%201%20&#1076;&#1083;&#1103;%20163150.zip/&#1055;&#1086;&#1076;&#1073;&#1077;&#1088;&#1080;%20&#1082;&#1072;&#1088;&#1090;&#1080;&#1085;&#1082;&#1091;%20&#1082;%20&#1089;&#1082;&#1072;&#1079;&#1082;&#1077;%20&#1063;&#1091;&#1082;&#1086;&#1074;&#1089;&#1082;&#1086;&#1075;&#1086;.doc" TargetMode="External"/><Relationship Id="rId8" Type="http://schemas.openxmlformats.org/officeDocument/2006/relationships/hyperlink" Target="file:///../Local%20Settings/Temp/&#1042;&#1088;&#1077;&#1084;&#1077;&#1085;&#1085;&#1072;&#1103;%20&#1087;&#1072;&#1087;&#1082;&#1072;%201%20&#1076;&#1083;&#1103;%20163150.zip/&#1044;&#1080;&#1076;&#1072;&#1082;&#1090;&#1080;&#1095;&#1077;&#1089;&#1082;&#1072;&#1103;%20&#1080;&#1075;&#1088;&#1072;%20&#1059;&#1075;&#1072;&#1076;&#1072;&#1081;%20&#1082;%20&#1082;&#1072;&#1082;&#1086;&#1081;%20&#1089;&#1082;&#1072;&#1079;&#1082;&#1077;%20&#1080;&#1083;&#1083;&#1102;&#1089;&#1090;&#1088;&#1072;&#1094;&#1080;&#1103;2.ppt" TargetMode="External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&amp;Kcy;&amp;ocy;&amp;rcy;&amp;ncy;&amp;iecy;&amp;jcy; &amp;Icy;&amp;vcy;&amp;acy;&amp;ncy;&amp;ocy;&amp;vcy;&amp;icy;&amp;chcy; &amp;CHcy;&amp;ucy;&amp;kcy;&amp;ocy;&amp;vcy;&amp;scy;&amp;kcy;&amp;icy;&amp;jcy; &amp;kcy;&amp;acy;&amp;rcy;&amp;tcy;&amp;icy;&amp;ncy;&amp;kcy;&amp;acy;. - &amp;Vcy;&amp;iecy;&amp;lcy;&amp;icy;&amp;kcy;&amp;icy;&amp;iecy; &amp;Kcy;&amp;lcy;&amp;acy;&amp;scy;&amp;scy;&amp;icy;&amp;kcy;&amp;icy;..."/>
          <p:cNvPicPr/>
          <p:nvPr/>
        </p:nvPicPr>
        <p:blipFill>
          <a:blip r:embed="rId1"/>
          <a:stretch/>
        </p:blipFill>
        <p:spPr>
          <a:xfrm>
            <a:off x="3500280" y="1285920"/>
            <a:ext cx="2367000" cy="34621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7"/>
          <p:cNvSpPr/>
          <p:nvPr/>
        </p:nvSpPr>
        <p:spPr>
          <a:xfrm>
            <a:off x="1428840" y="357120"/>
            <a:ext cx="57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Творческий проект «Сказки дедушки Корнея» для детей средн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&amp;Scy;&amp;acy;&amp;gcy;&amp;lcy;&amp;acy;&amp;rcy;&amp;acy; &amp;Bcy;&amp;acy;&amp;scy;&amp;acy;&amp;ncy;&amp;gcy;&amp;ocy;&amp;vcy;&amp;acy; &amp;Vcy;&amp;Kcy;&amp;ocy;&amp;ncy;&amp;tcy;&amp;acy;&amp;kcy;&amp;tcy;&amp;iecy;"/>
          <p:cNvPicPr/>
          <p:nvPr/>
        </p:nvPicPr>
        <p:blipFill>
          <a:blip r:embed="rId2"/>
          <a:stretch/>
        </p:blipFill>
        <p:spPr>
          <a:xfrm>
            <a:off x="6572160" y="3000240"/>
            <a:ext cx="1871640" cy="1447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http://salesboom.am/files/1/259960.jpg"/>
          <p:cNvPicPr/>
          <p:nvPr/>
        </p:nvPicPr>
        <p:blipFill>
          <a:blip r:embed="rId3"/>
          <a:stretch/>
        </p:blipFill>
        <p:spPr>
          <a:xfrm>
            <a:off x="642960" y="2143080"/>
            <a:ext cx="1736640" cy="180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C&amp;tcy;&amp;icy;&amp;khcy;&amp;icy; &amp;icy; &amp;scy;&amp;kcy;&amp;acy;&amp;zcy;&amp;kcy;&amp;icy; &amp;Kcy;&amp;ocy;&amp;rcy;&amp;ncy;&amp;iecy;&amp;yacy; &amp;CHcy;&amp;ucy;&amp;kcy;&amp;ocy;&amp;vcy;&amp;scy;&amp;kcy;&amp;ocy;&amp;gcy;&amp;ocy;, &amp;chcy;&amp;icy;&amp;tcy;&amp;acy;&amp;tcy;&amp;softcy; &amp;ocy;&amp;ncy;&amp;lcy;&amp;acy;&amp;jcy;&amp;ncy; &amp;scy;&amp;pcy;&amp;icy;&amp;scy;&amp;ocy;&amp;kcy; &amp;scy;&amp;kcy;&amp;acy;&amp;zcy;&amp;ocy;&amp;kcy; &amp;icy; &amp;scy;&amp;tcy;&amp;icy;&amp;khcy;&amp;ocy;&amp;vcy; &amp;Kcy;. &amp;Icy;. &amp;CHcy;&amp;ucy;&amp;kcy;&amp;ocy;&amp;vcy;&amp;scy;&amp;kcy;&amp;ocy;&amp;gcy;&amp;ocy; &amp;Kcy;&amp;ocy;&amp;rcy;&amp;ncy;&amp;iecy;&amp;yacy; &amp;Icy;&amp;vcy;&amp;acy;&amp;ncy;&amp;ocy;&amp;vcy;&amp;icy;&amp;chcy;&amp;acy;"/>
          <p:cNvPicPr/>
          <p:nvPr/>
        </p:nvPicPr>
        <p:blipFill>
          <a:blip r:embed="rId4"/>
          <a:stretch/>
        </p:blipFill>
        <p:spPr>
          <a:xfrm>
            <a:off x="6858000" y="1071720"/>
            <a:ext cx="1378080" cy="1779480"/>
          </a:xfrm>
          <a:prstGeom prst="rect">
            <a:avLst/>
          </a:prstGeom>
          <a:ln w="0">
            <a:noFill/>
          </a:ln>
        </p:spPr>
      </p:pic>
      <p:sp>
        <p:nvSpPr>
          <p:cNvPr id="587" name="TextBox 7"/>
          <p:cNvSpPr/>
          <p:nvPr/>
        </p:nvSpPr>
        <p:spPr>
          <a:xfrm>
            <a:off x="2088000" y="4857840"/>
            <a:ext cx="54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ГБОУ Школа имени А.П. Маресь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енченко Елена Льв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02920" y="476280"/>
            <a:ext cx="6985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 этап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ценировка сказки «Телеф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Прямоугольник 3"/>
          <p:cNvSpPr/>
          <p:nvPr/>
        </p:nvSpPr>
        <p:spPr>
          <a:xfrm>
            <a:off x="2290320" y="2000160"/>
            <a:ext cx="442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 детски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4"/>
          <p:cNvSpPr/>
          <p:nvPr/>
        </p:nvSpPr>
        <p:spPr>
          <a:xfrm>
            <a:off x="2504520" y="2857680"/>
            <a:ext cx="442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 детски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Box 2"/>
          <p:cNvSpPr/>
          <p:nvPr/>
        </p:nvSpPr>
        <p:spPr>
          <a:xfrm>
            <a:off x="1366920" y="476280"/>
            <a:ext cx="65898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проекта де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 почему надо быть добрым и помогать нуждающимся в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ужно слушаться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ужно «умываться по утрам  и вечерам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адо мыть посуду и ухаживать за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&quot;&amp;Bcy;&amp;ucy;&amp;rcy;&amp;acy;&amp;tcy;&amp;icy;&amp;ncy;&amp;ocy;&quot; &amp;pcy;&amp;rcy;&amp;iecy;&amp;dcy;&amp;scy;&amp;tcy;&amp;acy;&amp;vcy;&amp;icy;&amp;tcy; &amp;ncy;&amp;iecy;&amp;ocy;&amp;bcy;&amp;ycy;&amp;chcy;&amp;ncy;&amp;ucy;&amp;yucy; &amp;tcy;&amp;rcy;&amp;acy;&amp;kcy;&amp;tcy;&amp;ocy;&amp;vcy;&amp;kcy;&amp;ucy; &amp;zcy;&amp;acy;&amp;mcy;&amp;iecy;&amp;chcy;&amp;acy;&amp;tcy;&amp;iecy;&amp;lcy;&amp;softcy;&amp;ncy;&amp;ocy;&amp;jcy;..."/>
          <p:cNvPicPr/>
          <p:nvPr/>
        </p:nvPicPr>
        <p:blipFill>
          <a:blip r:embed="rId1"/>
          <a:stretch/>
        </p:blipFill>
        <p:spPr>
          <a:xfrm>
            <a:off x="2843280" y="4287960"/>
            <a:ext cx="2035080" cy="15271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&amp;Icy;&amp;lcy;&amp;lcy;&amp;yucy;&amp;scy;&amp;tcy;&amp;rcy;&amp;acy;&amp;tscy;&amp;icy;&amp;icy; &amp;kcy; &amp;scy;&amp;kcy;&amp;acy;&amp;zcy;&amp;kcy;&amp;acy;&amp;mcy; &amp;chcy;&amp;ucy;&amp;kcy;&amp;ocy;&amp;vcy;&amp;scy;&amp;kcy;&amp;ocy;&amp;gcy;&amp;ocy; &amp;scy;&amp;kcy;&amp;acy;&amp;chcy;&amp;acy;&amp;tcy;&amp;softcy;, &amp;Icy;&amp;lcy;&amp;lcy;&amp;yucy;&amp;scy;&amp;tcy;&amp;rcy;&amp;acy;&amp;tscy;&amp;icy;&amp;yacy; 1 &amp;icy;&amp;zcy; 69 &amp;dcy;&amp;lcy;&amp;yacy; &amp;scy;&amp;kcy;&amp;acy;&amp;zcy;&amp;kcy;&amp;icy; &amp;chcy;&amp;ucy;&amp;kcy;&amp;ocy;&amp;vcy;&amp;scy;&amp;kcy;&amp;ocy;&amp;gcy;&amp;ocy; &amp;vcy; &amp;kcy;&amp;acy;&amp;rcy;&amp;tcy;&amp;icy;&amp;ncy;&amp;kcy;&amp;acy;&amp;khcy; - &amp;vcy;&amp;acy;&amp;rcy;&amp;iecy;&amp;zcy;"/>
          <p:cNvPicPr/>
          <p:nvPr/>
        </p:nvPicPr>
        <p:blipFill>
          <a:blip r:embed="rId2"/>
          <a:stretch/>
        </p:blipFill>
        <p:spPr>
          <a:xfrm>
            <a:off x="5435640" y="4292640"/>
            <a:ext cx="13860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1"/>
          <p:cNvSpPr/>
          <p:nvPr/>
        </p:nvSpPr>
        <p:spPr>
          <a:xfrm>
            <a:off x="719280" y="1275480"/>
            <a:ext cx="842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умент ФГОС 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ней Чуковский // Русская литература для детей: Учеб. пособие / Под ред. Т. Д. Полозовой. – М., 2000. – С.317-322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ней Иванович Чуковский // Я познаю мир: Детская энциклопедия: Литература. – М.: АСТ, 1997. – С.417-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знецова, Н., Литературные конкурсы/Н. Кузнецова// Дошкольное воспитание: 2010 - №8 - С. 56-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кляева, Н.В. Читаем и обыгрываем сказки/Н.В. Микляева//Ребенок в детском саду: 2011 - № 2 - С. 31-34,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трет К.И. Чуковск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изведения К.И. Чуковск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нет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6048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2" descr="http://chelnochok.do.am/_si/0/90823308.jpg"/>
          <p:cNvPicPr/>
          <p:nvPr/>
        </p:nvPicPr>
        <p:blipFill>
          <a:blip r:embed="rId1"/>
          <a:stretch/>
        </p:blipFill>
        <p:spPr>
          <a:xfrm>
            <a:off x="6227640" y="1484280"/>
            <a:ext cx="2565360" cy="3029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http://hotab.ru/imajes/doktor/doktor006.jpg"/>
          <p:cNvPicPr/>
          <p:nvPr/>
        </p:nvPicPr>
        <p:blipFill>
          <a:blip r:embed="rId2"/>
          <a:stretch/>
        </p:blipFill>
        <p:spPr>
          <a:xfrm>
            <a:off x="2550960" y="2852640"/>
            <a:ext cx="3888000" cy="2826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http://www.intelkot.ru/upload/14230.jpg"/>
          <p:cNvPicPr/>
          <p:nvPr/>
        </p:nvPicPr>
        <p:blipFill>
          <a:blip r:embed="rId3"/>
          <a:stretch/>
        </p:blipFill>
        <p:spPr>
          <a:xfrm>
            <a:off x="404640" y="1386000"/>
            <a:ext cx="217512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3"/>
          <p:cNvSpPr/>
          <p:nvPr/>
        </p:nvSpPr>
        <p:spPr>
          <a:xfrm>
            <a:off x="1403280" y="476280"/>
            <a:ext cx="6985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ая литература открывает и объясняет ребенку жизнь общества и природы, мир человеческих чувств и взаимоотношений. Она развивает мышление и воображение ребенка, обобщает его эмоции, дает прекрасные образцы русского литературного языка. Произведения К. И.Чуковского имеют огромное воспитательное, познавательное и эстетическое, т.к. они расширяют кругозор ребенка, воздействуют на личность малыша, развивают умение тонко чувствовать форму и ритм родного языка. Реализация данного педагогического проекта обеспечит психологическое формирование читателя в дошкольнике. А увлекательное общение с творчеством К.И.Чуковского будет способствовать развитию интереса к книге, что будет являться неотъемлемой частью системы образования дошкольников на этапе становления современной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детей с жизнью и творчеством К.И. Чуковского, закрепление и систематизация знаний сказок и стихов русского писа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7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ознакомить детей с творчеством К.И.Чуковск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Формировать  у детей устойчивый интерес к чте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Воспитывать у детей чувство сострадания к слабым и беззащитным. На          произведениях К.И. Чуковского показать, что добро побеждает зл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Развивать творческие способности дошкольник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1"/>
          <p:cNvSpPr/>
          <p:nvPr/>
        </p:nvSpPr>
        <p:spPr>
          <a:xfrm>
            <a:off x="1258920" y="333360"/>
            <a:ext cx="75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ционно-твор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срочный (1 меся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образовательных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, познавательное развитие, социально-коммуникативное развитие, художественно-эстетическое разв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средней группы, родители, воспит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http://122012.imgbb.ru/user/22/227913/1/b434009518ca7098cf9f7c2463008a84.jpg"/>
          <p:cNvPicPr/>
          <p:nvPr/>
        </p:nvPicPr>
        <p:blipFill>
          <a:blip r:embed="rId1"/>
          <a:stretch/>
        </p:blipFill>
        <p:spPr>
          <a:xfrm>
            <a:off x="2843280" y="3500280"/>
            <a:ext cx="331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 вопрос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10920" y="1484280"/>
            <a:ext cx="8281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му учат сказки Чуковского К.И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е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.И. Чуковский начал писать детские сказк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герои сказок К.И. Чуковского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деть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«Что мы знаем о К.И.Чуковском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Прямоугольник 2"/>
          <p:cNvSpPr/>
          <p:nvPr/>
        </p:nvSpPr>
        <p:spPr>
          <a:xfrm>
            <a:off x="1258920" y="148428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ая агитаци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«Путь в страну к книг. От слушателя – к читател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«Детское чтение - это не просто чтение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«Как научить детей беречь и любить кни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ле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«Как работать с книг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книжного уг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масок-шапоч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инсценирования сказки «Телеф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187280" y="1052640"/>
            <a:ext cx="766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Знакомство детей с творчеством К.И.Чуковс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резент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Виртуальная экскурсия в дом-музей К.И. Чуковс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презент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 маке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«Чудо-дере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 К. И. Чуковского (сказки, стихи, песенк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Загадывание детям загадок Чуков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я сюжетов знакомых сказок Чуков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1331640" y="333360"/>
            <a:ext cx="76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деятельность детей и родителей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«Портреты героев сказок дедушки Корне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на тему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«Любимые сказки К.И. Чуковског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НОД «Путешествие по сказкам К.И. Чуковского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презент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Практическая мастерска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«Украсим посуду бабушке Федоре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ппликац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«Подбери картинку к сказке Чуковского»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«Угадай, к какой сказке иллюстрация»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ому герою принадлежит вещь?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«Путешествие по дорогам сказок Чуковского» (презентац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3:49:57Z</dcterms:created>
  <dc:creator>Компас</dc:creator>
  <dc:description/>
  <dc:language>en-US</dc:language>
  <cp:lastModifiedBy>1539-LENOVO-note-g50</cp:lastModifiedBy>
  <dcterms:modified xsi:type="dcterms:W3CDTF">2020-06-19T11:36:35Z</dcterms:modified>
  <cp:revision>122</cp:revision>
  <dc:subject/>
  <dc:title>Проект «Знакомство с творчеством К.И. Чуковского»</dc:title>
</cp:coreProperties>
</file>