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E758-3250-46FA-91AB-1DDEEF7FD9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150B-86B5-4558-93D8-AB80EAF72A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A37E-8667-4D46-A7E9-6E5631B2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505F-1A4D-4F24-8FA7-9B165D43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2004-9215-4FDE-A964-6E9BD2297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4DE0-7428-4EF1-9B2A-19E72B74A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FAB7-EE38-4BD8-A781-937936CB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D039-7BE0-4649-9CCC-177C6DD0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D6FB-621B-42F5-AE4E-1E9E9292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263A-8C22-44DD-A5DC-5E7F2376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1649-4B3C-4C40-8A2C-2C1B30C5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7236-E9B7-4FA6-9E7F-3AFA39B9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6CC6-2909-4758-8C17-06087371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6EA0-377B-4B59-B0B8-7DA7F179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d5b5"/>
            </a:gs>
            <a:gs pos="100000">
              <a:srgbClr val="3366ff"/>
            </a:gs>
          </a:gsLst>
          <a:lin ang="3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5411-5B8B-4D82-841F-D166E4868F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http://im0-tub-ru.yandex.net/i?id=140762283-26-72&amp;n=21"/>
          <p:cNvPicPr/>
          <p:nvPr/>
        </p:nvPicPr>
        <p:blipFill>
          <a:blip r:embed="rId1"/>
          <a:stretch/>
        </p:blipFill>
        <p:spPr>
          <a:xfrm>
            <a:off x="395280" y="260280"/>
            <a:ext cx="2154240" cy="273708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  <p:pic>
        <p:nvPicPr>
          <p:cNvPr id="49" name="Picture 7" descr="http://im6-tub-ru.yandex.net/i?id=239491520-05-72&amp;n=21"/>
          <p:cNvPicPr/>
          <p:nvPr/>
        </p:nvPicPr>
        <p:blipFill>
          <a:blip r:embed="rId2"/>
          <a:stretch/>
        </p:blipFill>
        <p:spPr>
          <a:xfrm>
            <a:off x="6443640" y="3500280"/>
            <a:ext cx="2376360" cy="297036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  <p:pic>
        <p:nvPicPr>
          <p:cNvPr id="50" name="Прямоугольник 4" descr=""/>
          <p:cNvPicPr/>
          <p:nvPr/>
        </p:nvPicPr>
        <p:blipFill>
          <a:blip r:embed="rId3"/>
          <a:stretch/>
        </p:blipFill>
        <p:spPr>
          <a:xfrm>
            <a:off x="2408400" y="798480"/>
            <a:ext cx="6778440" cy="15238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5"/>
          <p:cNvSpPr/>
          <p:nvPr/>
        </p:nvSpPr>
        <p:spPr>
          <a:xfrm>
            <a:off x="0" y="5595840"/>
            <a:ext cx="6300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готовила: воспитатель МКДОУ «Садовский детский сад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пова Ольга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181440" y="-360"/>
            <a:ext cx="9325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рудование для сказкотерапи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ластиковые и деревянные персонажи  людей и живот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расочные картин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 сюжету сказ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5940360" y="1628640"/>
            <a:ext cx="2925720" cy="206064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3095640" cy="203364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pic>
        <p:nvPicPr>
          <p:cNvPr id="77" name="Picture 7" descr=""/>
          <p:cNvPicPr/>
          <p:nvPr/>
        </p:nvPicPr>
        <p:blipFill>
          <a:blip r:embed="rId3"/>
          <a:stretch/>
        </p:blipFill>
        <p:spPr>
          <a:xfrm>
            <a:off x="3492360" y="2924280"/>
            <a:ext cx="2303640" cy="364644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1258920" y="14130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ски-обод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0" y="476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рудование для сказкотерап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4" descr="20190329_141711.jpg"/>
          <p:cNvPicPr/>
          <p:nvPr/>
        </p:nvPicPr>
        <p:blipFill>
          <a:blip r:embed="rId1"/>
          <a:stretch/>
        </p:blipFill>
        <p:spPr>
          <a:xfrm>
            <a:off x="971640" y="2205000"/>
            <a:ext cx="7092720" cy="3989520"/>
          </a:xfrm>
          <a:prstGeom prst="rect">
            <a:avLst/>
          </a:prstGeom>
          <a:ln w="5724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уктура сказкотерапевтического занятия содержит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1825200"/>
            <a:ext cx="8515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уал «входа в сказку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строй на совместную работу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ую ча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бсуждение сказ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уал «выхода из сказки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8" descr="http://www.vgafk.ru/upload/medialibrary/4c4/skazkoterapiya.jpg"/>
          <p:cNvPicPr/>
          <p:nvPr/>
        </p:nvPicPr>
        <p:blipFill>
          <a:blip r:embed="rId1"/>
          <a:stretch/>
        </p:blipFill>
        <p:spPr>
          <a:xfrm>
            <a:off x="4788000" y="3573360"/>
            <a:ext cx="4068720" cy="29606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C:\Users\Василич\Desktop\сказкотерапия\IMG-ab4fa66cb429b470696230f3e32fcec0-V.jpg"/>
          <p:cNvPicPr/>
          <p:nvPr/>
        </p:nvPicPr>
        <p:blipFill>
          <a:blip r:embed="rId1"/>
          <a:stretch/>
        </p:blipFill>
        <p:spPr>
          <a:xfrm>
            <a:off x="250920" y="260280"/>
            <a:ext cx="3673440" cy="206532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85" name="Picture 4" descr="C:\Users\Василич\Desktop\сказкотерапия\IMG-a8d9bbb7caefb1b7fee0b437db4660dd-V.jpg"/>
          <p:cNvPicPr/>
          <p:nvPr/>
        </p:nvPicPr>
        <p:blipFill>
          <a:blip r:embed="rId2"/>
          <a:stretch/>
        </p:blipFill>
        <p:spPr>
          <a:xfrm>
            <a:off x="5219640" y="182520"/>
            <a:ext cx="3600360" cy="2024280"/>
          </a:xfrm>
          <a:prstGeom prst="rect">
            <a:avLst/>
          </a:prstGeom>
          <a:ln w="57240">
            <a:solidFill>
              <a:srgbClr val="00b0f0"/>
            </a:solidFill>
            <a:miter/>
          </a:ln>
        </p:spPr>
      </p:pic>
      <p:pic>
        <p:nvPicPr>
          <p:cNvPr id="86" name="Picture 5" descr="C:\Users\Василич\Desktop\сказкотерапия\IMG-594463e3627b572a57297b2f4d7cb8d5-V.jpg"/>
          <p:cNvPicPr/>
          <p:nvPr/>
        </p:nvPicPr>
        <p:blipFill>
          <a:blip r:embed="rId3"/>
          <a:stretch/>
        </p:blipFill>
        <p:spPr>
          <a:xfrm>
            <a:off x="324000" y="4489560"/>
            <a:ext cx="3887640" cy="218592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87" name="Picture 6" descr="C:\Users\Василич\Desktop\сказкотерапия\IMG-57d08132614077542d3020966410e055-V.jpg"/>
          <p:cNvPicPr/>
          <p:nvPr/>
        </p:nvPicPr>
        <p:blipFill>
          <a:blip r:embed="rId4"/>
          <a:stretch/>
        </p:blipFill>
        <p:spPr>
          <a:xfrm>
            <a:off x="4840200" y="4437000"/>
            <a:ext cx="4052880" cy="2279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88" name="Picture 2" descr="C:\Users\Василич\Desktop\сказкотерапия\IMG-35b64571ac23238cda1b7e929cace192-V.jpg"/>
          <p:cNvPicPr/>
          <p:nvPr/>
        </p:nvPicPr>
        <p:blipFill>
          <a:blip r:embed="rId5"/>
          <a:stretch/>
        </p:blipFill>
        <p:spPr>
          <a:xfrm>
            <a:off x="3419640" y="1628640"/>
            <a:ext cx="2089080" cy="34610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89" name="TextBox 6"/>
          <p:cNvSpPr/>
          <p:nvPr/>
        </p:nvSpPr>
        <p:spPr>
          <a:xfrm>
            <a:off x="0" y="2781360"/>
            <a:ext cx="33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ая народная сказ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5867280" y="285264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Терем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8" descr="IMG-3a8fcd1b2a371784fd357d12cdb412b6-V.jpg"/>
          <p:cNvPicPr/>
          <p:nvPr/>
        </p:nvPicPr>
        <p:blipFill>
          <a:blip r:embed="rId1"/>
          <a:stretch/>
        </p:blipFill>
        <p:spPr>
          <a:xfrm>
            <a:off x="0" y="0"/>
            <a:ext cx="3708360" cy="292428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  <p:pic>
        <p:nvPicPr>
          <p:cNvPr id="92" name="Рисунок 9" descr="IMG-330cd5cdec9799b278f21a98726e55b2-V.jpg"/>
          <p:cNvPicPr/>
          <p:nvPr/>
        </p:nvPicPr>
        <p:blipFill>
          <a:blip r:embed="rId2"/>
          <a:stretch/>
        </p:blipFill>
        <p:spPr>
          <a:xfrm>
            <a:off x="5348160" y="0"/>
            <a:ext cx="3795840" cy="26370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93" name="Рисунок 10" descr="IMG-378c1b547d407d9bde2886568fafe933-V.jpg"/>
          <p:cNvPicPr/>
          <p:nvPr/>
        </p:nvPicPr>
        <p:blipFill>
          <a:blip r:embed="rId3"/>
          <a:stretch/>
        </p:blipFill>
        <p:spPr>
          <a:xfrm>
            <a:off x="5508720" y="3860640"/>
            <a:ext cx="3635280" cy="299736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94" name="Рисунок 12" descr="IMG-ef95a302013b76a143160b1cec3cefe0-V.jpg"/>
          <p:cNvPicPr/>
          <p:nvPr/>
        </p:nvPicPr>
        <p:blipFill>
          <a:blip r:embed="rId4"/>
          <a:stretch/>
        </p:blipFill>
        <p:spPr>
          <a:xfrm>
            <a:off x="0" y="4043520"/>
            <a:ext cx="3645000" cy="2814480"/>
          </a:xfrm>
          <a:prstGeom prst="rect">
            <a:avLst/>
          </a:prstGeom>
          <a:ln w="57240">
            <a:solidFill>
              <a:srgbClr val="00b0f0"/>
            </a:solidFill>
            <a:miter/>
          </a:ln>
        </p:spPr>
      </p:pic>
      <p:pic>
        <p:nvPicPr>
          <p:cNvPr id="95" name="Рисунок 11" descr="IMG-eec333e0f3a0b993902e8a50d4a65ddf-V.jpg"/>
          <p:cNvPicPr/>
          <p:nvPr/>
        </p:nvPicPr>
        <p:blipFill>
          <a:blip r:embed="rId5"/>
          <a:stretch/>
        </p:blipFill>
        <p:spPr>
          <a:xfrm>
            <a:off x="3492360" y="1341360"/>
            <a:ext cx="2232000" cy="3738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96" name="TextBox 13"/>
          <p:cNvSpPr/>
          <p:nvPr/>
        </p:nvSpPr>
        <p:spPr>
          <a:xfrm>
            <a:off x="0" y="3141720"/>
            <a:ext cx="33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мыцкая ска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4"/>
          <p:cNvSpPr/>
          <p:nvPr/>
        </p:nvSpPr>
        <p:spPr>
          <a:xfrm>
            <a:off x="5219640" y="278136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собака  искала друга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Cambria Math"/>
              </a:rPr>
              <a:t>ВЫВОД: «СКАЗКОТЕРАПИЯ  в ДОУ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3708360" y="765000"/>
            <a:ext cx="5435640" cy="62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Это способ воспитания у ребенка особого отношения к миру, принятого в обществе, способ передачи ребенку необходимых моральных норм и правил, общечеловеческих цен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В процессе слушания, придумывания и обсуждения сказки у ребенка развиваются фантазия, творчество.    Он усваивает основные механизмы поиска и принятия ре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Работа со сказкой направлена непосредственно на лечение и помощь ребенку. Создаются условия, в которых ребенок, работая со сказкой (читая, придумывая, разыгрывая, продолжая), находит решения своих жизненных проблем. Учится преодолевать трудности, бороться со страх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http://im5-tub-ru.yandex.net/i?id=92471940-06-72&amp;n=21"/>
          <p:cNvPicPr/>
          <p:nvPr/>
        </p:nvPicPr>
        <p:blipFill>
          <a:blip r:embed="rId1"/>
          <a:stretch/>
        </p:blipFill>
        <p:spPr>
          <a:xfrm>
            <a:off x="971640" y="3933720"/>
            <a:ext cx="1800000" cy="262116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  <p:pic>
        <p:nvPicPr>
          <p:cNvPr id="101" name="Picture 5" descr="http://im6-tub-ru.yandex.net/i?id=489778984-43-72&amp;n=21"/>
          <p:cNvPicPr/>
          <p:nvPr/>
        </p:nvPicPr>
        <p:blipFill>
          <a:blip r:embed="rId2"/>
          <a:stretch/>
        </p:blipFill>
        <p:spPr>
          <a:xfrm>
            <a:off x="250920" y="765000"/>
            <a:ext cx="3205080" cy="316872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8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onotype Corsiva"/>
              </a:rPr>
              <a:t>Счастливого сказочного путешествия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http://im0-tub-ru.yandex.net/i?id=47102186-46-72&amp;n=21"/>
          <p:cNvPicPr/>
          <p:nvPr/>
        </p:nvPicPr>
        <p:blipFill>
          <a:blip r:embed="rId1"/>
          <a:stretch/>
        </p:blipFill>
        <p:spPr>
          <a:xfrm>
            <a:off x="3059280" y="2852640"/>
            <a:ext cx="2736720" cy="291168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  <p:pic>
        <p:nvPicPr>
          <p:cNvPr id="104" name="Picture 7" descr="http://im2-tub-ru.yandex.net/i?id=23211567-58-72&amp;n=21"/>
          <p:cNvPicPr/>
          <p:nvPr/>
        </p:nvPicPr>
        <p:blipFill>
          <a:blip r:embed="rId2"/>
          <a:stretch/>
        </p:blipFill>
        <p:spPr>
          <a:xfrm>
            <a:off x="539640" y="2276640"/>
            <a:ext cx="1800360" cy="245556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  <p:pic>
        <p:nvPicPr>
          <p:cNvPr id="105" name="Picture 9" descr="http://im4-tub-ru.yandex.net/i?id=78272296-13-72&amp;n=21"/>
          <p:cNvPicPr/>
          <p:nvPr/>
        </p:nvPicPr>
        <p:blipFill>
          <a:blip r:embed="rId3"/>
          <a:stretch/>
        </p:blipFill>
        <p:spPr>
          <a:xfrm>
            <a:off x="6372360" y="3933720"/>
            <a:ext cx="2016000" cy="251964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2"/>
          <p:cNvSpPr/>
          <p:nvPr/>
        </p:nvSpPr>
        <p:spPr>
          <a:xfrm>
            <a:off x="1403280" y="33336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уальность 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468360" y="1052640"/>
            <a:ext cx="83516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развития эмоционально-волевой сферы детей дошкольного и младшего школьного возраста очень низок. Страхи, тревоги, агрессия – это уже те понятия, которые очень близко идут по жизни вместе с нашими детьми. Рассмотрев возможности оптимизации психолого-педагогической работы, я пришла к заключению о незаменимости такого метода, как </a:t>
            </a:r>
            <a:r>
              <a:rPr b="0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казкотерап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2"/>
          <p:cNvSpPr/>
          <p:nvPr/>
        </p:nvSpPr>
        <p:spPr>
          <a:xfrm>
            <a:off x="539640" y="404640"/>
            <a:ext cx="63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и метод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"/>
          <p:cNvSpPr/>
          <p:nvPr/>
        </p:nvSpPr>
        <p:spPr>
          <a:xfrm>
            <a:off x="250920" y="1278720"/>
            <a:ext cx="741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ация творческого созидающего нача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ытие глубин собственного внутреннего ми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его самосоз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http://deti-yar.ru/upload/hotsale_ua_20120515_140204.jpg"/>
          <p:cNvPicPr/>
          <p:nvPr/>
        </p:nvPicPr>
        <p:blipFill>
          <a:blip r:embed="rId1"/>
          <a:stretch/>
        </p:blipFill>
        <p:spPr>
          <a:xfrm>
            <a:off x="4643280" y="3789360"/>
            <a:ext cx="411336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503280" y="647280"/>
            <a:ext cx="864072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онимания эмоционального       состояния     героев сказок и своего собственног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навыков выразительной и эмоциональной передачи игровых и сказочных образ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детского творчества в различных видах деятельности (продуктивная, речевая, художественная, игрова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навыков связной (диалогической, монологической) речи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интереса к сказка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умения выступать вместе с коллективом сверс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395280" y="333360"/>
            <a:ext cx="59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 метод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ункции сказок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иагностическая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явление существующей проблемы ребенк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гностическая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(выявление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нних детских переживаний)</a:t>
            </a: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ерапевтическая  (коррекционная) </a:t>
            </a: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бенку предлагается положительный пример поведен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Сказкотерапия </a:t>
            </a:r>
            <a:r>
              <a:rPr b="0" lang="ru-RU" sz="4000" spc="-1" strike="noStrike">
                <a:solidFill>
                  <a:srgbClr val="660066"/>
                </a:solidFill>
                <a:latin typeface="Comic Sans MS"/>
              </a:rPr>
              <a:t>- </a:t>
            </a:r>
            <a:r>
              <a:rPr b="0" i="1" lang="ru-RU" sz="4000" spc="-1" strike="noStrike">
                <a:solidFill>
                  <a:srgbClr val="660066"/>
                </a:solidFill>
                <a:latin typeface="Comic Sans MS"/>
              </a:rPr>
              <a:t>«лечение сказкой»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казка – любимый детьми жанр, понятный и доступный их пониман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Comic Sans MS"/>
              </a:rPr>
              <a:t>Сказки — это кладезь мудрости, советов, доброты и выходов из различных ситуац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http://im4-tub-ru.yandex.net/i?id=277457511-36-72&amp;n=21"/>
          <p:cNvPicPr/>
          <p:nvPr/>
        </p:nvPicPr>
        <p:blipFill>
          <a:blip r:embed="rId1"/>
          <a:stretch/>
        </p:blipFill>
        <p:spPr>
          <a:xfrm>
            <a:off x="6443640" y="3728880"/>
            <a:ext cx="2376360" cy="287352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  <p:pic>
        <p:nvPicPr>
          <p:cNvPr id="64" name="Picture 9" descr="http://im3-tub-ru.yandex.net/i?id=147631740-16-72&amp;n=21"/>
          <p:cNvPicPr/>
          <p:nvPr/>
        </p:nvPicPr>
        <p:blipFill>
          <a:blip r:embed="rId2"/>
          <a:stretch/>
        </p:blipFill>
        <p:spPr>
          <a:xfrm>
            <a:off x="539640" y="4221000"/>
            <a:ext cx="1440000" cy="224964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88688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азкотерапия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62064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аждой группы сказок есть своя возрастная детская аудитор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ям 3-5 ле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понятны и близки сказки о животных и сказки о взаимодействии людей и животных. В этом возрасте дети часто идентифицируют себя с животными, легко перевоплощаются в них, копируя их манеру повед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5 л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ебенок идентифицирует себя с человеческими персонажами: принцами, царевнами, солдатами и ему нравятся сказки о людях, потому что в этих историях содержится рассказ о том, как человек познает мир. Методом сказкотерапии можно работать с малышами от 3-х лет. Зинкевич – Евстигнеева считает, что сказку, как лекарство, можно применять с 4-х летнего возраста, потому, что результативным средством воздействия сказкотерапия становится только тогда, когда человек четко осознает отличие сказки и выдумки от жизни и реальности. А у ребенка это осознание начинается как раз на рубеже 4-х лет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сказкотерапевтическом  процессе  выделяют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500"/>
            </a:br>
            <a:r>
              <a:rPr b="1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ять видов сказок</a:t>
            </a:r>
            <a:br>
              <a:rPr sz="25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классификация Т.Д. Зинкевич - Евстигнеевой)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60128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идактическ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в форме учебного задания также учебные задания и инструк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дитативные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для снятия психоэмоционального напряжения). Похожи на путешеств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сихотерапевтическ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для лечения души, с образом главного героя “Я”, доброго волшеб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сихокоррекционные 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для мягкого влияния на поведение ребенк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Художественные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знакомство ребенка с эстетическими принципами, традициями человечества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080" y="-74880"/>
            <a:ext cx="916956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ffffff"/>
                </a:solidFill>
                <a:latin typeface="Calibri"/>
              </a:rPr>
              <a:t>Оборудование для сказкотерапии: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1125000"/>
            <a:ext cx="862488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уклы бибаб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перчаточные  кукл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альчиковые кук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C:\Users\Иван\Desktop\Театр бибабо.jpg"/>
          <p:cNvPicPr/>
          <p:nvPr/>
        </p:nvPicPr>
        <p:blipFill>
          <a:blip r:embed="rId1"/>
          <a:stretch/>
        </p:blipFill>
        <p:spPr>
          <a:xfrm>
            <a:off x="4859280" y="765000"/>
            <a:ext cx="3849840" cy="382608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pic>
        <p:nvPicPr>
          <p:cNvPr id="72" name="Picture 5" descr="C:\Users\Иван\Desktop\Пальчиковые куклы.jpg"/>
          <p:cNvPicPr/>
          <p:nvPr/>
        </p:nvPicPr>
        <p:blipFill>
          <a:blip r:embed="rId2"/>
          <a:stretch/>
        </p:blipFill>
        <p:spPr>
          <a:xfrm>
            <a:off x="395280" y="3429000"/>
            <a:ext cx="3948120" cy="302436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8T10:13:06Z</dcterms:created>
  <dc:creator>Матюха</dc:creator>
  <dc:description/>
  <dc:language>en-US</dc:language>
  <cp:lastModifiedBy>сон</cp:lastModifiedBy>
  <dcterms:modified xsi:type="dcterms:W3CDTF">2020-08-05T18:14:51Z</dcterms:modified>
  <cp:revision>67</cp:revision>
  <dc:subject/>
  <dc:title>Слайд 1</dc:title>
</cp:coreProperties>
</file>