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B11-2641-43DF-8F05-6C231805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67D-5EC8-427C-9A09-9183C76B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17E-35DD-43F2-B983-B257454A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918-1CB0-4E73-BBA1-F6A29CA7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7581-EB6D-4EA8-BC57-DCA7E607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D7F4-3CCE-42B4-8479-9AE572E0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8569-913B-4071-ADF6-859D4786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2451-7E5A-418E-9DD2-35169A21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CA3B-CB69-4476-A81B-1631D23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AC24-FDE4-40FB-AD57-FCB566C6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1958-3CBE-4C63-B75C-21F7CF16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7B6-0082-47C1-9B81-DF97A39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9E6A-5B52-46C5-A732-EB0DF5D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4DD7-D11D-4B98-98AF-8DDD049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FF97-8A67-478C-9A2F-A4A0A011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1906-A752-447D-956A-A143ADB9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CE55-F0B3-482A-9656-826D16C9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C89-7989-43BC-A071-B970EF5C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63B-4060-47C5-9B33-CCA70A94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9F4-0D88-4E44-8BB3-E7FAAAC7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A7B-8252-4C96-9716-D74AE218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A66-B56B-4400-8165-61006CAD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345-5D9A-4E11-8745-C5FC678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285-6F8B-46AB-9117-C9CC1E2D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3BB5-26D8-42AD-B589-273C59A187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9EA5-415A-432A-8B8E-F21B23CC74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Формирование глубинной и поверхностной структуры предложени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530028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ДОУ №10 «Алёнуш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– логопед  Смирнова О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C:\Windows\system32\config\systemprofile\Desktop\достижения О\Манка\Предложение 11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Windows\system32\config\systemprofile\Desktop\достижения О\Манка\Предложение 2.jpg"/>
          <p:cNvPicPr/>
          <p:nvPr/>
        </p:nvPicPr>
        <p:blipFill>
          <a:blip r:embed="rId1"/>
          <a:stretch/>
        </p:blipFill>
        <p:spPr>
          <a:xfrm>
            <a:off x="0" y="-33480"/>
            <a:ext cx="91486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:\Windows\system32\config\systemprofile\Desktop\достижения О\Манка\Предложение 10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C:\Windows\system32\config\systemprofile\Desktop\достижения О\Манка\Предложение 9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Windows\system32\config\systemprofile\Desktop\достижения О\Манка\Предложение 8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C:\Windows\system32\config\systemprofile\Desktop\достижения О\Манка\Предложение 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C:\Windows\system32\config\systemprofile\Desktop\достижения О\Манка\Предложение 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ожные предложе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чиненное предложение (составляющие его простые предложения равноправны по смыслу и связаны сочинительными союзам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подчиненное предложение: (одно простое предложение по смыслу подчинено другому и связано с ним подчинительным союзом или союзным слово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C:\Windows\system32\config\systemprofile\Desktop\достижения О\Манка\Предложение 5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:\Windows\system32\config\systemprofile\Desktop\достижения О\Манка\Предложение 4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ть умение строить простое распространённое предложение: учить переходить от назывных и неполных предложений к использованию всех видов предлож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ть умение пользоваться предложениями с однородными членами, с сочинением и подчин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ть элементарное представление о предложениях, их струк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хема предложе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_______    _______    _______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 flipV="1">
            <a:off x="755640" y="306828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Windows\system32\config\systemprofile\Desktop\достижения О\Манка\Предложение 12.jpg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Windows\system32\config\systemprofile\Desktop\достижения О\Манка\Предложение 3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Предложение является основной единицей речи как орудия мышления и общения».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.Н. Гвозд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апы возникновени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чевого высказы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внутренней схемы, глубинно-семантической структуры высказы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е этой глубинно-семантической структуры с помощью средств языка в поверхностную структуру пред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убинно-семантические отнош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бъектное — отношение между  деятелем и действ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ктное — отношение между действием и объектом действ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кативное — отношение между действием и местом действ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менное — отношение между действием и временем действ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альное — отношение между действием и орудием действ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рибутивное — отношение, выявляющее свойства субъекта или объекта,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работы по формированию структуры предло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усоставные предложения (подлежащее — сказуемое), включающие существительное + глагол 3 лица настоящего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ие двусоставные предло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ространенное предложение из 3—4 слов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) подлежащее — сказуемое — прямое дополнени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подлежащее — сказуемое — прямое дополнение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косвенное дополнение (дательный падеж существительног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длежащее — сказуемое — прямое дополнение — косвенное      дополнение (творительный падеж со значением орудия действи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подлежащее — сказуемое — обстоятельство места (предложно-падежная конструкци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подлежащее — сказуемое — обстоятельство места, времени, образа действия, выраженное нареч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стое распространенное предложе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ные  члены предлож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степенные члены - дополнение, обстоятельство и определ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Windows\system32\config\systemprofile\Desktop\достижения О\Манка\Предло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:\Windows\system32\config\systemprofile\Desktop\достижения О\Манка\Предложение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2:41:40Z</dcterms:created>
  <dc:creator>user</dc:creator>
  <dc:description/>
  <dc:language>en-US</dc:language>
  <cp:lastModifiedBy>Смирнов</cp:lastModifiedBy>
  <dcterms:modified xsi:type="dcterms:W3CDTF">2020-08-05T14:51:34Z</dcterms:modified>
  <cp:revision>10</cp:revision>
  <dc:subject/>
  <dc:title>«Формирование глубинной и поверхностной структуры предложения»</dc:title>
</cp:coreProperties>
</file>