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9.png" ContentType="image/png"/>
  <Override PartName="/ppt/media/image7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13.png" ContentType="image/png"/>
  <Override PartName="/ppt/media/image8.png" ContentType="image/png"/>
  <Override PartName="/ppt/media/image28.gif" ContentType="image/gif"/>
  <Override PartName="/ppt/media/image4.gif" ContentType="image/gif"/>
  <Override PartName="/ppt/media/image12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27.png" ContentType="image/png"/>
  <Override PartName="/ppt/media/image15.png" ContentType="image/png"/>
  <Override PartName="/ppt/media/image23.gif" ContentType="image/gif"/>
  <Override PartName="/ppt/media/image26.png" ContentType="image/png"/>
  <Override PartName="/ppt/media/image14.png" ContentType="image/png"/>
  <Override PartName="/ppt/media/image22.gif" ContentType="image/gif"/>
  <Override PartName="/ppt/media/image25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19.gif" ContentType="image/gif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1868-375C-4993-9996-44F5116B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053-F3E4-48F6-B505-8DA521E7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A4B-1D19-4ABB-A64B-A3AEC0B4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ADA2-B174-4317-A4A9-9B764F2A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69C4-A870-4B36-B387-49A59F55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C846-31A8-4415-9806-2368EEB4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423F-8FF3-4F0E-86F5-1533D066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2007-6416-4CCF-9553-909618F9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02DE-FEC1-4164-836D-DBCC6F5F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6B6D-79F0-482C-9C2C-94529CCB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8ED4-1A9C-4E9D-8A0A-F18BB591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BF85-5000-41DB-A401-E83D1EBE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9917-F758-440A-B759-45015E2A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16F7-3691-4765-9ACB-16E273C0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9423-372B-4238-8B5F-88743A11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030F-8DDA-4378-A215-61436171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86FF-62D5-4CE7-AC8F-BA76CB90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5F6-1140-4F40-AB25-D6BC55EA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819D-9AEE-4CFF-AA13-8F4D79AE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1BA-791D-4B2F-AC10-6A0606A0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E2F2-B4E2-4C71-A62B-5DA59E32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6EF-C4CA-4BB2-BC46-0407A962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4703-81F2-4C54-82D0-6986CCCD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501-BDE5-4155-8316-2AB16CC8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6ED4-C977-4164-B540-1771C925DDB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5821-2CBB-4D75-BD1E-76223F34B0B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3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4.png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5.png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6.png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7.png"/><Relationship Id="rId25" Type="http://schemas.openxmlformats.org/officeDocument/2006/relationships/image" Target="../media/image8.png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18.png"/><Relationship Id="rId28" Type="http://schemas.openxmlformats.org/officeDocument/2006/relationships/image" Target="../media/image19.gif"/><Relationship Id="rId29" Type="http://schemas.openxmlformats.org/officeDocument/2006/relationships/image" Target="../media/image20.png"/><Relationship Id="rId30" Type="http://schemas.openxmlformats.org/officeDocument/2006/relationships/oleObject" Target="../embeddings/oleObject12.bin"/><Relationship Id="rId31" Type="http://schemas.openxmlformats.org/officeDocument/2006/relationships/image" Target="../media/image21.png"/><Relationship Id="rId32" Type="http://schemas.openxmlformats.org/officeDocument/2006/relationships/oleObject" Target="../embeddings/oleObject13.bin"/><Relationship Id="rId33" Type="http://schemas.openxmlformats.org/officeDocument/2006/relationships/image" Target="../media/image21.png"/><Relationship Id="rId34" Type="http://schemas.openxmlformats.org/officeDocument/2006/relationships/oleObject" Target="../embeddings/oleObject14.bin"/><Relationship Id="rId35" Type="http://schemas.openxmlformats.org/officeDocument/2006/relationships/image" Target="../media/image21.png"/><Relationship Id="rId36" Type="http://schemas.openxmlformats.org/officeDocument/2006/relationships/oleObject" Target="../embeddings/oleObject15.bin"/><Relationship Id="rId37" Type="http://schemas.openxmlformats.org/officeDocument/2006/relationships/image" Target="../media/image21.png"/><Relationship Id="rId38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6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image" Target="../media/image4.gif"/><Relationship Id="rId4" Type="http://schemas.openxmlformats.org/officeDocument/2006/relationships/image" Target="../media/image7.gif"/><Relationship Id="rId5" Type="http://schemas.openxmlformats.org/officeDocument/2006/relationships/image" Target="../media/image19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8.gif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УМНОЖЕНИЕ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асть перва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600"/>
                            </p:stCondLst>
                            <p:childTnLst>
                              <p:par>
                                <p:cTn id="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796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Сумма  одинаковых слагаемы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084720" y="3716280"/>
          <a:ext cx="19116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3716280"/>
                    <a:ext cx="1911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2 + 2 + 2 =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403280" y="2997360"/>
            <a:ext cx="1238400" cy="1380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492360" y="1916280"/>
            <a:ext cx="1285920" cy="1037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2556000" y="5084640"/>
            <a:ext cx="1333440" cy="1428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6227640" y="3429000"/>
            <a:ext cx="720720" cy="701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6372360" y="3645000"/>
            <a:ext cx="720720" cy="701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6227640" y="3645000"/>
            <a:ext cx="720720" cy="701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6732720" y="3860640"/>
            <a:ext cx="1218960" cy="390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0"/>
          <a:stretch/>
        </p:blipFill>
        <p:spPr>
          <a:xfrm>
            <a:off x="6804000" y="3860640"/>
            <a:ext cx="1219320" cy="390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1"/>
          <a:stretch/>
        </p:blipFill>
        <p:spPr>
          <a:xfrm>
            <a:off x="6659640" y="3860640"/>
            <a:ext cx="1218960" cy="408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2.19653E-006 L -0.24409 -0.15746 E">
                                      <p:cBhvr>
                                        <p:cTn id="79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56069E-006 L -0.2599 -0.1889 E">
                                      <p:cBhvr>
                                        <p:cTn id="81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71676E-006 L -0.45677 0.05248 E">
                                      <p:cBhvr>
                                        <p:cTn id="85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78035E-008 L -0.48038 -0.01041 E">
                                      <p:cBhvr>
                                        <p:cTn id="87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3.17919E-006 L -0.29931 0.34612 E">
                                      <p:cBhvr>
                                        <p:cTn id="9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15607E-006 L -0.37014 0.20971 E">
                                      <p:cBhvr>
                                        <p:cTn id="93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поиграем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0" y="1700280"/>
            <a:ext cx="377208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+ 3 + 3 + 3 +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 + 5 + 6 + 6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+ 2 + 3 +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+ 5 + 5 + 5 + 5 + 5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1438200" cy="2238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00000" y="1557360"/>
            <a:ext cx="3600720" cy="1511280"/>
          </a:xfrm>
          <a:prstGeom prst="cloudCallout">
            <a:avLst>
              <a:gd name="adj1" fmla="val -17504"/>
              <a:gd name="adj2" fmla="val 12720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айдите  сумму одинаковых слагае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11280" y="4149720"/>
            <a:ext cx="6193080" cy="1079640"/>
          </a:xfrm>
          <a:prstGeom prst="cloudCallout">
            <a:avLst>
              <a:gd name="adj1" fmla="val -55949"/>
              <a:gd name="adj2" fmla="val 4176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добно ли находить результат сум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3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0" nodeType="after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Умноже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148360" y="907920"/>
          <a:ext cx="380880" cy="5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907920"/>
                    <a:ext cx="3808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050920" y="907920"/>
            <a:ext cx="381240" cy="5907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2987640" y="907920"/>
            <a:ext cx="380880" cy="590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4067280" y="907920"/>
            <a:ext cx="380880" cy="5907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2843280" y="1628640"/>
            <a:ext cx="380880" cy="5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1979640" y="1773360"/>
          <a:ext cx="61920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1773360"/>
                    <a:ext cx="6192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419640" y="1773360"/>
          <a:ext cx="1199880" cy="39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1773360"/>
                    <a:ext cx="119988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716360" y="1557360"/>
          <a:ext cx="362160" cy="55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16360" y="1557360"/>
                    <a:ext cx="3621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716360" y="1557360"/>
          <a:ext cx="400320" cy="56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16360" y="1557360"/>
                    <a:ext cx="4003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716360" y="1557360"/>
          <a:ext cx="390600" cy="60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6360" y="1557360"/>
                    <a:ext cx="3906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716360" y="1557360"/>
          <a:ext cx="447840" cy="60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6360" y="1557360"/>
                    <a:ext cx="4478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716360" y="1628640"/>
          <a:ext cx="419040" cy="60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716360" y="1628640"/>
                    <a:ext cx="419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292720" y="1773360"/>
          <a:ext cx="762120" cy="571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292720" y="1773360"/>
                    <a:ext cx="7621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284720" y="2349360"/>
          <a:ext cx="815760" cy="1008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4720" y="2349360"/>
                    <a:ext cx="81576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25"/>
          <a:stretch/>
        </p:blipFill>
        <p:spPr>
          <a:xfrm>
            <a:off x="6227640" y="907920"/>
            <a:ext cx="381240" cy="5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2627280" y="2349360"/>
          <a:ext cx="677880" cy="10083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627280" y="2349360"/>
                    <a:ext cx="67788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" descr=""/>
          <p:cNvPicPr/>
          <p:nvPr/>
        </p:nvPicPr>
        <p:blipFill>
          <a:blip r:embed="rId28"/>
          <a:stretch/>
        </p:blipFill>
        <p:spPr>
          <a:xfrm>
            <a:off x="6524640" y="3573360"/>
            <a:ext cx="1719360" cy="2198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9"/>
          <a:stretch/>
        </p:blipFill>
        <p:spPr>
          <a:xfrm>
            <a:off x="3564000" y="2565360"/>
            <a:ext cx="439560" cy="43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2484360" y="981000"/>
          <a:ext cx="466920" cy="3812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2484360" y="981000"/>
                    <a:ext cx="4669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3492360" y="981000"/>
          <a:ext cx="466920" cy="3812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3492360" y="981000"/>
                    <a:ext cx="4669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572000" y="981000"/>
          <a:ext cx="466560" cy="38124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572000" y="981000"/>
                    <a:ext cx="4665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651640" y="981000"/>
          <a:ext cx="466560" cy="38124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651640" y="981000"/>
                    <a:ext cx="4665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403280" y="3429000"/>
            <a:ext cx="4824360" cy="2592360"/>
          </a:xfrm>
          <a:prstGeom prst="wedgeRoundRectCallout">
            <a:avLst>
              <a:gd name="adj1" fmla="val 60759"/>
              <a:gd name="adj2" fmla="val -168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то такое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Умн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Умн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 сл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едь умней – умножить ра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ем слагать всё целый ча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97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500"/>
                            </p:stCondLst>
                            <p:childTnLst>
                              <p:par>
                                <p:cTn id="2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500"/>
                            </p:stCondLst>
                            <p:childTnLst>
                              <p:par>
                                <p:cTn id="2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500"/>
                            </p:stCondLst>
                            <p:childTnLst>
                              <p:par>
                                <p:cTn id="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5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12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4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400"/>
                            </p:stCondLst>
                            <p:childTnLst>
                              <p:par>
                                <p:cTn id="3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9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400"/>
                            </p:stCondLst>
                            <p:childTnLst>
                              <p:par>
                                <p:cTn id="3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тренируй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2376360" cy="1752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867280" y="3860640"/>
            <a:ext cx="284184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4284720" y="2492280"/>
          <a:ext cx="3181320" cy="47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4720" y="2492280"/>
                    <a:ext cx="31813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979640" y="907920"/>
            <a:ext cx="5977080" cy="576360"/>
          </a:xfrm>
          <a:prstGeom prst="wedgeRoundRectCallout">
            <a:avLst>
              <a:gd name="adj1" fmla="val -41314"/>
              <a:gd name="adj2" fmla="val 186087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мени сумму умнож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27280" y="3645000"/>
            <a:ext cx="3743280" cy="1152360"/>
          </a:xfrm>
          <a:prstGeom prst="cloudCallout">
            <a:avLst>
              <a:gd name="adj1" fmla="val 60134"/>
              <a:gd name="adj2" fmla="val 8140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мени умножение слож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780000" y="1844640"/>
          <a:ext cx="4032000" cy="50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80000" y="1844640"/>
                    <a:ext cx="4032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2843280" y="4797360"/>
          <a:ext cx="122868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43280" y="4797360"/>
                    <a:ext cx="1228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843280" y="5373720"/>
          <a:ext cx="1276200" cy="514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43280" y="5373720"/>
                    <a:ext cx="12762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u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5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203640" y="407664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842920" y="1828800"/>
            <a:ext cx="5538600" cy="27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+ 1 + 1 + 1 + 1 + 1 = 1   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+ 2 + 2 + 2 = 2  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   4 = 6 + 6 + 6 + 6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  2 = 5 +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771640" y="4869000"/>
            <a:ext cx="5616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203640" y="3573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443640" y="1989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5651640" y="249228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539640" y="2421000"/>
            <a:ext cx="184788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52601E-006 C -0.00174 -0.01364 -0.00695 -0.02843 -0.01424 -0.03815 C -0.01528 -0.04092 -0.01597 -0.04416 -0.01736 -0.0467 C -0.01823 -0.04832 -0.01979 -0.04924 -0.02066 -0.05086 C -0.02657 -0.06381 -0.03229 -0.07791 -0.03802 -0.09109 C -0.04045 -0.09664 -0.04236 -0.10242 -0.04445 -0.10797 C -0.04549 -0.11075 -0.04757 -0.1163 -0.04757 -0.1163 C -0.04861 -0.12346 -0.04966 -0.1304 -0.0507 -0.13757 C -0.05139 -0.14196 -0.054 -0.15028 -0.054 -0.15028 C -0.0599 -0.19676 -0.05677 -0.24161 -0.05556 -0.28971 C -0.05521 -0.30427 -0.05243 -0.32092 -0.04757 -0.3341 C -0.04532 -0.34982 -0.03455 -0.38289 -0.02379 -0.39329 C -0.01702 -0.39976 -0.01025 -0.40393 -0.00313 -0.41017 C 0.00278 -0.41526 0.00573 -0.41919 0.01267 -0.42289 C 0.01666 -0.42797 0.02205 -0.43075 0.02708 -0.43352 C 0.03021 -0.43514 0.0335 -0.4363 0.03663 -0.43768 C 0.03819 -0.43838 0.04132 -0.43976 0.04132 -0.43976 C 0.05139 -0.43838 0.06337 -0.43722 0.07309 -0.43144 C 0.07743 -0.4289 0.08159 -0.42566 0.08576 -0.42289 C 0.08784 -0.4215 0.09218 -0.41872 0.09218 -0.41872 C 0.09843 -0.4104 0.10468 -0.403 0.10955 -0.39329 C 0.11007 -0.39052 0.11024 -0.38751 0.11111 -0.38474 C 0.11302 -0.37895 0.11753 -0.36786 0.11753 -0.36786 C 0.11996 -0.34867 0.12465 -0.33433 0.13177 -0.31722 C 0.13403 -0.3052 0.13559 -0.29456 0.13975 -0.28346 C 0.14149 -0.27421 0.14288 -0.2652 0.14444 -0.25595 C 0.14566 -0.24878 0.14774 -0.23468 0.14774 -0.23468 C 0.14687 -0.20184 0.15243 -0.17456 0.13489 -0.15237 C 0.13125 -0.14242 0.12587 -0.13479 0.12222 -0.12485 C 0.11823 -0.11398 0.11528 -0.10497 0.10955 -0.09526 C 0.10677 -0.08416 0.10225 -0.07398 0.09843 -0.06358 C 0.09757 -0.06127 0.09427 -0.05109 0.09218 -0.04878 C 0.09028 -0.0467 0.08784 -0.04578 0.08576 -0.04439 C 0.08316 -0.03421 0.08611 -0.04046 0.07778 -0.03398 C 0.06718 -0.02566 0.05833 -0.01595 0.046 -0.01271 C 0.04444 -0.01132 0.04305 -0.00971 0.04132 -0.00855 C 0.03993 -0.00763 0.03715 -0.00855 0.03663 -0.00647 C 0.03472 0.00024 0.03489 0.0148 0.03489 0.0148 C 0.06302 0.06336 0.09253 0.11029 0.11909 0.16047 C 0.12066 0.16347 0.11944 0.16856 0.11753 0.1711 C 0.11406 0.17573 0.10798 0.17503 0.1033 0.17758 C 0.0526 0.17573 0.01632 0.18197 -0.02066 0.13526 C -0.02431 0.12 -0.02205 0.12625 -0.02691 0.11607 C -0.02639 0.09342 -0.02674 0.07099 -0.02535 0.04856 C -0.02431 0.03214 -0.00677 0.0222 0.00156 0.0148 C 0.00208 0.01272 0.00364 0.01064 0.0033 0.00833 C 0.00278 0.00394 -0.00313 0.00232 -0.00313 -0.00231 C -0.00313 -0.00393 -0.00104 -0.00069 2.22222E-006 -3.52601E-006 Z">
                                      <p:cBhvr>
                                        <p:cTn id="416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843280" y="26028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859280" y="189000"/>
            <a:ext cx="1238400" cy="13809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411280" y="5013360"/>
            <a:ext cx="1379520" cy="14778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7236000" y="3357720"/>
            <a:ext cx="1665000" cy="2592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5292720" y="4948200"/>
            <a:ext cx="1494000" cy="19098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250920" y="549360"/>
            <a:ext cx="1944720" cy="1433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5796000" y="0"/>
            <a:ext cx="2519280" cy="21286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1444680" cy="18003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340000" y="1628640"/>
            <a:ext cx="5327640" cy="3241800"/>
          </a:xfrm>
          <a:prstGeom prst="cloudCallout">
            <a:avLst>
              <a:gd name="adj1" fmla="val -37694"/>
              <a:gd name="adj2" fmla="val 3369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48000" y="2133720"/>
            <a:ext cx="33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Умн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жения 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сем нам в жизни пригод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недаром назв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Умн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жением она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0"/>
                            </p:stCondLst>
                            <p:childTnLst>
                              <p:par>
                                <p:cTn id="5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7:41:10Z</dcterms:created>
  <dc:creator>Наташа</dc:creator>
  <dc:description/>
  <dc:language>en-US</dc:language>
  <cp:lastModifiedBy>Наташа</cp:lastModifiedBy>
  <dcterms:modified xsi:type="dcterms:W3CDTF">2007-12-15T18:23:21Z</dcterms:modified>
  <cp:revision>8</cp:revision>
  <dc:subject/>
  <dc:title>УМНОЖЕНИЕ</dc:title>
</cp:coreProperties>
</file>