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Математический диктант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(уравнение и его корни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Алгебра, 7 класс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41840" cy="404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Вариант1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Как называется уравнение 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–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2х = 17 ?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6360" y="1916280"/>
            <a:ext cx="3888000" cy="42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Вариант2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Как называется уравнение 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17х = –2?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1673280"/>
            <a:ext cx="0" cy="45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№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70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Вариант1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Придумайте и запишите какое-нибудь линейное уравнение с одним неизвестным х .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Вариант2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Придумайте и запишите какое-нибудь линейное уравнение с одним неизвестным у.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"/>
          <p:cNvSpPr/>
          <p:nvPr/>
        </p:nvSpPr>
        <p:spPr>
          <a:xfrm>
            <a:off x="4427640" y="191628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403236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ариант1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При каком условии уравнение сх = 5 имеет единственный корень ? Запишите этот корень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7640" y="1773000"/>
            <a:ext cx="36702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Вариант2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При каком условии уравнение ау = 3 не имеет корней? Запишите этот корень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1700280"/>
            <a:ext cx="0" cy="45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№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4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ариант1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При  каком  условии  уравнение  mx = –3  не имеет корней  ?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ариант2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При  каком  условии  уравнение  ny = –5 имеет единственный корень?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1916280"/>
            <a:ext cx="0" cy="42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Ответы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4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ариант1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1.линейным;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2. a х = b;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3. с= 0;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4. m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= 0;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1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5119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1. линейным;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5119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2.a у= b;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5119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3. a = 0;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5119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4. n = 0;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5119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5119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51192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51192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51192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511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4365720"/>
            <a:ext cx="215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515772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3T09:30:22Z</dcterms:created>
  <dc:creator>Windows XP SP3</dc:creator>
  <dc:description/>
  <dc:language>en-US</dc:language>
  <cp:lastModifiedBy>Windows XP SP3</cp:lastModifiedBy>
  <dcterms:modified xsi:type="dcterms:W3CDTF">2020-08-06T10:06:02Z</dcterms:modified>
  <cp:revision>33</cp:revision>
  <dc:subject/>
  <dc:title>Математический диктант  (правила раскрытия скобок)</dc:title>
</cp:coreProperties>
</file>