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7FE-BC07-4350-B4CF-8D2BFF4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E8F-8F2E-43F6-97CA-F6C9CC3F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94B-3661-44E0-8DC9-9BDFAD5D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592-7507-4EA3-849E-75C333A4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345-2835-4E4E-87F5-7A49EF25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C57F-53EA-42EE-8F3A-4114F5C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AFA6-A13D-47F3-B1A1-ED6B8239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445-0C09-4A2D-91D2-4B7CB259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C17-6F36-4420-BFCD-9DB52C43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A7A-E5D2-4E7F-9F8A-16896AD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8529-841D-4C5E-8409-C0C8488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E45-D172-491C-8E19-99E5B982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9A7-ECE2-4DA2-A65E-CB598C1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C36-CFE6-4A78-87B4-B56EE0F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0A72-D74A-48C9-B915-8C247BA4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376B-D725-4C6F-B34E-3E0221CA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2E1-E916-4167-9568-673A2374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FC6-B9D1-466B-94EF-1267E9CA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013-E2A7-4393-9A58-0331D86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C0C-4865-48EE-9267-BD42A1D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E94-8271-4A81-A538-E3B536C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998-43DE-4CEA-ADF0-9F02E91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906-888F-408A-A55C-67B6567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A77-FC9A-412B-BC38-B679C68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5FD-A654-40C3-9D8D-15D813B5B3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C8B0-B3F2-43F4-BEE9-581D5E4147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МУНИЦИПАЛЬНОЕ АВТОНОМНОЕ ОБЩЕОБРАЗОВАТЕЛЬНОЕ УЧРЕЖДЕНИЕ «ЩЁЛКОВСКАЯ ГИМНАЗИЯ № 6» ГОРОДСКОГО ОКРУГА ЩЁЛКОВО МОСКОВ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2000"/>
            </a:br>
            <a:br>
              <a:rPr sz="20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Формирование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каллиграфического навыка письм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: Сушенцова Елена Михайловна, учитель начальных классов МАОУ «Щёлковская гимназия № 6» ГОЩ М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а развивающей направленности, по которой я работаю, накладывает отпечаток и на этап тренировки в каллиграфическом письме. Механическое написание элементов и букв неприемлемо. Стараюсь эту работу проводить творчески, чтобы она являлась частью проце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Узнай, какую букву мы будем писать. Она встречается чаще оста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о б у 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 а д а 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айдите «лишнюю» бук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 м д с г 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 д з л 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х ш ч щ 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Определите следующую бук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Расшифруй зап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697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Установи закономер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р арр арр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я Мю Мэ М… М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7.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йди общую бук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а      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р      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у      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и грамматическую задач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лнце   Солнц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040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6.gif"/>
          <p:cNvPicPr/>
          <p:nvPr/>
        </p:nvPicPr>
        <p:blipFill>
          <a:blip r:embed="rId2"/>
          <a:stretch/>
        </p:blipFill>
        <p:spPr>
          <a:xfrm>
            <a:off x="6924600" y="4950000"/>
            <a:ext cx="22129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Тематическое построение «минуток чистописания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тическое построение «минуток чистописания» позволяет расширить объем знаний учащихся и соединить данные задания с уроками  для создания единого цельного образ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риал  подготавливаю таким образом, чтобы он был тесно связан с темой урока и являлся своеобразным «мостиком», помогающим перейти к  уро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инутка чистописа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(математика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нам на урок пришли герои мультфильма: попугай, удав, мартышка и слонё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  Как называется этот мультфильм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  Они писали числа 0, 12, 3, 13. Попугай не писал натуральные числа. Удав не писал двузначные числа. Число, которое писала Мартышка, больше числа, которое писал Слонёнок. Кто какое число пис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ие цифры использовали наши друзья для записи этих чисел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, 1, 2,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шите эти циф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img1"/>
          <p:cNvPicPr/>
          <p:nvPr/>
        </p:nvPicPr>
        <p:blipFill>
          <a:blip r:embed="rId1"/>
          <a:stretch/>
        </p:blipFill>
        <p:spPr>
          <a:xfrm>
            <a:off x="2467080" y="2205000"/>
            <a:ext cx="420984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9" descr="6.gif"/>
          <p:cNvPicPr/>
          <p:nvPr/>
        </p:nvPicPr>
        <p:blipFill>
          <a:blip r:embed="rId2"/>
          <a:stretch/>
        </p:blipFill>
        <p:spPr>
          <a:xfrm>
            <a:off x="6924600" y="5376960"/>
            <a:ext cx="22129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инутка чистописания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русский язык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– Малень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хой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йна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убокий -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рый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дить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вердый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вы правильно сформулируете и выполните задание к данной записи, то  узнаете, какую букву мы будем писать на минутке чистопис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Рисунок 9" descr="6.gif"/>
          <p:cNvPicPr/>
          <p:nvPr/>
        </p:nvPicPr>
        <p:blipFill>
          <a:blip r:embed="rId1"/>
          <a:stretch/>
        </p:blipFill>
        <p:spPr>
          <a:xfrm>
            <a:off x="6924600" y="5237280"/>
            <a:ext cx="2212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инутка чистописания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чтение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читайте пословицы, устно сгруппируйте их в соответствии со смыслом. Вставьте пропущенные буквы, з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пишите и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еловек трудолюбивый – самый счастливы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укам работа, а душе праз...ник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йна, извес...ная троим, уже не тайн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ол...це  л...дон...ю не з...кроешь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з…но  встанешь - мало сделаеш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Рисунок 9" descr="6.gif"/>
          <p:cNvPicPr/>
          <p:nvPr/>
        </p:nvPicPr>
        <p:blipFill>
          <a:blip r:embed="rId1"/>
          <a:stretch/>
        </p:blipFill>
        <p:spPr>
          <a:xfrm>
            <a:off x="6924600" y="463860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Система заданий, направленных на установление логической связи между минуткой чистописания и следующим этапом урок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. В какую сказку (произведение) мы отправимся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. Кто главные герои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Повторим написание букв, которые встретились в имени главной(ого) геро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. Спишите имя каллиграфически прави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. Какие еще персонажи встретились в сказке (произведении)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. Запишите слоги из нескольких слов, образовав новое сло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7. Отгадайте зашифрованные букв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8. Запишите отдельно гласные (согласные) буквы и дайте им характеристик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. Каков смысл слов(а)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. Прочитайте предложения и объясните орфограмм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1. Спишите предложения красиво и каллиграфически правильно. После списывания выделите орфограмм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. Изобразим узо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3. Выпишите слова, где звук (...) на первом мес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4. Назовите буквы, которые спрятались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5. Каких букв больш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6. Записать 2 цепоч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7. В каждое буквосочетание добавь гласные, чтобы получились сло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8. Найди каллиграфические ошиб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9. Что объединяет все эти слова?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. Какое слово в этом ряду лишне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1. Найдите слова-синонимы. Как еще их можно назвать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2. Отгадайте загадку-шутк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3. Укажи количество слог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4. Укажи количество букв, зву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5. Укажи ударный слог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6. В каких словах из этого списка все согласные звуки тверды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ль: формирование навыка грамотного и каллиграфического письма у учащихс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методическую литературу по данной проблем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робировать методики обучения каллиграфического письм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формировать у учащихся навык грамотного и каллиграфического пись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Для чего формировать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рк - наша «визитная» карточка. Она может рассказать о своем хозяине все. Даже непрофессионал без труда составит свое мнение по почерку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черке учащихся проявляются индивидуальные черты – округлость, угловатость, тяготение к более прямому или более наклонному письму, но самое главное, на мой взгляд, воспитание культуры пись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Рисунок 9" descr="6.gif"/>
          <p:cNvPicPr/>
          <p:nvPr/>
        </p:nvPicPr>
        <p:blipFill>
          <a:blip r:embed="rId1"/>
          <a:stretch/>
        </p:blipFill>
        <p:spPr>
          <a:xfrm>
            <a:off x="6924600" y="5237280"/>
            <a:ext cx="2212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Результатив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стигла следующих результа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ти быстро и без ошибок научились списывать с печатного текст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се ученики понимают прочитанно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ультаты контрольного списывания (административный контроль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правились 100% учащихся, написали без ошибок 72%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ультаты административного контрольного диктан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правились 95% учащихся, без ошибок написали 60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своено правильное верхнее соединение у 80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своено правильное нижнее соединение у 84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своен навык беглого безотрывного письма у 88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своен размер заглавных букв у 94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своен размер строчных букв у 100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вык каллиграфического письма сформирован у 77%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вык грамотного письма сформирован у 77%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дресная направленност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Рисунок 9" descr="6.gif"/>
          <p:cNvPicPr/>
          <p:nvPr/>
        </p:nvPicPr>
        <p:blipFill>
          <a:blip r:embed="rId1"/>
          <a:stretch/>
        </p:blipFill>
        <p:spPr>
          <a:xfrm>
            <a:off x="6924600" y="4638600"/>
            <a:ext cx="2212920" cy="2212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755640" y="191448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исанный опыт может быть использован учителями начальных классов для формирования и коррекции письма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Трудоемкост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отка каллиграфического почерка - это достаточно трудоемкая работа. Таким образом, необходима четко структурированная и методически обоснованная система упражнений, которую я и попыталась реализовать в своей рабо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Рисунок 9" descr="6.gif"/>
          <p:cNvPicPr/>
          <p:nvPr/>
        </p:nvPicPr>
        <p:blipFill>
          <a:blip r:embed="rId1"/>
          <a:stretch/>
        </p:blipFill>
        <p:spPr>
          <a:xfrm>
            <a:off x="6924600" y="4950000"/>
            <a:ext cx="22129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ктуальность темы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, овладевший каллиграфическим письмом, это принципиально другой ученик, чем тот, который только что пришел в школу. Он на личном опыте убедился, как от каракули дошел до отличного письма. Теперь он все будет делать красиво, старательно, уверенно. Следовательно, каллиграфическое письмо – это не только общеучебный навык, но и средство воспитания необходимых в жизни черт характера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оретическая база опыт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ая проблема оставалась и остаётся актуальной, как для учителей, так и для методистов, учёных. Её изучением занимались и занимаются многие учёные, рассматривая процесс формирования навыка с разных позиций, таких как: «Письмо с секретом»; развитие мускульной и тактильной памяти; тактированное письмо; обучение первоначальному письму и формирование каллиграфического навыка через определённую систему принципов, методов и приемов (Агаркова Н.Г., Безруких М.М., Боголюбов Н.Н., Гурьянов Е.В., Желтовская Л.Я., Илюхина В.А., Потапова Е.Н., Соколова Е.Н., Федосова Н.А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онцепц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Использовать единые технологии обучения каллиграфически правильному письму при проведении всех уро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Создавать условия для развития потенциальных возможностей детей в атмосфере творчества, понимания, поддерж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Активизировать и совершенствовать основные психофизиологические механизмы, лежащие в основе творческого развития младших школь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Расширять границы познания младших школьников за счет использования учебных пособий образовательной Системы «Школа 2100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Сделать минутки чистописания универсальной частью уро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Наряду с совершенствованием графических навыков осуществлять орфографическую, фонетическую, словообразовательную работу, углубляя знания по изучаемым темам русского язы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цесс формировани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к формировать?)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что формировать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для чего формировать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619280" y="1557360"/>
            <a:ext cx="360360" cy="1727280"/>
          </a:xfrm>
          <a:prstGeom prst="downArrow">
            <a:avLst>
              <a:gd name="adj1" fmla="val 50000"/>
              <a:gd name="adj2" fmla="val 1198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924360" y="1628640"/>
            <a:ext cx="485640" cy="792360"/>
          </a:xfrm>
          <a:prstGeom prst="downArrow">
            <a:avLst>
              <a:gd name="adj1" fmla="val 50000"/>
              <a:gd name="adj2" fmla="val 407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6372360" y="1628640"/>
            <a:ext cx="485640" cy="1552680"/>
          </a:xfrm>
          <a:prstGeom prst="downArrow">
            <a:avLst>
              <a:gd name="adj1" fmla="val 50000"/>
              <a:gd name="adj2" fmla="val 799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 формировать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время работы я поняла: не следует сразу «бросаться» учить детей писать, при этом, требуя, чтобы они все делали так, как в «Прописях». Главное - заставить их полюбить сам процесс, заронить в их души понятие «красота» и научить применять его в своей работе. Я стараюсь показать детям красоту слова и убедить, что красивое содержание достойно красивой формы. Почерк должен быть также красив, как смысл тех слов, что дети пишут в своих тетрад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ак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ормировать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ение первоначальному письму основывается на принципах поэлементного изучения букв. Суть поэлементного принципа состоит в том, что при знакомстве с буквой ученик должен зрительно представлять, из каких элементов состоят буквы и как они располагаются в пространстве. Перед написанием буквы ребенок должен осознать, как он эти элементы может соединить при письме. Это основа для выработки графического навы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ослебукварный период стараюсь закрепить указанные выше умения и начать отрабатывать автоматизированность графического навы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2 классе  происходит закрепление навыка начертания букв и соединений, гигиенических навыков письма, совершенствование навыка письма в одну линей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работа продолжается и в 3 класс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крепление навыка начертания букв, способов соединений в словах, предложениях, текстах. Ведётся работа по совершенствованию почерка, устранению недочетов графического хара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4 классе  идет следующий этап по совершенствованию каллиграфических навыков: закрепление навыков верного начертания букв, способов их соединения при написании слов, предложений, текстов, работа над ускорением темпа письм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9:50:39Z</dcterms:created>
  <dc:creator>Zver</dc:creator>
  <dc:description/>
  <dc:language>en-US</dc:language>
  <cp:lastModifiedBy>Elena</cp:lastModifiedBy>
  <dcterms:modified xsi:type="dcterms:W3CDTF">2020-06-26T18:49:23Z</dcterms:modified>
  <cp:revision>19</cp:revision>
  <dc:subject/>
  <dc:title>МОУ ГАЗ-САЛИНСКАЯ ОБЩЕОБРАЗОВАТЕЛЬНАЯ СРЕДНЯЯ ШКОЛА.    Формирование каллиграфического навыка письма.</dc:title>
</cp:coreProperties>
</file>