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90D1E-DB69-4D44-A3FD-13D8B21157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6B1B0-329B-4E1D-A8B3-705116928D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059B0-4770-46B0-8118-7E27E1796D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982A-7E56-4C90-9AAF-D3ECAC9C04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9A73-5A86-4EBA-828D-C782B24EBD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996A-CA16-4E4F-84F6-6066EEC967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BA755-DA3B-4FFA-9BFC-0DA86BBE4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FFAA7-A1C1-4115-A920-06ACCDD9DB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1849-504A-4AA2-9859-539BBF469B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66923-1D0B-47BC-B6EF-F8B5C07FC5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93FF-E6B1-4252-ABAA-03809FD877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3A84-8D24-44E5-A902-B37DC3A28E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9C303-E05F-4530-8CE7-860B677584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A63-5990-4210-8541-1DFAD03F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0A8-7E26-4D47-8A36-0A383D6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46B-FE5C-41B9-B666-BC5E0F2D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BB7-2384-4AC5-88A8-9C7588D8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A7CE-58F3-483D-9A34-D54CD592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84940-7FC8-4829-A6D1-87A13225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4D034-91FE-4BC2-8FA3-ABED9238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AC06E-62DE-429E-858A-6EE1B31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82C4B-9E92-4D9F-B537-D150BABD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F5DA-B48E-4C35-849B-57B8A40E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14EB-CDA3-46A4-927D-579E500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03E-D7AA-4EDB-8C57-00D7721A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8620-7CAF-4C47-82D5-714C7542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44155-9AA6-4B4F-AFB7-CFEC979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1021C-F2D8-4DA3-8E91-03257D8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3A62-2418-4C1E-937A-A9C8DC37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A9EF6-8386-4E4F-ABD1-F84ECD6C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B17-26D9-427B-8776-18C0882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428-DDBF-43BB-B408-FAE0394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503-78AE-4C9C-AC94-259940D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88C-3112-4F4F-92F0-C5F4EBAD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0E4-21F5-46DE-8F3B-43526C4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33E-ADBF-4CA6-AE81-CDD0C9F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275-378B-40C9-AD37-B0A79D8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73AB8-87A2-4A51-88F7-21715FB838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10080720" cy="15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65240" y="7042320"/>
            <a:ext cx="97358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66680" y="171360"/>
            <a:ext cx="973764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66680" y="1406520"/>
            <a:ext cx="9737640" cy="1440"/>
          </a:xfrm>
          <a:prstGeom prst="line">
            <a:avLst/>
          </a:prstGeom>
          <a:ln w="9360">
            <a:solidFill>
              <a:srgbClr val="7b98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4808520" y="1158840"/>
            <a:ext cx="463680" cy="4636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0200" y="7045200"/>
            <a:ext cx="973620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66680" y="174600"/>
            <a:ext cx="973764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6382800" y="7061040"/>
            <a:ext cx="33483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24.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36600" y="7066080"/>
            <a:ext cx="394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5"/>
          </p:nvPr>
        </p:nvSpPr>
        <p:spPr>
          <a:xfrm>
            <a:off x="4703400" y="6972120"/>
            <a:ext cx="6634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29BFEC-B2F3-40BE-B64F-0425D1858CBB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6"/>
          </p:nvPr>
        </p:nvSpPr>
        <p:spPr>
          <a:xfrm>
            <a:off x="3446640" y="6886080"/>
            <a:ext cx="3187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ван Андреевич Крыл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сня « Чиж и голуб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72360" y="2160720"/>
            <a:ext cx="906624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зентаци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вертако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толь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81360" y="1859040"/>
            <a:ext cx="4807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81360" y="2855880"/>
            <a:ext cx="4807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87280" y="1655640"/>
            <a:ext cx="6696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33"/>
                </a:solidFill>
                <a:latin typeface="Arial"/>
                <a:ea typeface="Times New Roman"/>
              </a:rPr>
              <a:t>Подберите подходящие </a:t>
            </a:r>
            <a:r>
              <a:rPr b="0" i="1" lang="ru-RU" sz="4000" spc="-1" strike="noStrike">
                <a:solidFill>
                  <a:srgbClr val="ff3333"/>
                </a:solidFill>
                <a:latin typeface="Arial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ff3333"/>
                </a:solidFill>
                <a:latin typeface="Arial"/>
                <a:ea typeface="Times New Roman"/>
              </a:rPr>
              <a:t>к этой басне пословиц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16000" y="1944720"/>
            <a:ext cx="978984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 fontScale="95000"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«Отольются кошке мышкины слёзы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«Ворон за море летал, умней не стал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«Глупой птице свой дом не мил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«Над другим посмеялся, над собою поплачешь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«От ворон отстала, а к павам не пристала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09640" y="2343240"/>
            <a:ext cx="847404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 fontScale="96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машнее  задание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 желанию: </a:t>
            </a:r>
            <a:r>
              <a:rPr b="0" i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учить наизусть, выполнить иллюстрации к басне, прочитать выразитель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https://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https://yandex.ru/vide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https://azbyka.ru/fiction/basnya-chizh-i-golub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https://ru.wikipedia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https://kartaslov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5640" y="2519280"/>
            <a:ext cx="92869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11111"/>
                </a:solidFill>
                <a:latin typeface="Times New Roman"/>
              </a:rPr>
              <a:t>ПЕТ</a:t>
            </a:r>
            <a:r>
              <a:rPr b="1" lang="ru-RU" sz="4400" spc="-1" strike="noStrike">
                <a:solidFill>
                  <a:srgbClr val="ff3333"/>
                </a:solidFill>
                <a:latin typeface="Times New Roman"/>
              </a:rPr>
              <a:t>Б</a:t>
            </a:r>
            <a:r>
              <a:rPr b="1" lang="ru-RU" sz="4400" spc="-1" strike="noStrike">
                <a:solidFill>
                  <a:srgbClr val="1c1c1c"/>
                </a:solidFill>
                <a:latin typeface="Times New Roman"/>
              </a:rPr>
              <a:t>ПЕТ</a:t>
            </a:r>
            <a:r>
              <a:rPr b="1" lang="ru-RU" sz="4400" spc="-1" strike="noStrike">
                <a:solidFill>
                  <a:srgbClr val="ff3333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1c1c1c"/>
                </a:solidFill>
                <a:latin typeface="Times New Roman"/>
              </a:rPr>
              <a:t>ПЕТ</a:t>
            </a:r>
            <a:r>
              <a:rPr b="1" lang="ru-RU" sz="4400" spc="-1" strike="noStrike">
                <a:solidFill>
                  <a:srgbClr val="ff3333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111111"/>
                </a:solidFill>
                <a:latin typeface="Times New Roman"/>
              </a:rPr>
              <a:t>ПЕТ</a:t>
            </a:r>
            <a:r>
              <a:rPr b="1" lang="ru-RU" sz="4400" spc="-1" strike="noStrike">
                <a:solidFill>
                  <a:srgbClr val="ff3333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1c1c1c"/>
                </a:solidFill>
                <a:latin typeface="Times New Roman"/>
              </a:rPr>
              <a:t>ПЕТ</a:t>
            </a:r>
            <a:r>
              <a:rPr b="1" lang="ru-RU" sz="4400" spc="-1" strike="noStrike">
                <a:solidFill>
                  <a:srgbClr val="ff3333"/>
                </a:solidFill>
                <a:latin typeface="Times New Roman"/>
              </a:rPr>
              <a:t>Я</a:t>
            </a:r>
            <a:r>
              <a:rPr b="1" lang="ru-RU" sz="4400" spc="-1" strike="noStrike">
                <a:solidFill>
                  <a:srgbClr val="1c1c1c"/>
                </a:solidFill>
                <a:latin typeface="Times New Roman"/>
              </a:rPr>
              <a:t>П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5440" y="2970360"/>
            <a:ext cx="99806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87280" y="360360"/>
            <a:ext cx="9980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1c1c1c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К</a:t>
            </a:r>
            <a:r>
              <a:rPr b="1" lang="ru-RU" sz="5400" spc="-1" strike="noStrike">
                <a:solidFill>
                  <a:srgbClr val="1c1c1c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Р</a:t>
            </a:r>
            <a:r>
              <a:rPr b="1" lang="ru-RU" sz="5400" spc="-1" strike="noStrike">
                <a:solidFill>
                  <a:srgbClr val="333333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Ы</a:t>
            </a:r>
            <a:r>
              <a:rPr b="1" lang="ru-RU" sz="5400" spc="-1" strike="noStrike">
                <a:solidFill>
                  <a:srgbClr val="333333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Л</a:t>
            </a:r>
            <a:r>
              <a:rPr b="1" lang="ru-RU" sz="5400" spc="-1" strike="noStrike">
                <a:solidFill>
                  <a:srgbClr val="1c1c1c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О</a:t>
            </a:r>
            <a:r>
              <a:rPr b="1" lang="ru-RU" sz="5400" spc="-1" strike="noStrike">
                <a:solidFill>
                  <a:srgbClr val="333333"/>
                </a:solidFill>
                <a:latin typeface="Georgia"/>
              </a:rPr>
              <a:t>ПЕТ</a:t>
            </a:r>
            <a:r>
              <a:rPr b="1" lang="ru-RU" sz="5400" spc="-1" strike="noStrike">
                <a:solidFill>
                  <a:srgbClr val="ff3333"/>
                </a:solidFill>
                <a:latin typeface="Georgia"/>
              </a:rPr>
              <a:t>В</a:t>
            </a:r>
            <a:r>
              <a:rPr b="1" lang="ru-RU" sz="5400" spc="-1" strike="noStrike">
                <a:solidFill>
                  <a:srgbClr val="111111"/>
                </a:solidFill>
                <a:latin typeface="Georgia"/>
              </a:rPr>
              <a:t>П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33"/>
                </a:solidFill>
                <a:latin typeface="Arial"/>
              </a:rPr>
              <a:t>Ба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это краткий иносказательный рассказ в прозе или стихах. В котором действуют животные или вещи, а подразумеваются люди. У басни есть скрыты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это шуточное стихотворение о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это приключенческая повесть о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596880" y="893880"/>
            <a:ext cx="8886960" cy="57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н и Мось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44360" y="1320840"/>
            <a:ext cx="950436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74840" y="3668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31640" y="1655640"/>
            <a:ext cx="96775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Западня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ловушка для ловли птиц и животны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Силок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 петля для ловли птиц и мелких животн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Ручаюсь</a:t>
            </a: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 – отвечаю за свои сло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Arial"/>
              </a:rPr>
              <a:t>Запа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863640" y="2043000"/>
            <a:ext cx="871200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968480" y="2519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647640" y="1014480"/>
            <a:ext cx="88851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Силок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 петля для ловли птиц и мелких животн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4T13:01:13Z</dcterms:created>
  <dc:creator/>
  <dc:description/>
  <dc:language>en-US</dc:language>
  <cp:lastModifiedBy>Ирина Четвертакова</cp:lastModifiedBy>
  <dcterms:modified xsi:type="dcterms:W3CDTF">2020-08-06T15:01:42Z</dcterms:modified>
  <cp:revision>7</cp:revision>
  <dc:subject/>
  <dc:title>Иван Андреевич Крылов  басня « Чиж и голубь»</dc:title>
</cp:coreProperties>
</file>