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DF34-5F89-4D31-BFB1-96D883769D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3609-07E4-40EA-B61D-2464975EB6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A025-F03A-4F1F-91AB-948E599B3C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5AEA-AB16-4466-8F64-4F85148D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EF30-2B49-424D-9262-99AD351E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BDA5-2A35-460B-AEE9-AE345BB7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9E67-13DA-4EAC-8FD9-6275621EE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4B19-0B86-44A1-9618-D85E3C66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EFCF-6D78-458E-8196-3E38D7FA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8488-C5BF-41A7-9106-A3B69137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C9BA-9040-44D6-9DA8-EFF4D3CE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7551-57DB-4B40-9C74-EA94B194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5147-24DE-434B-91A4-3BE773A2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DA34-4BAB-474F-BDAF-F3AF38FE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BC82-36D2-45A6-A296-5D864D85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1D39-FCBC-45E8-A1C5-5896B716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2443-13AF-438A-96BD-32959850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A034-BD86-447F-A4B9-44DC25A1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B4C8-7FCD-4827-B7A0-446C36F43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720A-78FC-45F5-91FF-05C3D1055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BCA9-8385-4A2B-99D9-9B3F6C38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E613-B7EF-4954-845E-856B63AF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F297-51A3-4846-8100-C4931863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0CE7-B853-4A14-8DCD-BF881C49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A6A4-0DE6-4D71-8184-239BF1B2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5E4A-6FD2-4B45-BE96-AFB6E0C7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41F5-6291-4FCC-BF7B-7B9690A2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D81B-E267-47C7-B163-0C92D4EE02AB}" type="slidenum"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7B94-5DAF-4554-946C-F8D70CFE520C}" type="slidenum"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3" descr=""/>
          <p:cNvPicPr/>
          <p:nvPr/>
        </p:nvPicPr>
        <p:blipFill>
          <a:blip r:embed="rId1"/>
          <a:stretch/>
        </p:blipFill>
        <p:spPr>
          <a:xfrm>
            <a:off x="579600" y="1968480"/>
            <a:ext cx="7991280" cy="10368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-3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3" name="Прямоугольник 5" descr=""/>
          <p:cNvPicPr/>
          <p:nvPr/>
        </p:nvPicPr>
        <p:blipFill>
          <a:blip r:embed="rId2"/>
          <a:stretch/>
        </p:blipFill>
        <p:spPr>
          <a:xfrm>
            <a:off x="573120" y="2968560"/>
            <a:ext cx="7643880" cy="29941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00040" y="356760"/>
            <a:ext cx="45007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друг какой-то старичо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аучо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шу Муху в уголок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волок, -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Хочет бедную убить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Цокотуху погубить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Дорогие гости, помогите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аука-злодея зарубите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кормила я вас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поила я вас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 покиньте меня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мой последний час!»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Рисунок 3" descr="images (4).jpg"/>
          <p:cNvPicPr/>
          <p:nvPr/>
        </p:nvPicPr>
        <p:blipFill>
          <a:blip r:embed="rId1"/>
          <a:stretch/>
        </p:blipFill>
        <p:spPr>
          <a:xfrm>
            <a:off x="5214960" y="1214280"/>
            <a:ext cx="3330720" cy="34671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6840" y="214200"/>
            <a:ext cx="7931160" cy="587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о жуки-червя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пугалися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 углам, по щеля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бежалис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араканы под диваны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 козявочки под лавочки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 букашки под кровать –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 желают воевать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никто даже с мест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 сдвинется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падай – погибай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менинница!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0" name="Picture 3" descr="C:\Users\пользователь\Desktop\Новый портфель\Новая папка\01labfgvt1216207051.jpg"/>
          <p:cNvPicPr/>
          <p:nvPr/>
        </p:nvPicPr>
        <p:blipFill>
          <a:blip r:embed="rId1"/>
          <a:stretch/>
        </p:blipFill>
        <p:spPr>
          <a:xfrm>
            <a:off x="4716360" y="1413000"/>
            <a:ext cx="4176720" cy="33843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71680" y="785520"/>
            <a:ext cx="62150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 Кузнечик, а Кузнечик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у, совсем, как  человечек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кок, скок, скок, ско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 кусток, под мосто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молчок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 см = … мм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дм 2 см = … см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4 см = … дм … см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4229280" y="642960"/>
            <a:ext cx="1854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4" descr="01labfgvt1216207051.jpg"/>
          <p:cNvPicPr/>
          <p:nvPr/>
        </p:nvPicPr>
        <p:blipFill>
          <a:blip r:embed="rId1"/>
          <a:stretch/>
        </p:blipFill>
        <p:spPr>
          <a:xfrm>
            <a:off x="4643280" y="785880"/>
            <a:ext cx="4284720" cy="3214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5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Содержимое 2"/>
          <p:cNvSpPr/>
          <p:nvPr/>
        </p:nvSpPr>
        <p:spPr>
          <a:xfrm>
            <a:off x="571680" y="785880"/>
            <a:ext cx="62150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 Кузнечик, а Кузнечик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у, совсем как  человечек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кок, скок, скок, ско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 кусток, под мосто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молчок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 см = 50 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дм 2 см = 12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4 см = 2 дм 4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4"/>
          <p:cNvSpPr/>
          <p:nvPr/>
        </p:nvSpPr>
        <p:spPr>
          <a:xfrm>
            <a:off x="4229280" y="642960"/>
            <a:ext cx="1854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4" descr="01labfgvt1216207051.jpg"/>
          <p:cNvPicPr/>
          <p:nvPr/>
        </p:nvPicPr>
        <p:blipFill>
          <a:blip r:embed="rId1"/>
          <a:stretch/>
        </p:blipFill>
        <p:spPr>
          <a:xfrm>
            <a:off x="4643280" y="785880"/>
            <a:ext cx="4284720" cy="3214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3"/>
          <p:cNvSpPr/>
          <p:nvPr/>
        </p:nvSpPr>
        <p:spPr>
          <a:xfrm>
            <a:off x="142920" y="85716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4"/>
          <p:cNvSpPr/>
          <p:nvPr/>
        </p:nvSpPr>
        <p:spPr>
          <a:xfrm>
            <a:off x="857160" y="2071800"/>
            <a:ext cx="80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5"/>
          <p:cNvSpPr/>
          <p:nvPr/>
        </p:nvSpPr>
        <p:spPr>
          <a:xfrm>
            <a:off x="571680" y="785880"/>
            <a:ext cx="5429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А злодей-то не шу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Руки – ноги он Мух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ерёвками крути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верёвка – 7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верёвка - ?, в 2 раза бо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верёвка - ?, на 5 см меньш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11" descr="images (5).jpg"/>
          <p:cNvPicPr/>
          <p:nvPr/>
        </p:nvPicPr>
        <p:blipFill>
          <a:blip r:embed="rId1"/>
          <a:stretch/>
        </p:blipFill>
        <p:spPr>
          <a:xfrm>
            <a:off x="4929120" y="857160"/>
            <a:ext cx="3915000" cy="3237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Заголовок 1" descr=""/>
          <p:cNvPicPr/>
          <p:nvPr/>
        </p:nvPicPr>
        <p:blipFill>
          <a:blip r:embed="rId1"/>
          <a:stretch/>
        </p:blipFill>
        <p:spPr>
          <a:xfrm>
            <a:off x="237960" y="609480"/>
            <a:ext cx="4407120" cy="23162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3" descr="images (9).jpg"/>
          <p:cNvPicPr/>
          <p:nvPr/>
        </p:nvPicPr>
        <p:blipFill>
          <a:blip r:embed="rId2"/>
          <a:stretch/>
        </p:blipFill>
        <p:spPr>
          <a:xfrm>
            <a:off x="4143240" y="285840"/>
            <a:ext cx="4572000" cy="371484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ая соединительная линия 5"/>
          <p:cNvSpPr/>
          <p:nvPr/>
        </p:nvSpPr>
        <p:spPr>
          <a:xfrm>
            <a:off x="2071800" y="4357800"/>
            <a:ext cx="4429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Дуга 11"/>
          <p:cNvSpPr/>
          <p:nvPr/>
        </p:nvSpPr>
        <p:spPr>
          <a:xfrm>
            <a:off x="6143760" y="4357800"/>
            <a:ext cx="714240" cy="857160"/>
          </a:xfrm>
          <a:custGeom>
            <a:avLst/>
            <a:gdLst/>
            <a:ahLst/>
            <a:rect l="l" t="t" r="r" b="b"/>
            <a:pathLst>
              <a:path stroke="0" w="714375" h="857250">
                <a:moveTo>
                  <a:pt x="357187" y="0"/>
                </a:moveTo>
                <a:cubicBezTo>
                  <a:pt x="550572" y="0"/>
                  <a:pt x="708835" y="184684"/>
                  <a:pt x="714236" y="416655"/>
                </a:cubicBezTo>
                <a:lnTo>
                  <a:pt x="357188" y="428625"/>
                </a:lnTo>
                <a:cubicBezTo>
                  <a:pt x="357188" y="285750"/>
                  <a:pt x="357187" y="142875"/>
                  <a:pt x="357187" y="0"/>
                </a:cubicBezTo>
                <a:close/>
              </a:path>
              <a:path fill="none" w="714375" h="857250">
                <a:moveTo>
                  <a:pt x="357187" y="0"/>
                </a:moveTo>
                <a:cubicBezTo>
                  <a:pt x="550572" y="0"/>
                  <a:pt x="708835" y="184684"/>
                  <a:pt x="714236" y="416655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13"/>
          <p:cNvSpPr/>
          <p:nvPr/>
        </p:nvSpPr>
        <p:spPr>
          <a:xfrm>
            <a:off x="6500880" y="4357800"/>
            <a:ext cx="0" cy="857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Дуга 14"/>
          <p:cNvSpPr/>
          <p:nvPr/>
        </p:nvSpPr>
        <p:spPr>
          <a:xfrm rot="5400000">
            <a:off x="6072120" y="4429080"/>
            <a:ext cx="857160" cy="714240"/>
          </a:xfrm>
          <a:custGeom>
            <a:avLst/>
            <a:gdLst/>
            <a:ahLst/>
            <a:rect l="l" t="t" r="r" b="b"/>
            <a:pathLst>
              <a:path stroke="0" w="857250" h="714375">
                <a:moveTo>
                  <a:pt x="428625" y="0"/>
                </a:moveTo>
                <a:cubicBezTo>
                  <a:pt x="665348" y="0"/>
                  <a:pt x="857250" y="159919"/>
                  <a:pt x="857250" y="357188"/>
                </a:cubicBezTo>
                <a:lnTo>
                  <a:pt x="428625" y="357188"/>
                </a:lnTo>
                <a:lnTo>
                  <a:pt x="428625" y="0"/>
                </a:lnTo>
                <a:close/>
              </a:path>
              <a:path fill="none" w="857250" h="714375">
                <a:moveTo>
                  <a:pt x="428625" y="0"/>
                </a:moveTo>
                <a:cubicBezTo>
                  <a:pt x="665348" y="0"/>
                  <a:pt x="857250" y="159919"/>
                  <a:pt x="857250" y="357188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16"/>
          <p:cNvSpPr/>
          <p:nvPr/>
        </p:nvSpPr>
        <p:spPr>
          <a:xfrm flipH="1">
            <a:off x="2071440" y="5214960"/>
            <a:ext cx="4429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19"/>
          <p:cNvSpPr/>
          <p:nvPr/>
        </p:nvSpPr>
        <p:spPr>
          <a:xfrm>
            <a:off x="5643720" y="4357800"/>
            <a:ext cx="0" cy="857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21"/>
          <p:cNvSpPr/>
          <p:nvPr/>
        </p:nvSpPr>
        <p:spPr>
          <a:xfrm>
            <a:off x="5643000" y="4357800"/>
            <a:ext cx="857160" cy="857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23"/>
          <p:cNvSpPr/>
          <p:nvPr/>
        </p:nvSpPr>
        <p:spPr>
          <a:xfrm flipH="1">
            <a:off x="4928760" y="4357800"/>
            <a:ext cx="714600" cy="857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26"/>
          <p:cNvSpPr/>
          <p:nvPr/>
        </p:nvSpPr>
        <p:spPr>
          <a:xfrm>
            <a:off x="2071800" y="4357800"/>
            <a:ext cx="0" cy="857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30"/>
          <p:cNvSpPr/>
          <p:nvPr/>
        </p:nvSpPr>
        <p:spPr>
          <a:xfrm>
            <a:off x="1500120" y="4786200"/>
            <a:ext cx="57168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33"/>
          <p:cNvSpPr/>
          <p:nvPr/>
        </p:nvSpPr>
        <p:spPr>
          <a:xfrm flipH="1">
            <a:off x="1500120" y="4357800"/>
            <a:ext cx="571680" cy="428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38"/>
          <p:cNvSpPr/>
          <p:nvPr/>
        </p:nvSpPr>
        <p:spPr>
          <a:xfrm>
            <a:off x="1785960" y="4572000"/>
            <a:ext cx="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C:\Users\пользователь\Desktop\1211108307_00000005958973_267_1.jpg"/>
          <p:cNvPicPr/>
          <p:nvPr/>
        </p:nvPicPr>
        <p:blipFill>
          <a:blip r:embed="rId1"/>
          <a:stretch/>
        </p:blipFill>
        <p:spPr>
          <a:xfrm>
            <a:off x="2556000" y="1182600"/>
            <a:ext cx="3744720" cy="48672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0280" y="1242000"/>
            <a:ext cx="7772400" cy="90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937ab4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8" name="Рисунок 3" descr="images (7).jpg"/>
          <p:cNvPicPr/>
          <p:nvPr/>
        </p:nvPicPr>
        <p:blipFill>
          <a:blip r:embed="rId1"/>
          <a:stretch/>
        </p:blipFill>
        <p:spPr>
          <a:xfrm>
            <a:off x="500040" y="243000"/>
            <a:ext cx="8143920" cy="61563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Заголовок 1" descr=""/>
          <p:cNvPicPr/>
          <p:nvPr/>
        </p:nvPicPr>
        <p:blipFill>
          <a:blip r:embed="rId1"/>
          <a:stretch/>
        </p:blipFill>
        <p:spPr>
          <a:xfrm>
            <a:off x="457200" y="927000"/>
            <a:ext cx="8308800" cy="26877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Заголовок 1" descr=""/>
          <p:cNvPicPr/>
          <p:nvPr/>
        </p:nvPicPr>
        <p:blipFill>
          <a:blip r:embed="rId1"/>
          <a:stretch/>
        </p:blipFill>
        <p:spPr>
          <a:xfrm>
            <a:off x="590400" y="858960"/>
            <a:ext cx="8267760" cy="29080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99680" y="4428720"/>
            <a:ext cx="790092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Корней Иванович Чуковский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5" name="Рисунок 5" descr="chukovski2.jpg"/>
          <p:cNvPicPr/>
          <p:nvPr/>
        </p:nvPicPr>
        <p:blipFill>
          <a:blip r:embed="rId1"/>
          <a:stretch/>
        </p:blipFill>
        <p:spPr>
          <a:xfrm>
            <a:off x="4214880" y="306360"/>
            <a:ext cx="4071960" cy="36734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714240" y="1285920"/>
            <a:ext cx="787248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6 ∙ 2 + 2 =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3 ∙ 7 =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58 – 35 =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8 : 8 =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42840" y="944640"/>
            <a:ext cx="87231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Содержимое 4" descr="kornej-420x549.jpg"/>
          <p:cNvPicPr/>
          <p:nvPr/>
        </p:nvPicPr>
        <p:blipFill>
          <a:blip r:embed="rId1"/>
          <a:stretch/>
        </p:blipFill>
        <p:spPr>
          <a:xfrm>
            <a:off x="2214720" y="214200"/>
            <a:ext cx="5072040" cy="6643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713880" y="500040"/>
            <a:ext cx="7929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Муха, Муха, Цокотуха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озолоченное брюхо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Муха по полю пошла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Муха денежку нашл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12 ∙ 2 + 6 + 14 : 7 – 31 =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circl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925200" y="620640"/>
            <a:ext cx="821844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уха, Муха, Цокотуха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золоченное брюхо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уха по полю пошла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уха денежку нашл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12 ∙ 2 + 6 + 14 : 7 – 31 = 1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85480" y="428760"/>
            <a:ext cx="45003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Пошла Муха на базар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И купила самовар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4429080" y="571680"/>
            <a:ext cx="184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5" descr="images (2).jpg"/>
          <p:cNvPicPr/>
          <p:nvPr/>
        </p:nvPicPr>
        <p:blipFill>
          <a:blip r:embed="rId1"/>
          <a:stretch/>
        </p:blipFill>
        <p:spPr>
          <a:xfrm>
            <a:off x="5214960" y="714240"/>
            <a:ext cx="3000240" cy="49831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56760" y="785880"/>
            <a:ext cx="507204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риходили к Мухе блошки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риносили ей сапожки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А сапожки не простые -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 них застёжки золоты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4210200" y="785880"/>
            <a:ext cx="1857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4" descr="images (3).jpg"/>
          <p:cNvPicPr/>
          <p:nvPr/>
        </p:nvPicPr>
        <p:blipFill>
          <a:blip r:embed="rId1"/>
          <a:stretch/>
        </p:blipFill>
        <p:spPr>
          <a:xfrm>
            <a:off x="5572080" y="857160"/>
            <a:ext cx="3100320" cy="46976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11:39:45Z</dcterms:created>
  <dc:creator>Admin</dc:creator>
  <dc:description/>
  <dc:language>en-US</dc:language>
  <cp:lastModifiedBy>Elena</cp:lastModifiedBy>
  <dcterms:modified xsi:type="dcterms:W3CDTF">2020-08-06T14:27:53Z</dcterms:modified>
  <cp:revision>62</cp:revision>
  <dc:subject/>
  <dc:title>Слайд 1</dc:title>
</cp:coreProperties>
</file>