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6D18-9B4C-4352-BF39-06B795931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335F-7596-41F3-BCA0-62BD6A3C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CD3A-9AC5-4D36-A30E-0128076C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8FAF-DF0B-44B1-8BC4-5B6F4055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CB7B-7306-498C-8016-86F38E25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FB08-02A2-4298-8146-26D1837C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3EDF-4AE6-4BAB-A57D-E8E507A1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A61C-2434-4CE6-8D8A-481F1EE3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73EF-B4A3-47F7-BFF0-B7633903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259F-137D-424F-A6AB-0AE9BA90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7AC8-BD42-49CD-9B31-9E4B3907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3F0D-7254-4406-9339-2070A06D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934C-D19A-4D69-BE35-BB066F6C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C205-88B1-4925-96EE-CE3E1624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5C88-8830-49EE-BF11-63485158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9CFA-372A-4056-BAEF-078EF0F4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75D0-296D-4B7E-9CB5-80C2D424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6D9B-72D5-4F78-B3D6-F44BA17E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4E03-7B98-4FB0-82DF-B20C4502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8E0D-AE48-48BC-A9D2-4DEE909F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6A45-9E18-4211-B431-2911C55C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2FBD-07E4-4DFB-AF4A-292DA1EC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74BE-600C-4515-B5CC-83E3FDF6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123A-0A6C-4E72-910B-57F67AFF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6AAB-EC0B-459B-90EC-1916A90FA3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>
                    <a:gd name="textAreaLeft" fmla="*/ 0 w 350640"/>
                    <a:gd name="textAreaRight" fmla="*/ 351000 w 3506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>
                    <a:gd name="textAreaLeft" fmla="*/ 0 w 352440"/>
                    <a:gd name="textAreaRight" fmla="*/ 352800 w 3524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0C7B-EB5C-418B-822B-96C7BBA805FA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6253200" cy="17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84807"/>
                </a:solidFill>
                <a:latin typeface="Arial"/>
              </a:rPr>
              <a:t>Тема урока: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209680" y="16765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84807"/>
                </a:solidFill>
                <a:latin typeface="Arial"/>
              </a:rPr>
              <a:t>Опера</a:t>
            </a:r>
            <a:endParaRPr b="1" lang="en-US" sz="72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84807"/>
                </a:solidFill>
                <a:latin typeface="Arial"/>
              </a:rPr>
              <a:t>Н.А. Римского-Корсакова</a:t>
            </a:r>
            <a:endParaRPr b="1" lang="en-US" sz="72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84807"/>
                </a:solidFill>
                <a:latin typeface="Arial"/>
              </a:rPr>
              <a:t>«САДКО»</a:t>
            </a:r>
            <a:endParaRPr b="1" lang="en-US" sz="7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4" name="Picture 4" descr="6768"/>
          <p:cNvPicPr/>
          <p:nvPr/>
        </p:nvPicPr>
        <p:blipFill>
          <a:blip r:embed="rId1"/>
          <a:stretch/>
        </p:blipFill>
        <p:spPr>
          <a:xfrm>
            <a:off x="304920" y="14479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sadko7"/>
          <p:cNvPicPr/>
          <p:nvPr/>
        </p:nvPicPr>
        <p:blipFill>
          <a:blip r:embed="rId1"/>
          <a:stretch/>
        </p:blipFill>
        <p:spPr>
          <a:xfrm>
            <a:off x="0" y="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sadko"/>
          <p:cNvPicPr/>
          <p:nvPr/>
        </p:nvPicPr>
        <p:blipFill>
          <a:blip r:embed="rId2"/>
          <a:stretch/>
        </p:blipFill>
        <p:spPr>
          <a:xfrm>
            <a:off x="762120" y="3220920"/>
            <a:ext cx="5715000" cy="3637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300px-Sadko"/>
          <p:cNvPicPr/>
          <p:nvPr/>
        </p:nvPicPr>
        <p:blipFill>
          <a:blip r:embed="rId3"/>
          <a:stretch/>
        </p:blipFill>
        <p:spPr>
          <a:xfrm>
            <a:off x="5334120" y="685800"/>
            <a:ext cx="3809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05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раз Волхо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4" descr="0008-02b"/>
          <p:cNvPicPr/>
          <p:nvPr/>
        </p:nvPicPr>
        <p:blipFill>
          <a:blip r:embed="rId1"/>
          <a:stretch/>
        </p:blipFill>
        <p:spPr>
          <a:xfrm>
            <a:off x="0" y="0"/>
            <a:ext cx="5029200" cy="4149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0150-02b"/>
          <p:cNvPicPr/>
          <p:nvPr/>
        </p:nvPicPr>
        <p:blipFill>
          <a:blip r:embed="rId2"/>
          <a:stretch/>
        </p:blipFill>
        <p:spPr>
          <a:xfrm>
            <a:off x="5181480" y="685800"/>
            <a:ext cx="3875040" cy="5715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1230227656_volhova"/>
          <p:cNvPicPr/>
          <p:nvPr/>
        </p:nvPicPr>
        <p:blipFill>
          <a:blip r:embed="rId3"/>
          <a:stretch/>
        </p:blipFill>
        <p:spPr>
          <a:xfrm>
            <a:off x="380880" y="2095560"/>
            <a:ext cx="45151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99760" y="0"/>
            <a:ext cx="7643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лавные постанов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95280" y="7617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дин из наиболее значительных спектаклей был поставлен в Большом театре в 1949 г. под управлением Н. Голованова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 успехом опера шла в Ленинграде (Театр им. Кирова, 1953) и других городах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 «Садко» выступали крупнейшие русские артисты. Традиции Н. Забелы и А. Неждановой, А. Секар-Рожанского, И. Ершова, Ф. Шаляпина, В. Петрова получили продолжение в исполнительской практике вокалистов последующих поколений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За рубежом опера впервые была показана в Париже (1908), позднее — в Нью-Йорке (1930, под управлением Т. Серафина, с Э. Джонсоном в заглавной партии), в Лондоне (1931, театр «Лицеум», под управлением Э. Гуссенса), Риме (1931), Милане (1938), Берлине (1947)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257440" y="0"/>
            <a:ext cx="38862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Опера имеет характер полнокровного, правдивого повествования о могучей и самобытной жизни русского народа, заняв место среди наиболее ярких и значительных произведений русской оперной классики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4" name="Picture 4" descr="2!477"/>
          <p:cNvPicPr/>
          <p:nvPr/>
        </p:nvPicPr>
        <p:blipFill>
          <a:blip r:embed="rId1"/>
          <a:stretch/>
        </p:blipFill>
        <p:spPr>
          <a:xfrm>
            <a:off x="0" y="0"/>
            <a:ext cx="5257800" cy="4378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041228_SWScan00027"/>
          <p:cNvPicPr/>
          <p:nvPr/>
        </p:nvPicPr>
        <p:blipFill>
          <a:blip r:embed="rId2"/>
          <a:stretch/>
        </p:blipFill>
        <p:spPr>
          <a:xfrm>
            <a:off x="0" y="3129120"/>
            <a:ext cx="518148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СТОРИЯ СОЗД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47920" y="12189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Об опере на сюжет новгородской былины о Садко Римский-Корсаков думал еще в 1880-х годах, но к работе над ней приступил лишь летом 1894 год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Либретто написано самим композитором на основе русских былин о гусляре Садко. Впервые поставлена в Частной опере С.И. Мамонтова в Москве под управлением Евгения Эспозито в 1897 году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ремьера состоялась 26 декабря 1897 года (7 января 1898 года) и прошла с большим успехом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7" name="Picture 4" descr="music"/>
          <p:cNvPicPr/>
          <p:nvPr/>
        </p:nvPicPr>
        <p:blipFill>
          <a:blip r:embed="rId1"/>
          <a:stretch/>
        </p:blipFill>
        <p:spPr>
          <a:xfrm>
            <a:off x="0" y="0"/>
            <a:ext cx="137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00040" y="0"/>
            <a:ext cx="57913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Спектакль идет с двумя антрактами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опера-былина в 3-х актах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в 7-ми картинах </a:t>
            </a:r>
            <a:br>
              <a:rPr sz="3200"/>
            </a:b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Музыка Николая Римского-Корсакова </a:t>
            </a:r>
            <a:br>
              <a:rPr sz="3200"/>
            </a:b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Продолжительность спектакля: 3 часа 55 минут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•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Мировая премьера: 26 декабря 1897 года, Московская частная опера </a:t>
            </a:r>
            <a:br>
              <a:rPr sz="3200"/>
            </a:b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• Премьера в Мариинском театре: 26 января 1901 года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9" name="Picture 5" descr="12738460161"/>
          <p:cNvPicPr/>
          <p:nvPr/>
        </p:nvPicPr>
        <p:blipFill>
          <a:blip r:embed="rId1"/>
          <a:stretch/>
        </p:blipFill>
        <p:spPr>
          <a:xfrm>
            <a:off x="0" y="1219320"/>
            <a:ext cx="32767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2" name="Picture 4" descr="photo"/>
          <p:cNvPicPr/>
          <p:nvPr/>
        </p:nvPicPr>
        <p:blipFill>
          <a:blip r:embed="rId1"/>
          <a:stretch/>
        </p:blipFill>
        <p:spPr>
          <a:xfrm>
            <a:off x="0" y="0"/>
            <a:ext cx="3753000" cy="3962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sadko13"/>
          <p:cNvPicPr/>
          <p:nvPr/>
        </p:nvPicPr>
        <p:blipFill>
          <a:blip r:embed="rId2"/>
          <a:stretch/>
        </p:blipFill>
        <p:spPr>
          <a:xfrm>
            <a:off x="3733920" y="0"/>
            <a:ext cx="5410080" cy="3606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125px-Bilibin_stage"/>
          <p:cNvPicPr/>
          <p:nvPr/>
        </p:nvPicPr>
        <p:blipFill>
          <a:blip r:embed="rId3"/>
          <a:stretch/>
        </p:blipFill>
        <p:spPr>
          <a:xfrm>
            <a:off x="3733920" y="3581280"/>
            <a:ext cx="5410080" cy="3276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13265"/>
          <p:cNvPicPr/>
          <p:nvPr/>
        </p:nvPicPr>
        <p:blipFill>
          <a:blip r:embed="rId4"/>
          <a:stretch/>
        </p:blipFill>
        <p:spPr>
          <a:xfrm>
            <a:off x="914400" y="3962520"/>
            <a:ext cx="2811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0"/>
            <a:ext cx="7491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ействующие лиц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5280" y="914400"/>
            <a:ext cx="78487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Фома Назарьич, Лука Зиновьич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старшина и воевода,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настоятели новгородские-  тенор, бас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Садко, гусляр и певец в Новгороде - тенор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Любава Буслаевна, молодая жена - меццо‑сопрано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Нежата, молодой гусляр из Киева-города- контральто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Дуда, Сопель, 1-й, 2-й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скоморошины удалые - бас тенор 1-е и 2-е - меццо‑сопрано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Варяжский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Индийский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Веденецкий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заморские гости - бас тенор баритон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Океан-море,царь морской - бас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Волхова, царевна прекрасная, его дочь молодшая, любимая - сопрано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Видение: Старчище могуч-богатырь в образе калики перехожего 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баритон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-360"/>
            <a:ext cx="7491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узыка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990720"/>
            <a:ext cx="74916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«Садко» — яркий образец эпической оперы, для которой характерно замедленное, плавное течение действия, воскрешающее дух старинных былинных сказов. Музыкальные портреты главных действующих лиц даются в широко развитых вокальных номерах, картины народной жизни и быта — в монументальных хоровых сценах. Музыка оперы насыщена яркими, выпуклыми контрастами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505320" y="304920"/>
            <a:ext cx="304776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Образ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гусляра Садко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1" name="Picture 4" descr="0216-01b"/>
          <p:cNvPicPr/>
          <p:nvPr/>
        </p:nvPicPr>
        <p:blipFill>
          <a:blip r:embed="rId1"/>
          <a:stretch/>
        </p:blipFill>
        <p:spPr>
          <a:xfrm>
            <a:off x="1295280" y="0"/>
            <a:ext cx="2313000" cy="3352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0215-01b"/>
          <p:cNvPicPr/>
          <p:nvPr/>
        </p:nvPicPr>
        <p:blipFill>
          <a:blip r:embed="rId2"/>
          <a:stretch/>
        </p:blipFill>
        <p:spPr>
          <a:xfrm>
            <a:off x="6559560" y="3429000"/>
            <a:ext cx="2584440" cy="3429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ershov2"/>
          <p:cNvPicPr/>
          <p:nvPr/>
        </p:nvPicPr>
        <p:blipFill>
          <a:blip r:embed="rId3"/>
          <a:stretch/>
        </p:blipFill>
        <p:spPr>
          <a:xfrm>
            <a:off x="6492960" y="0"/>
            <a:ext cx="2651040" cy="3429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0008-02b"/>
          <p:cNvPicPr/>
          <p:nvPr/>
        </p:nvPicPr>
        <p:blipFill>
          <a:blip r:embed="rId4"/>
          <a:srcRect l="0" t="34001" r="64488" b="0"/>
          <a:stretch/>
        </p:blipFill>
        <p:spPr>
          <a:xfrm>
            <a:off x="1295280" y="3352680"/>
            <a:ext cx="2286000" cy="3505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0231440870"/>
          <p:cNvPicPr/>
          <p:nvPr/>
        </p:nvPicPr>
        <p:blipFill>
          <a:blip r:embed="rId5"/>
          <a:stretch/>
        </p:blipFill>
        <p:spPr>
          <a:xfrm>
            <a:off x="3657600" y="2286000"/>
            <a:ext cx="2857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0120" y="304920"/>
            <a:ext cx="7491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ы заморских гост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0079-03b"/>
          <p:cNvPicPr/>
          <p:nvPr/>
        </p:nvPicPr>
        <p:blipFill>
          <a:blip r:embed="rId1"/>
          <a:stretch/>
        </p:blipFill>
        <p:spPr>
          <a:xfrm>
            <a:off x="3962520" y="1066680"/>
            <a:ext cx="2682720" cy="5410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01sxvldk_b"/>
          <p:cNvPicPr/>
          <p:nvPr/>
        </p:nvPicPr>
        <p:blipFill>
          <a:blip r:embed="rId2"/>
          <a:srcRect l="18000" t="35020" r="59692" b="0"/>
          <a:stretch/>
        </p:blipFill>
        <p:spPr>
          <a:xfrm>
            <a:off x="1219320" y="1066680"/>
            <a:ext cx="2782800" cy="5410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01sxvldk_b"/>
          <p:cNvPicPr/>
          <p:nvPr/>
        </p:nvPicPr>
        <p:blipFill>
          <a:blip r:embed="rId3"/>
          <a:srcRect l="40001" t="0" r="30000" b="0"/>
          <a:stretch/>
        </p:blipFill>
        <p:spPr>
          <a:xfrm>
            <a:off x="6553080" y="1066680"/>
            <a:ext cx="24321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3760" y="0"/>
            <a:ext cx="38098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 морского царя и его царства – моря-океа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4" descr="image002"/>
          <p:cNvPicPr/>
          <p:nvPr/>
        </p:nvPicPr>
        <p:blipFill>
          <a:blip r:embed="rId1"/>
          <a:stretch/>
        </p:blipFill>
        <p:spPr>
          <a:xfrm>
            <a:off x="0" y="0"/>
            <a:ext cx="5267160" cy="2895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09sxvldk"/>
          <p:cNvPicPr/>
          <p:nvPr/>
        </p:nvPicPr>
        <p:blipFill>
          <a:blip r:embed="rId2"/>
          <a:stretch/>
        </p:blipFill>
        <p:spPr>
          <a:xfrm>
            <a:off x="3352680" y="2895480"/>
            <a:ext cx="5791320" cy="38656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sadko13"/>
          <p:cNvPicPr/>
          <p:nvPr/>
        </p:nvPicPr>
        <p:blipFill>
          <a:blip r:embed="rId3"/>
          <a:stretch/>
        </p:blipFill>
        <p:spPr>
          <a:xfrm>
            <a:off x="0" y="3505320"/>
            <a:ext cx="335268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Стас и Маша</cp:lastModifiedBy>
  <dcterms:modified xsi:type="dcterms:W3CDTF">2020-02-12T05:35:0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