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6.png" ContentType="image/png"/>
  <Override PartName="/ppt/media/image15.png" ContentType="image/png"/>
  <Override PartName="/ppt/media/image9.png" ContentType="image/png"/>
  <Override PartName="/ppt/media/image6.gif" ContentType="image/gif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EEE6-591D-4FC7-923A-A48FA342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2D6E-3D72-4066-8177-0025D20F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8BD6-7C98-455F-B1DF-8E5077132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9DAA-6199-4127-86A8-F4ADBCFE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502F-C01D-4C1B-912C-D48DCFF1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A077-3176-4272-A8D9-8B4BB789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831B-5755-46FE-845A-8E0BE23B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0084-BE9D-427F-BED3-B78E5229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5093-DF74-4233-893E-381B535E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CB37-2DAC-4898-83DB-B7638282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DBB4-F210-43AD-BF33-686673D3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656A-0947-40C6-9B0A-F574B429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4023-C6AD-49A6-99D1-68C54CD0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4B03-6510-4612-AABB-B7856373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4EAC-EFD5-4323-BF63-0E3F95D5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6EFE-1BE5-4444-8E18-0B23B966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E035-3C1A-449F-B44D-73BE55E6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67DA-13FF-4E80-A0D8-3E06DA87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3E23-C295-468C-B673-DD0F2A2D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7433-2D83-44FE-B071-F54776B9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C887-DFC7-43A6-905D-2B31881C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0576-6D12-4125-A0F9-90721E87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77C5-7B19-4F66-A373-7FE79F4E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ED1E-AA09-4090-92F4-A30C7053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BA03-7622-4FA6-A4F5-B6DB8393D0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F91B-63A0-4AA7-9B45-0A436F087D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5604/55125778.93/0_65cfa_3dc3934_XL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6"/>
          <p:cNvSpPr/>
          <p:nvPr/>
        </p:nvSpPr>
        <p:spPr>
          <a:xfrm>
            <a:off x="2590920" y="9907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 «лишнее»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3124080" y="2133720"/>
            <a:ext cx="2057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ф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6248520" y="2133720"/>
            <a:ext cx="1371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1523880" y="9144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бщего можно сказать о слов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2259000" y="92880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мена существите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1066680" y="440064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ой вопрос возникае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улируйте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му урока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очитайте правило на стр.1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2" descr="ar125630907888652.jpg"/>
          <p:cNvPicPr/>
          <p:nvPr/>
        </p:nvPicPr>
        <p:blipFill>
          <a:blip r:embed="rId1"/>
          <a:stretch/>
        </p:blipFill>
        <p:spPr>
          <a:xfrm>
            <a:off x="228600" y="3581280"/>
            <a:ext cx="2232000" cy="266724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ая соединительная линия 14"/>
          <p:cNvSpPr/>
          <p:nvPr/>
        </p:nvSpPr>
        <p:spPr>
          <a:xfrm>
            <a:off x="3124080" y="2438280"/>
            <a:ext cx="1295640" cy="763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5"/>
          <p:cNvSpPr/>
          <p:nvPr/>
        </p:nvSpPr>
        <p:spPr>
          <a:xfrm>
            <a:off x="6019920" y="3886200"/>
            <a:ext cx="1295280" cy="763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6"/>
          <p:cNvSpPr/>
          <p:nvPr/>
        </p:nvSpPr>
        <p:spPr>
          <a:xfrm>
            <a:off x="3200400" y="1600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7"/>
          <p:cNvSpPr/>
          <p:nvPr/>
        </p:nvSpPr>
        <p:spPr>
          <a:xfrm>
            <a:off x="6095880" y="1600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"/>
          <p:cNvSpPr/>
          <p:nvPr/>
        </p:nvSpPr>
        <p:spPr>
          <a:xfrm>
            <a:off x="2362320" y="152280"/>
            <a:ext cx="5964120" cy="609840"/>
          </a:xfrm>
          <a:prstGeom prst="rect">
            <a:avLst/>
          </a:prstGeom>
          <a:solidFill>
            <a:srgbClr val="f2f2f2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м основной вопрос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2562120" y="2209680"/>
            <a:ext cx="6172200" cy="2011320"/>
          </a:xfrm>
          <a:prstGeom prst="roundRect">
            <a:avLst>
              <a:gd name="adj" fmla="val 16667"/>
            </a:avLst>
          </a:prstGeom>
          <a:solidFill>
            <a:srgbClr val="dceff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  <a:ea typeface="Microsoft YaHei"/>
              </a:rPr>
              <a:t>Что так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Times New Roman"/>
                <a:ea typeface="Microsoft YaHei"/>
              </a:rPr>
              <a:t>имя существительное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  <a:ea typeface="Microsoft YaHe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2"/>
          <p:cNvSpPr/>
          <p:nvPr/>
        </p:nvSpPr>
        <p:spPr>
          <a:xfrm>
            <a:off x="3852360" y="644400"/>
            <a:ext cx="29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тр. 111 упр. 2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3197160" y="34920"/>
            <a:ext cx="4211640" cy="609480"/>
          </a:xfrm>
          <a:prstGeom prst="rect">
            <a:avLst/>
          </a:prstGeom>
          <a:solidFill>
            <a:srgbClr val="f2f2f2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м у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533520" y="1158840"/>
            <a:ext cx="84582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слова. Найдите и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т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на существительные. Докаж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ие две группы их можно раздел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слова в два столбика. (самостоятельно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оверь себ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то?                             Что?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ор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я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ишите в каждую группу по одному слов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"/>
          <p:cNvSpPr/>
          <p:nvPr/>
        </p:nvSpPr>
        <p:spPr>
          <a:xfrm>
            <a:off x="4780080" y="3375000"/>
            <a:ext cx="198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с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ор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не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стреч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3276720" y="63360"/>
            <a:ext cx="4744800" cy="609840"/>
          </a:xfrm>
          <a:prstGeom prst="rect">
            <a:avLst/>
          </a:prstGeom>
          <a:solidFill>
            <a:srgbClr val="f2f2f2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ваем новое 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1828800" y="6858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пиши слова через запяту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http://img-fotki.yandex.ru/get/5604/55125778.93/0_65cfa_3dc3934_X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447920"/>
            <a:ext cx="2119320" cy="2438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im3-tub-ru.yandex.net/i?id=278717641-16-72&amp;n=21"/>
          <p:cNvPicPr/>
          <p:nvPr/>
        </p:nvPicPr>
        <p:blipFill>
          <a:blip r:embed="rId3"/>
          <a:stretch/>
        </p:blipFill>
        <p:spPr>
          <a:xfrm>
            <a:off x="2819520" y="1295280"/>
            <a:ext cx="3124080" cy="2492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ttp://dou105.ucoz.ru/Hcv2xHEV.jpg"/>
          <p:cNvPicPr/>
          <p:nvPr/>
        </p:nvPicPr>
        <p:blipFill>
          <a:blip r:embed="rId4"/>
          <a:srcRect l="3334" t="10592" r="16668" b="7311"/>
          <a:stretch/>
        </p:blipFill>
        <p:spPr>
          <a:xfrm>
            <a:off x="3429000" y="3886200"/>
            <a:ext cx="2004840" cy="2590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Картинки по запросу картинка россия"/>
          <p:cNvPicPr/>
          <p:nvPr/>
        </p:nvPicPr>
        <p:blipFill>
          <a:blip r:embed="rId5"/>
          <a:stretch/>
        </p:blipFill>
        <p:spPr>
          <a:xfrm>
            <a:off x="6172200" y="1316160"/>
            <a:ext cx="264960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2"/>
          <p:cNvSpPr/>
          <p:nvPr/>
        </p:nvSpPr>
        <p:spPr>
          <a:xfrm>
            <a:off x="838080" y="25909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181160" y="801720"/>
            <a:ext cx="781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ие две группы можно разделить имена собственны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2743200" y="10666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бщего в слова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6477120" y="25909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вин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4495680" y="2590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266688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1828800" y="1981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4724280" y="1981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3276720" y="63360"/>
            <a:ext cx="4744800" cy="609840"/>
          </a:xfrm>
          <a:prstGeom prst="rect">
            <a:avLst/>
          </a:prstGeom>
          <a:solidFill>
            <a:srgbClr val="f2f2f2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ваем новое 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2"/>
          <p:cNvSpPr/>
          <p:nvPr/>
        </p:nvSpPr>
        <p:spPr>
          <a:xfrm>
            <a:off x="380880" y="419112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вывод можно сделать об именах собственных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читайте правило на стр. 11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.210 - у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48148E-006 L -0.6125 0.09745 E">
                                      <p:cBhvr>
                                        <p:cTn id="157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19167 0.08889 E">
                                      <p:cBhvr>
                                        <p:cTn id="159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:\Documents and Settings\Aida\Рабочий стол\ПРО создание презнетаций шаблонов... и всё!\Картинки к 1 сентября\lqoeyiomhoedxyztswryo.png"/>
          <p:cNvPicPr/>
          <p:nvPr/>
        </p:nvPicPr>
        <p:blipFill>
          <a:blip r:embed="rId1"/>
          <a:stretch/>
        </p:blipFill>
        <p:spPr>
          <a:xfrm flipH="1" rot="1484400">
            <a:off x="463320" y="216000"/>
            <a:ext cx="610920" cy="60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2" name="TextBox 6"/>
          <p:cNvSpPr/>
          <p:nvPr/>
        </p:nvSpPr>
        <p:spPr>
          <a:xfrm>
            <a:off x="135360" y="6500880"/>
            <a:ext cx="99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aida.ucoz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357120" y="1357200"/>
            <a:ext cx="850104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те. Что это? Докажите свое мн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ишите предложение, дайте ему характерист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ли ребята лукошки и побежали в ближний л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285840" y="3714840"/>
            <a:ext cx="8643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делите главные чле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йте вопрос  и определите, какой   частью речи является подлежащ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ь ли ещё в предложении имена существитель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>
            <a:off x="2857680" y="3141720"/>
            <a:ext cx="1214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2928960" y="242712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4643280" y="242712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7"/>
          <p:cNvSpPr/>
          <p:nvPr/>
        </p:nvSpPr>
        <p:spPr>
          <a:xfrm>
            <a:off x="2214720" y="3000240"/>
            <a:ext cx="10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Группа 18"/>
          <p:cNvGrpSpPr/>
          <p:nvPr/>
        </p:nvGrpSpPr>
        <p:grpSpPr>
          <a:xfrm>
            <a:off x="1357200" y="3143160"/>
            <a:ext cx="1071720" cy="71640"/>
            <a:chOff x="1357200" y="3143160"/>
            <a:chExt cx="1071720" cy="71640"/>
          </a:xfrm>
        </p:grpSpPr>
        <p:sp>
          <p:nvSpPr>
            <p:cNvPr id="140" name="Прямая соединительная линия 12"/>
            <p:cNvSpPr/>
            <p:nvPr/>
          </p:nvSpPr>
          <p:spPr>
            <a:xfrm>
              <a:off x="1357200" y="3143160"/>
              <a:ext cx="1071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Прямая соединительная линия 16"/>
            <p:cNvSpPr/>
            <p:nvPr/>
          </p:nvSpPr>
          <p:spPr>
            <a:xfrm>
              <a:off x="1357200" y="3213360"/>
              <a:ext cx="1071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Группа 15"/>
          <p:cNvGrpSpPr/>
          <p:nvPr/>
        </p:nvGrpSpPr>
        <p:grpSpPr>
          <a:xfrm>
            <a:off x="6588000" y="3141720"/>
            <a:ext cx="1729080" cy="77760"/>
            <a:chOff x="6588000" y="3141720"/>
            <a:chExt cx="1729080" cy="77760"/>
          </a:xfrm>
        </p:grpSpPr>
        <p:sp>
          <p:nvSpPr>
            <p:cNvPr id="143" name="Прямая соединительная линия 19"/>
            <p:cNvSpPr/>
            <p:nvPr/>
          </p:nvSpPr>
          <p:spPr>
            <a:xfrm>
              <a:off x="6588000" y="3141720"/>
              <a:ext cx="1729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рямая соединительная линия 20"/>
            <p:cNvSpPr/>
            <p:nvPr/>
          </p:nvSpPr>
          <p:spPr>
            <a:xfrm>
              <a:off x="6588000" y="3218040"/>
              <a:ext cx="1729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1"/>
          <p:cNvSpPr/>
          <p:nvPr/>
        </p:nvSpPr>
        <p:spPr>
          <a:xfrm>
            <a:off x="3276720" y="63360"/>
            <a:ext cx="4744800" cy="609840"/>
          </a:xfrm>
          <a:prstGeom prst="rect">
            <a:avLst/>
          </a:prstGeom>
          <a:solidFill>
            <a:srgbClr val="f2f2f2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м у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H:\Documents and Settings\Aida\Рабочий стол\ПРО создание презнетаций шаблонов... и всё!\Картинки к 1 сентября\lqoeyiomhoedxyztswryo.png"/>
          <p:cNvPicPr/>
          <p:nvPr/>
        </p:nvPicPr>
        <p:blipFill>
          <a:blip r:embed="rId1"/>
          <a:stretch/>
        </p:blipFill>
        <p:spPr>
          <a:xfrm flipH="1" rot="1484400">
            <a:off x="463320" y="216000"/>
            <a:ext cx="610920" cy="60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7" name="TextBox 6"/>
          <p:cNvSpPr/>
          <p:nvPr/>
        </p:nvSpPr>
        <p:spPr>
          <a:xfrm>
            <a:off x="135360" y="6500880"/>
            <a:ext cx="99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aida.ucoz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2071800" y="214200"/>
            <a:ext cx="5715000" cy="71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Заголовок 1"/>
          <p:cNvSpPr/>
          <p:nvPr/>
        </p:nvSpPr>
        <p:spPr>
          <a:xfrm>
            <a:off x="5572080" y="1143000"/>
            <a:ext cx="2714760" cy="5716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асть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Заголовок 1"/>
          <p:cNvSpPr/>
          <p:nvPr/>
        </p:nvSpPr>
        <p:spPr>
          <a:xfrm>
            <a:off x="285840" y="1143000"/>
            <a:ext cx="5214960" cy="5716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я существительное -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Заголовок 1"/>
          <p:cNvSpPr/>
          <p:nvPr/>
        </p:nvSpPr>
        <p:spPr>
          <a:xfrm>
            <a:off x="285840" y="1857240"/>
            <a:ext cx="8501040" cy="5716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я существительное обознач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2"/>
          <p:cNvGrpSpPr/>
          <p:nvPr/>
        </p:nvGrpSpPr>
        <p:grpSpPr>
          <a:xfrm>
            <a:off x="285480" y="2668680"/>
            <a:ext cx="1785960" cy="546120"/>
            <a:chOff x="285480" y="2668680"/>
            <a:chExt cx="1785960" cy="546120"/>
          </a:xfrm>
        </p:grpSpPr>
        <p:sp>
          <p:nvSpPr>
            <p:cNvPr id="153" name="Прямоугольник с двумя скругленными соседними углами 25"/>
            <p:cNvSpPr/>
            <p:nvPr/>
          </p:nvSpPr>
          <p:spPr>
            <a:xfrm rot="5400000">
              <a:off x="905400" y="2048760"/>
              <a:ext cx="546120" cy="1785960"/>
            </a:xfrm>
            <a:custGeom>
              <a:avLst/>
              <a:gdLst/>
              <a:ahLst/>
              <a:rect l="l" t="t" r="r" b="b"/>
              <a:pathLst>
                <a:path w="545633" h="5508703">
                  <a:moveTo>
                    <a:pt x="90941" y="0"/>
                  </a:moveTo>
                  <a:lnTo>
                    <a:pt x="454692" y="0"/>
                  </a:lnTo>
                  <a:cubicBezTo>
                    <a:pt x="504917" y="0"/>
                    <a:pt x="545633" y="40716"/>
                    <a:pt x="545633" y="90941"/>
                  </a:cubicBezTo>
                  <a:lnTo>
                    <a:pt x="545633" y="5508703"/>
                  </a:lnTo>
                  <a:lnTo>
                    <a:pt x="545633" y="5508703"/>
                  </a:lnTo>
                  <a:lnTo>
                    <a:pt x="0" y="5508703"/>
                  </a:lnTo>
                  <a:lnTo>
                    <a:pt x="0" y="5508703"/>
                  </a:lnTo>
                  <a:lnTo>
                    <a:pt x="0" y="90941"/>
                  </a:lnTo>
                  <a:cubicBezTo>
                    <a:pt x="0" y="40716"/>
                    <a:pt x="40716" y="0"/>
                    <a:pt x="9094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fffff"/>
                </a:gs>
                <a:gs pos="100000">
                  <a:srgbClr val="f0ffff"/>
                </a:gs>
              </a:gsLst>
              <a:lin ang="10800000"/>
            </a:gradFill>
            <a:ln w="9360">
              <a:solidFill>
                <a:srgbClr val="b6dcd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Прямоугольник 26"/>
            <p:cNvSpPr/>
            <p:nvPr/>
          </p:nvSpPr>
          <p:spPr>
            <a:xfrm>
              <a:off x="285840" y="2695680"/>
              <a:ext cx="1778040" cy="492120"/>
            </a:xfrm>
            <a:prstGeom prst="rect">
              <a:avLst/>
            </a:prstGeom>
            <a:gradFill rotWithShape="0">
              <a:gsLst>
                <a:gs pos="0">
                  <a:srgbClr val="cfffff"/>
                </a:gs>
                <a:gs pos="100000">
                  <a:srgbClr val="f0ffff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70640" rIns="15120" tIns="15120" bIns="15120" anchor="ctr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51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редме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Группа 14"/>
          <p:cNvGrpSpPr/>
          <p:nvPr/>
        </p:nvGrpSpPr>
        <p:grpSpPr>
          <a:xfrm>
            <a:off x="2286000" y="2643120"/>
            <a:ext cx="2857680" cy="552600"/>
            <a:chOff x="2286000" y="2643120"/>
            <a:chExt cx="2857680" cy="552600"/>
          </a:xfrm>
        </p:grpSpPr>
        <p:sp>
          <p:nvSpPr>
            <p:cNvPr id="156" name="Прямоугольник с двумя скругленными соседними углами 21"/>
            <p:cNvSpPr/>
            <p:nvPr/>
          </p:nvSpPr>
          <p:spPr>
            <a:xfrm rot="5400000">
              <a:off x="3438360" y="1490400"/>
              <a:ext cx="552600" cy="2857680"/>
            </a:xfrm>
            <a:custGeom>
              <a:avLst/>
              <a:gdLst/>
              <a:ahLst/>
              <a:rect l="l" t="t" r="r" b="b"/>
              <a:pathLst>
                <a:path w="545346" h="5508705">
                  <a:moveTo>
                    <a:pt x="90893" y="0"/>
                  </a:moveTo>
                  <a:lnTo>
                    <a:pt x="454453" y="0"/>
                  </a:lnTo>
                  <a:cubicBezTo>
                    <a:pt x="504652" y="0"/>
                    <a:pt x="545346" y="40694"/>
                    <a:pt x="545346" y="90893"/>
                  </a:cubicBezTo>
                  <a:lnTo>
                    <a:pt x="545346" y="5508705"/>
                  </a:lnTo>
                  <a:lnTo>
                    <a:pt x="545346" y="5508705"/>
                  </a:lnTo>
                  <a:lnTo>
                    <a:pt x="0" y="5508705"/>
                  </a:lnTo>
                  <a:lnTo>
                    <a:pt x="0" y="5508705"/>
                  </a:lnTo>
                  <a:lnTo>
                    <a:pt x="0" y="90893"/>
                  </a:lnTo>
                  <a:cubicBezTo>
                    <a:pt x="0" y="40694"/>
                    <a:pt x="40694" y="0"/>
                    <a:pt x="9089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fffff"/>
                </a:gs>
                <a:gs pos="100000">
                  <a:srgbClr val="f0ffff"/>
                </a:gs>
              </a:gsLst>
              <a:lin ang="10800000"/>
            </a:gradFill>
            <a:ln w="9360">
              <a:solidFill>
                <a:srgbClr val="b6dcd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Прямоугольник 22"/>
            <p:cNvSpPr/>
            <p:nvPr/>
          </p:nvSpPr>
          <p:spPr>
            <a:xfrm>
              <a:off x="2286000" y="2670120"/>
              <a:ext cx="2857680" cy="498600"/>
            </a:xfrm>
            <a:prstGeom prst="rect">
              <a:avLst/>
            </a:prstGeom>
            <a:gradFill rotWithShape="0">
              <a:gsLst>
                <a:gs pos="0">
                  <a:srgbClr val="cfffff"/>
                </a:gs>
                <a:gs pos="100000">
                  <a:srgbClr val="f0ffff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70640" rIns="15120" tIns="15120" bIns="15120" anchor="ctr">
              <a:noAutofit/>
            </a:bodyPr>
            <a:p>
              <a:pPr lvl="1">
                <a:lnSpc>
                  <a:spcPct val="90000"/>
                </a:lnSpc>
                <a:spcAft>
                  <a:spcPts val="451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Явления природ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Группа 15"/>
          <p:cNvGrpSpPr/>
          <p:nvPr/>
        </p:nvGrpSpPr>
        <p:grpSpPr>
          <a:xfrm>
            <a:off x="5286240" y="2668680"/>
            <a:ext cx="1643040" cy="546120"/>
            <a:chOff x="5286240" y="2668680"/>
            <a:chExt cx="1643040" cy="546120"/>
          </a:xfrm>
        </p:grpSpPr>
        <p:sp>
          <p:nvSpPr>
            <p:cNvPr id="159" name="Прямоугольник с двумя скругленными соседними углами 19"/>
            <p:cNvSpPr/>
            <p:nvPr/>
          </p:nvSpPr>
          <p:spPr>
            <a:xfrm rot="5400000">
              <a:off x="5834520" y="2120040"/>
              <a:ext cx="546120" cy="1643040"/>
            </a:xfrm>
            <a:custGeom>
              <a:avLst/>
              <a:gdLst/>
              <a:ahLst/>
              <a:rect l="l" t="t" r="r" b="b"/>
              <a:pathLst>
                <a:path w="545346" h="5508703">
                  <a:moveTo>
                    <a:pt x="90893" y="0"/>
                  </a:moveTo>
                  <a:lnTo>
                    <a:pt x="454453" y="0"/>
                  </a:lnTo>
                  <a:cubicBezTo>
                    <a:pt x="504652" y="0"/>
                    <a:pt x="545346" y="40694"/>
                    <a:pt x="545346" y="90893"/>
                  </a:cubicBezTo>
                  <a:lnTo>
                    <a:pt x="545346" y="5508703"/>
                  </a:lnTo>
                  <a:lnTo>
                    <a:pt x="545346" y="5508703"/>
                  </a:lnTo>
                  <a:lnTo>
                    <a:pt x="0" y="5508703"/>
                  </a:lnTo>
                  <a:lnTo>
                    <a:pt x="0" y="5508703"/>
                  </a:lnTo>
                  <a:lnTo>
                    <a:pt x="0" y="90893"/>
                  </a:lnTo>
                  <a:cubicBezTo>
                    <a:pt x="0" y="40694"/>
                    <a:pt x="40694" y="0"/>
                    <a:pt x="9089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fffff"/>
                </a:gs>
                <a:gs pos="100000">
                  <a:srgbClr val="f0ffff"/>
                </a:gs>
              </a:gsLst>
              <a:lin ang="10800000"/>
            </a:gradFill>
            <a:ln w="9360">
              <a:solidFill>
                <a:srgbClr val="b6dcd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Прямоугольник 20"/>
            <p:cNvSpPr/>
            <p:nvPr/>
          </p:nvSpPr>
          <p:spPr>
            <a:xfrm>
              <a:off x="5286240" y="2695680"/>
              <a:ext cx="1635120" cy="492120"/>
            </a:xfrm>
            <a:prstGeom prst="rect">
              <a:avLst/>
            </a:prstGeom>
            <a:gradFill rotWithShape="0">
              <a:gsLst>
                <a:gs pos="0">
                  <a:srgbClr val="cfffff"/>
                </a:gs>
                <a:gs pos="100000">
                  <a:srgbClr val="f0ffff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70640" rIns="15120" tIns="15120" bIns="15120" anchor="ctr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51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Событ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Группа 16"/>
          <p:cNvGrpSpPr/>
          <p:nvPr/>
        </p:nvGrpSpPr>
        <p:grpSpPr>
          <a:xfrm>
            <a:off x="7071840" y="2668680"/>
            <a:ext cx="1714680" cy="546120"/>
            <a:chOff x="7071840" y="2668680"/>
            <a:chExt cx="1714680" cy="546120"/>
          </a:xfrm>
        </p:grpSpPr>
        <p:sp>
          <p:nvSpPr>
            <p:cNvPr id="162" name="Прямоугольник с двумя скругленными соседними углами 17"/>
            <p:cNvSpPr/>
            <p:nvPr/>
          </p:nvSpPr>
          <p:spPr>
            <a:xfrm rot="5400000">
              <a:off x="7656120" y="2084400"/>
              <a:ext cx="546120" cy="1714680"/>
            </a:xfrm>
            <a:custGeom>
              <a:avLst/>
              <a:gdLst/>
              <a:ahLst/>
              <a:rect l="l" t="t" r="r" b="b"/>
              <a:pathLst>
                <a:path w="545346" h="5508703">
                  <a:moveTo>
                    <a:pt x="90893" y="0"/>
                  </a:moveTo>
                  <a:lnTo>
                    <a:pt x="454453" y="0"/>
                  </a:lnTo>
                  <a:cubicBezTo>
                    <a:pt x="504652" y="0"/>
                    <a:pt x="545346" y="40694"/>
                    <a:pt x="545346" y="90893"/>
                  </a:cubicBezTo>
                  <a:lnTo>
                    <a:pt x="545346" y="5508703"/>
                  </a:lnTo>
                  <a:lnTo>
                    <a:pt x="545346" y="5508703"/>
                  </a:lnTo>
                  <a:lnTo>
                    <a:pt x="0" y="5508703"/>
                  </a:lnTo>
                  <a:lnTo>
                    <a:pt x="0" y="5508703"/>
                  </a:lnTo>
                  <a:lnTo>
                    <a:pt x="0" y="90893"/>
                  </a:lnTo>
                  <a:cubicBezTo>
                    <a:pt x="0" y="40694"/>
                    <a:pt x="40694" y="0"/>
                    <a:pt x="9089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fffff"/>
                </a:gs>
                <a:gs pos="100000">
                  <a:srgbClr val="f0ffff"/>
                </a:gs>
              </a:gsLst>
              <a:lin ang="10800000"/>
            </a:gradFill>
            <a:ln w="9360">
              <a:solidFill>
                <a:srgbClr val="b6dcd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рямоугольник 18"/>
            <p:cNvSpPr/>
            <p:nvPr/>
          </p:nvSpPr>
          <p:spPr>
            <a:xfrm>
              <a:off x="7072200" y="2695680"/>
              <a:ext cx="1706760" cy="492120"/>
            </a:xfrm>
            <a:prstGeom prst="rect">
              <a:avLst/>
            </a:prstGeom>
            <a:gradFill rotWithShape="0">
              <a:gsLst>
                <a:gs pos="0">
                  <a:srgbClr val="cfffff"/>
                </a:gs>
                <a:gs pos="100000">
                  <a:srgbClr val="f0ffff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70640" rIns="15120" tIns="15120" bIns="15120" anchor="ctr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51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Состоян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Заголовок 1"/>
          <p:cNvSpPr/>
          <p:nvPr/>
        </p:nvSpPr>
        <p:spPr>
          <a:xfrm>
            <a:off x="1214280" y="3286080"/>
            <a:ext cx="6786720" cy="50004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ена собственные –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29"/>
          <p:cNvSpPr/>
          <p:nvPr/>
        </p:nvSpPr>
        <p:spPr>
          <a:xfrm>
            <a:off x="2071800" y="4098960"/>
            <a:ext cx="5257800" cy="5814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ществ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Екатерина</cp:lastModifiedBy>
  <dcterms:modified xsi:type="dcterms:W3CDTF">2020-08-07T05:01:09Z</dcterms:modified>
  <cp:revision>24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