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DA4-992F-4996-BC39-3994ABA6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D9B-0D48-405A-AF89-81BBDB0C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AFB-B8D9-4878-A3CF-ECD1205B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C6A-AF29-444A-8033-79D3F77C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9A7B-B754-4380-B2B8-043A8130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4BF3-C094-4FBA-A166-474FA11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C97F-44F1-4B60-8D82-46B9DAEB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CCF-78E4-47CE-9DCB-898537B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76D7-5F4F-4CA1-8CD5-9CCB5A4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0B22-F739-4083-9D61-57902A8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431B-E9CB-46D6-B6E5-4A0F100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C16-FF48-445A-A845-4B1DB92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97A-A0AB-4F7A-8BF7-DB74239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D7BC-CD1E-4244-AED5-C9C14B6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9F17-7366-4D06-8A15-8EC4F753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D559-5679-4D78-A8FB-10385DF1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E13-84D1-452A-90B2-45803025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3321-CC11-4609-85E6-4DEDD037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A2CB-D901-467D-8A8B-3187B0D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9413-AD61-47DD-8896-648EAFC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061E-1E0D-434C-8406-2A56813A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6E57-B378-4363-87EB-EFA21663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AAF-1144-40FE-9B98-BD186EB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FE8B-5A4F-48A9-92B0-150A444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7709-27A1-4858-A41F-131CCF8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4532-BE36-4E07-B0E7-5B02E5D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E499-4480-405F-A88B-75F97E09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24C9-5B8A-4E6A-81F0-AADD3779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C162-2A26-4672-9E73-B459B096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1300-4BC3-4A44-94EA-AD2AC66B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77E-24D0-4C6E-913E-E741B2B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698-0A2B-485B-A574-9735EF0D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810-1EB0-4C3D-94D0-E8DF963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62D-0698-4A75-B1F3-A6BC323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874-A4BD-419D-9C35-5207C8B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517-438D-4ED9-8003-7DCD393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3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2" descr="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3" descr="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" descr="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15" descr="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6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18" descr="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19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1CD-8A27-48E7-A114-C352C563395F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281-4745-4DA5-8EB3-F1B13594D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101" name="Rectangle 3"/>
            <p:cNvSpPr/>
            <p:nvPr/>
          </p:nvSpPr>
          <p:spPr>
            <a:xfrm>
              <a:off x="228600" y="3200400"/>
              <a:ext cx="8763120" cy="1600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914400" y="914400"/>
              <a:ext cx="7620120" cy="1600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728640" y="1600200"/>
              <a:ext cx="7696080" cy="190512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0" y="617220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05" name="Picture 7" descr="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200400"/>
              <a:ext cx="84582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Group 8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107" name="Picture 9" descr="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0" descr="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11" descr="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12" descr="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3" descr="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4" descr="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5" descr="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6" descr="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7" descr="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8" descr="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" name="Rectangle 19"/>
            <p:cNvSpPr/>
            <p:nvPr/>
          </p:nvSpPr>
          <p:spPr>
            <a:xfrm>
              <a:off x="795240" y="2895480"/>
              <a:ext cx="304920" cy="9907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150-1709-487C-9E3F-7CD2950A93FA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2449"/>
                </a:solidFill>
                <a:latin typeface="Times New Roman"/>
              </a:rPr>
              <a:t>«ЛЮБИ   ЖИВОЕ»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. Соколов – Микито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Листопадничек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898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1"/>
          <p:cNvSpPr/>
          <p:nvPr/>
        </p:nvSpPr>
        <p:spPr>
          <a:xfrm>
            <a:off x="395280" y="209520"/>
            <a:ext cx="797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чему  зайчат  назвали  листопадничками? Кто  их  так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звал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читайте  об  изменениях  в  природ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ОСЕНЬ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осыпался  с  деревьев  золотой  лист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стало  в  лесу  скучно, холодно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стали  собираться  птицы  к  отлёту  в  тёплые  страны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стало  ещё  скучнее  в  лесу (почему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1"/>
          <a:stretch/>
        </p:blipFill>
        <p:spPr>
          <a:xfrm>
            <a:off x="7020000" y="1341360"/>
            <a:ext cx="1805040" cy="1571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2"/>
          <a:stretch/>
        </p:blipFill>
        <p:spPr>
          <a:xfrm>
            <a:off x="6516720" y="4508640"/>
            <a:ext cx="2627280" cy="217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6"/>
          <p:cNvGrpSpPr/>
          <p:nvPr/>
        </p:nvGrpSpPr>
        <p:grpSpPr>
          <a:xfrm>
            <a:off x="6516720" y="4543560"/>
            <a:ext cx="2434320" cy="2151000"/>
            <a:chOff x="6516720" y="4543560"/>
            <a:chExt cx="2434320" cy="2151000"/>
          </a:xfrm>
        </p:grpSpPr>
        <p:pic>
          <p:nvPicPr>
            <p:cNvPr id="165" name="Picture 22" descr=""/>
            <p:cNvPicPr/>
            <p:nvPr/>
          </p:nvPicPr>
          <p:blipFill>
            <a:blip r:embed="rId3"/>
            <a:stretch/>
          </p:blipFill>
          <p:spPr>
            <a:xfrm>
              <a:off x="6516720" y="5877000"/>
              <a:ext cx="93672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4" descr=""/>
            <p:cNvPicPr/>
            <p:nvPr/>
          </p:nvPicPr>
          <p:blipFill>
            <a:blip r:embed="rId4"/>
            <a:stretch/>
          </p:blipFill>
          <p:spPr>
            <a:xfrm rot="962400">
              <a:off x="7956360" y="4652640"/>
              <a:ext cx="90324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5" descr=""/>
            <p:cNvPicPr/>
            <p:nvPr/>
          </p:nvPicPr>
          <p:blipFill>
            <a:blip r:embed="rId5"/>
            <a:stretch/>
          </p:blipFill>
          <p:spPr>
            <a:xfrm>
              <a:off x="7596360" y="5948280"/>
              <a:ext cx="865080" cy="5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27"/>
          <p:cNvSpPr/>
          <p:nvPr/>
        </p:nvSpPr>
        <p:spPr>
          <a:xfrm>
            <a:off x="4266000" y="3138480"/>
            <a:ext cx="354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улетели  крикливые  журавли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залегли  в  берлоги  медведи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заснули  колючие  ежи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спрятались  зме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3851280" y="3213000"/>
            <a:ext cx="152280" cy="1130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377640" y="3570120"/>
            <a:ext cx="34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Животные  приготовились  к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зим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aaa4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50920" y="281160"/>
            <a:ext cx="894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чему  заплакали  листопаднички, а  потом  успокоилис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не  знали  как  готовятся  к  зиме  зайцы, потому  что  родилис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сенью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мама  говорила  строго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«Разве  замерзают  зайцы  зимой?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чало  приключений (нарушение  запрета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«И  убежал  тихонько  из  родного  гнезда   маленький  зайчонок  искать  журавлиные  тёплые  страны»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6877080" y="5013360"/>
            <a:ext cx="2066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30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 УЗНАЛИ  О  ЖИЗНИ  БОБ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7008840" y="260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7164360" y="4724280"/>
            <a:ext cx="1917720" cy="2133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235440" y="1073160"/>
            <a:ext cx="816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де  живут (глухая  лесная  речка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ак  строят  плотин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чем  валят  деревья (корм  на  зиму  и  хатка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меют  плавать  и  нырять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ак  выглядит  хатка (прочитать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обры: заботливые, работают  ходко, звери  трудолюбивые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обрята  много  едят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юбят  чистоту  и  порядок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щищают  своё  жилище  и  бобрят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кто  приносит  бобрам  неприятност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е  бросили  зайчонка  в  бед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07 - Песенка бобрят.mp3" descr=""/>
          <p:cNvPicPr/>
          <p:nvPr/>
        </p:nvPicPr>
        <p:blipFill>
          <a:blip r:embed="rId4"/>
          <a:stretch/>
        </p:blipFill>
        <p:spPr>
          <a:xfrm>
            <a:off x="883908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7038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94000" cy="26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36720" cy="20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4"/>
          <a:stretch/>
        </p:blipFill>
        <p:spPr>
          <a:xfrm>
            <a:off x="6372360" y="260280"/>
            <a:ext cx="2419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6"/>
          <p:cNvSpPr/>
          <p:nvPr/>
        </p:nvSpPr>
        <p:spPr>
          <a:xfrm>
            <a:off x="231120" y="3090960"/>
            <a:ext cx="212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азбойница- выдр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(портит  и  разоря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лотины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185640" y="316224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«Подходила  к  хатке,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инюхиваясь, хитрая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лисица»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350760" y="409896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«Бродила  возле  хатки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лая  рыс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54400" y="5467320"/>
            <a:ext cx="32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«Жадная  росомаха   пробовал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ломать  хатку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572000" y="2789280"/>
            <a:ext cx="4572000" cy="406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50920" y="28116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СТОПАДНИЧЕК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амый  маленький  (родился   осенью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упенький  (хотел  летать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есмышлёный (не  послушал  маму; думал, что  где-то лучше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юбопытный (вопросы  бобрам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сторожный (не  захотел  в  холодную  воду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рудолюбивый (как  кормил  бобрят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зумный (звал  бобров  на  помощь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чаянный (за  долгую  зиму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го  страху  натерпелся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обкий (со  страху  хвостик  дрожит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оялся  холодной  воды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ешительный(пришлось к  берегу  плы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амому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611280" y="981000"/>
            <a:ext cx="826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прос  6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Вспомнил  своё  светлое  гнездо, старую  мать-зайчиху  и  ма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еньких  братье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«Эх, видно  не  видать  мне  больше  сладкой  репки!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Часто  вспоминал он  своё  тёплое  гнездо, старую  мать-зайчих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«...со  всех  ног  на  родное  болото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«Крепко-крепко  заснул  возле  матери  в  родном  гнезд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стопадничек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прос 9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прос 10.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М  ТЕМУ  И  ИДЕЮ 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045440" y="5516640"/>
            <a:ext cx="68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казка  И.Соколова-Микитова  «Листопадничек» 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знавательная  и  поучительна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26:06Z</dcterms:created>
  <dc:creator>VALERA</dc:creator>
  <dc:description/>
  <dc:language>en-US</dc:language>
  <cp:lastModifiedBy>User</cp:lastModifiedBy>
  <dcterms:modified xsi:type="dcterms:W3CDTF">2020-08-07T18:30:33Z</dcterms:modified>
  <cp:revision>3</cp:revision>
  <dc:subject/>
  <dc:title>«ЛЮБИ   ЖИВОЕ»</dc:title>
</cp:coreProperties>
</file>