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1EE-EA7B-49CE-8EA1-AA3EAD1B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BC4-E073-45F5-9733-5E48E3A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DED-76EE-49FD-9129-2D67A8E4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8A6-F5DD-4BF9-849F-3BB49F6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1AF-DA22-4323-AC82-29F42872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4C3-E582-481B-B814-3CC4A03B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43F-76D3-430F-85E8-7689F2C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64A-715B-42BB-A92C-87DC18F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3FA-E815-4252-94FC-892BD59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A4F-3B4A-48DA-80BD-7090F938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FA-0E82-4A57-81C2-97BA745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76D-A462-43A7-8E2B-1B8BDBF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3BD-78FC-47EF-83EF-0FF4E0699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kids/kids203jpg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allforchildren.ru/pictures/showimg/kids/kids190jpg.htm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ование малых форм фольклора в речевом развитии детей в ОВ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763640" y="51350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-дефектолог, логопед  Марудова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ДОУ № 79 Красносель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dfa99TVh57k"/>
          <p:cNvPicPr/>
          <p:nvPr/>
        </p:nvPicPr>
        <p:blipFill>
          <a:blip r:embed="rId1"/>
          <a:stretch/>
        </p:blipFill>
        <p:spPr>
          <a:xfrm>
            <a:off x="736560" y="635040"/>
            <a:ext cx="7670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539640" y="20772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формами организации обучения детей, на которых используется фольклорный материал, являются индивидуальные и  подгрупповые  занятия разных ви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ем фольклорные произведения на разных этапах занятия: в организационном моменте (при введении детей в тему занятия), в основной части (при изучении темы), во время динамических пауз, пальчиковой гимнастики, мимической гимна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axy_mGePixQ"/>
          <p:cNvPicPr/>
          <p:nvPr/>
        </p:nvPicPr>
        <p:blipFill>
          <a:blip r:embed="rId1"/>
          <a:stretch/>
        </p:blipFill>
        <p:spPr>
          <a:xfrm>
            <a:off x="1042920" y="3213000"/>
            <a:ext cx="5753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 коррекционной работе малых фольклорных произведений позволяет устранить проблемы в развитии грамматического строя речи, обогатить словарь детей, развить интерес к слову, к речи, расширить знания детей, их кругозор.  Что, в свою очередь, послужит  хорошей базой для успешного обучени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2781000"/>
            <a:ext cx="72946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kids2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81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3708360" y="1666800"/>
            <a:ext cx="3905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е устное слово играет большую роль в жизни детей. Колыбельные песни, потешки, шуточные песни, забавные сказочки входят в жизнь ребенка, радуют, развлекают, утешают, учат его задолго до того, как он прочитает свою первую книжку. Считалки, чистоговорки, скороговорки, игровые припевки, дразнилки – неотъемлемая часть детского быт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2708280"/>
            <a:ext cx="70581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x_3edad3d8"/>
          <p:cNvPicPr/>
          <p:nvPr/>
        </p:nvPicPr>
        <p:blipFill>
          <a:blip r:embed="rId1"/>
          <a:stretch/>
        </p:blipFill>
        <p:spPr>
          <a:xfrm>
            <a:off x="611280" y="2421000"/>
            <a:ext cx="2449440" cy="376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x_4c4cb170"/>
          <p:cNvPicPr/>
          <p:nvPr/>
        </p:nvPicPr>
        <p:blipFill>
          <a:blip r:embed="rId2"/>
          <a:stretch/>
        </p:blipFill>
        <p:spPr>
          <a:xfrm>
            <a:off x="2268360" y="2492280"/>
            <a:ext cx="26146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x_575fa78e"/>
          <p:cNvPicPr/>
          <p:nvPr/>
        </p:nvPicPr>
        <p:blipFill>
          <a:blip r:embed="rId3"/>
          <a:stretch/>
        </p:blipFill>
        <p:spPr>
          <a:xfrm>
            <a:off x="3348000" y="2492280"/>
            <a:ext cx="3521160" cy="267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40e958d8d87648f9bc22075e07ce039?src=http%3A%2F%2Fstatic"/>
          <p:cNvPicPr/>
          <p:nvPr/>
        </p:nvPicPr>
        <p:blipFill>
          <a:blip r:embed="rId4"/>
          <a:stretch/>
        </p:blipFill>
        <p:spPr>
          <a:xfrm>
            <a:off x="5076720" y="2924280"/>
            <a:ext cx="3429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из методов коррекционной работы является использование чистоговорок, приговорок и скороговорок. Они оказывают большое влияние на развитие функциональных систем ребенка с ОВЗ, дыхания, голосовой функции, артикуляционного аппарата, слухового восприятия, слуховой и зрительной памяти, произвольного внимания в целом, процессов запоминания и 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изведения речевого и двигательного материала, то есть развивают речевую функциональную систему через неречев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процессы.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3429000"/>
            <a:ext cx="8075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kids113"/>
          <p:cNvPicPr/>
          <p:nvPr/>
        </p:nvPicPr>
        <p:blipFill>
          <a:blip r:embed="rId1"/>
          <a:stretch/>
        </p:blipFill>
        <p:spPr>
          <a:xfrm>
            <a:off x="755640" y="3573360"/>
            <a:ext cx="3124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-дошкольники, имеющие тяжёлые речевые расстройства, с трудом строят фразу, не умеют грамматически правильно оформить предложения, у них бедный словарный запас, недостаточная сформированность связного высказывания.   Для преодоления имеющихся проблем считаем целесообразным использование в  коррекционной работе чистоговорок и малых фольклорных форм, как средства формирования речемыслительной деятельности детей, обогащения и уточнения словарного запаса, улучшения понимания речи окружающих за счёт знакомства с образностью и многозначностью родного язык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-4392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малых фольклорных форм в  работе решает такие 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обогащение словаря, формирование лексико-грамматического строя речи, связного высказывания, совершенствование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развитие фонематического слуха, развитие наблюдательности,  развитие фантазии, творческих способностей дошкольников и умения находить средства выражения образа в мимике, жестах, интон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атель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оспитывать любовь к родному языку, доброе отношение к братьям нашим меньшим, чувство прекрасного, расширить представление о добре, правде, красо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11280" y="7956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ошкольников с  тяжелыми нарушениями речи 4х–летнего возраста доступными являются «малые фольклорные формы» — потешки, чистоговорки, считалки, короткие сказки. Поэтому мы активно используем это эти формы фольклора в театрализации и игров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1" descr="C:\Users\Dsad79 Metod\Desktop\фото Каракова\IMG_0972.JPG"/>
          <p:cNvPicPr/>
          <p:nvPr/>
        </p:nvPicPr>
        <p:blipFill>
          <a:blip r:embed="rId1"/>
          <a:stretch/>
        </p:blipFill>
        <p:spPr>
          <a:xfrm>
            <a:off x="2268360" y="2516040"/>
            <a:ext cx="45691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DSC_0837"/>
          <p:cNvPicPr/>
          <p:nvPr/>
        </p:nvPicPr>
        <p:blipFill>
          <a:blip r:embed="rId1"/>
          <a:stretch/>
        </p:blipFill>
        <p:spPr>
          <a:xfrm>
            <a:off x="395280" y="907920"/>
            <a:ext cx="4032360" cy="262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SC_0846"/>
          <p:cNvPicPr/>
          <p:nvPr/>
        </p:nvPicPr>
        <p:blipFill>
          <a:blip r:embed="rId2"/>
          <a:stretch/>
        </p:blipFill>
        <p:spPr>
          <a:xfrm>
            <a:off x="395280" y="3975120"/>
            <a:ext cx="3924360" cy="25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_0848"/>
          <p:cNvPicPr/>
          <p:nvPr/>
        </p:nvPicPr>
        <p:blipFill>
          <a:blip r:embed="rId3"/>
          <a:stretch/>
        </p:blipFill>
        <p:spPr>
          <a:xfrm>
            <a:off x="4643280" y="4005360"/>
            <a:ext cx="4211640" cy="257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kids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836640"/>
            <a:ext cx="2435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11280" y="43920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большие стишки и песенки позволяют в игровой форме побудить ребёнка к действию, одновременно производя массаж, физические упражнения, стимулируя моторные рефлексы. В этом жанре детского фольклора заложены стимулы к обыгрыванию сюжета с помощью пальцев (пальчиковые игры или ладушки), рук, мимики. Потешки помогают привить ребёнку навыки гигиены, порядка, развить мелкую моторику и эмоциональную сф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SC_0878"/>
          <p:cNvPicPr/>
          <p:nvPr/>
        </p:nvPicPr>
        <p:blipFill>
          <a:blip r:embed="rId1"/>
          <a:stretch/>
        </p:blipFill>
        <p:spPr>
          <a:xfrm>
            <a:off x="2627280" y="3843360"/>
            <a:ext cx="4727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468360" y="31032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тоговор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малый жанр фольклора; народно-поэтическая шутки, заключаются в умышленном подборе слов, трудных для правильной артикуляции при быстром и многократном повторении. Чистоговорки используется и как средство для исправления речевых дефек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02nY1ORg_GQ"/>
          <p:cNvPicPr/>
          <p:nvPr/>
        </p:nvPicPr>
        <p:blipFill>
          <a:blip r:embed="rId1"/>
          <a:stretch/>
        </p:blipFill>
        <p:spPr>
          <a:xfrm>
            <a:off x="539640" y="2349360"/>
            <a:ext cx="5781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06:33:08Z</dcterms:created>
  <dc:creator>sbelova</dc:creator>
  <dc:description/>
  <dc:language>en-US</dc:language>
  <cp:lastModifiedBy>Леночка</cp:lastModifiedBy>
  <dcterms:modified xsi:type="dcterms:W3CDTF">2020-08-08T10:25:56Z</dcterms:modified>
  <cp:revision>14</cp:revision>
  <dc:subject/>
  <dc:title>Название презентации</dc:title>
</cp:coreProperties>
</file>