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372D-AB7B-4A1F-A94D-ED315FE4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833-DBDF-4EFA-A447-3576E7A5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AFF-FE32-46A5-882E-A02558B9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D066-5081-4D06-BA2E-9046452C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426D7-B957-4340-895D-17A95A19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5EE77-80D4-44BD-B5D1-58DC06A2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42034-8BA4-444E-AFF7-A296BC2A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868B2-42E6-46C1-94FE-EB5FD93F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422CE-539E-4112-97B6-BEC08ECB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9CD95-5501-45C8-A9B0-392B34B5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37134-B383-4767-898C-F934FE5B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0D3A-C3B1-4C5D-8C1E-93AC0925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ED353-4365-4C8F-9145-17B23B7C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A5D78-26A7-4CDE-9898-04D3BB1B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D169E-A707-4E1E-A383-126FE061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FA3BE-8174-4542-8B84-0B61713C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4AF4A-FBD3-464A-9412-6C3C5D1E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0CAF-3CAD-4B07-940B-AC1CA8E1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011-19F7-4C78-9EE5-B3ADAC54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070-DDDE-4392-A8C8-A0D3FC3A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A5D-7E37-4965-B2B3-2618696B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88C-45C8-466F-9926-DC71D1D5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1ED-6CC9-46C2-BFF0-861998F6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1FF1-C1D9-40AA-BE13-A5A96140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E272-7D17-4F1E-855A-889CBC0AEC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A139-8F0B-405D-BDD9-BEB5C4E8D5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«Родительское собрание как одно из основных направлений в сотрудничестве с родителями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(методика организации и формы проведения родительского собрания)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00200" y="457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Семин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а форма предполагает обсуждение актуальной темы с привлечением компетентных специалистов. В данном случае важно не навязывать родителям каких-то «правильных» мнений, а постараться рассмотреть спектр мнений по затронутым вопросам. Основным достоинством таких собраний является развитие коммуникативных навыков у родителей, особенно у пассивной части. При проведении семинаров важно «не задавить» родителей авторитарностью, дать возможность им высказаться. Интересны родительские собрания, в ходе которых для активизации родителей педагог вовлекает их в дискуссии разного плана, например, «Хвалить ребенка вредно или полезно?», «Школа для образования или для воспитания детей?» и т.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Диспут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ходе диспута можно обсудить такие темы, как «Карманные деньги. Нужны ли они?». «Отцы и дети - это вечное противостояние» и т.д. Подготовка подобного диспута, конечно, требует определенного мастерства от педагога. Целесообразно в старших классах при проведении некоторых диспутов привлекать и учащихся. Их мнение часто является компетентным и открывает для родителей новые горизонты во взаимодействии с собственными детьми (проблемы общения «дети-родители», вопросы молодежной моды и т.д.). При проведении собраний, на которых родители могут свободно высказаться, учитель сможет выявить не только ценностные ориентации родителей, но и их стиль восп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Консультац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брание в такой форме можно проводить как на базе одного класса, так и на параллели. При этом собрание целесообразно начать с небольшого выступления одного из руководителей школы, который дает общую информацию по теме консультации (учебной или воспитательной), и затем родители расходятся по разным классам, в которых их ожидают педагоги (это могут быть учителя, социальный педагог, психолог). Родители, переходя от одного педагога к другому, имеют возможность задать интересующие их вопросы о своем ребенке, получить квалифицированную консультацию. Родители, ожидающие своей очереди к педагогу, могут просмотреть классный журнал, познакомиться с творческими работами детей, с газетами, в которых ребята рассказывают о своей школьной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емы, используемые на собраниях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Дерево проблем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Фотография класс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Старый знакомы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Минуты благодарност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строе блюдо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КНО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Шапка вопросов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Викторин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Волшебная палоч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«Дерево проблем»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приём используется для постановки проблемы на родительском собра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кануне собрания учащимся выдаются «листочки дерева» зелёного и жёлтого цвета. На листочках зелёного цвета дети пишут причину получения неудовлетворительных оценок, нежелания учиться.(Пишут те учащиеся, которые считают, что эта проблема для них характерна). Листья прикрепляются к общему дереву. Затем на жёлтых листьях они пишут, в чём причина причины. И снова прикрепляют к дерев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«Фотография класс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уется для знакомства с родителями. Классный руководитель держит в руках фотографию класса, сделанную 1-го сентября и обращается к родителям: «Такая фотография есть в каждой семье.  Вы, наверняка, рассматривали её вместе с детьми. Возможно, дети делились с Вами своими впечатлениями. Сейчас я буду показывать ребят на фотографии, а Вы, родители этого ученика , расскажите немного о себе, представьтесь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т приём располагает родителей к доброжелательному общению, создаёт на собрании атмосферу единой большой семь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«Старый знакомый»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спользуется при выборах родительского комитета. В его состав предлагают тех, чьи дети уже учились в этой школ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«Минуты благодарност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лассный руководитель благодарит тех родителей, чьи дети  добились успехов в учёбе или проявили себя в других хороших дел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«ОКНО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Очень Короткие НОвости)  Короткие сообщения о последних достижениях науки, статистики по теме собр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Основные этапы подготовки и проведения собраний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I этап. Выбор т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евыми ориентирами жизнедеятельности классного коллекти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номерностями развития личности школьника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обенностями протекания процессов обучения и воспита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огикой формирования педагогической культуры родителей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атегией построения взаимоотношений школы и семь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можно определение тематики собраний не на один учебный год, а на 3-4 года. Ежегодно вносятся коррективы, но перспективное планирование помогает учителю системно строить взаимодействие с родител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II этап.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Определение целей родительских собраний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38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Общие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гласование, координация, интеграция усилий школы и семьи в создании условий для развития духовно богатой, нравственно-чистой, физически здоровой личности ребен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ышение педагогической культуры роди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ышение активности в жизни клас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ышение ответственности за воспитание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Частные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вышение педагогической культуры родителей по конкретному вопрос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лочение родительского коллекти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влечение пап и мам в подготовку конкретных мероприят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работка коллективных решений и единых требований к воспитанию де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паганда успешного опыта семейного воспита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филактика неверных действий по отношению к своему сыну или дочер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ведение итогов совместной деятельности педагогов, учащихся и родителей за полугодие, го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одготовительн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изучение научно – методической литературы;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анализ документации;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роведение микроисследования;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определение вида, формы и этапов родительского собрания, способов и приемов организации работы его участников;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объявление за 2 – 3 недели о родительском собрании учащимся;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запись в дневниках учащихся о теме и сроках собрания;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риглашение родителей и других его участников;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ривлечение родителей и других его участников;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ривлечение к его подготовке членов родительского комитета;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оформление и оборудование места проведения собрания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98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Этапы прове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038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ступительная ча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Учитель встречает родителей при входе в кабинет. Предлагает ознакомиться с выставками литературы и творческих работ учащих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Родители занимают свои мес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Во вступительном слове классный руководитель оглашает повестку дня собрания, цели и задачи собрания, порядок совместной работы. Подчеркивает актуальность вопросов, представляет приглашенны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Уже в первые минуты собрания родители должны быть заинтересованы, мобилизованы и готовы к активному участию в собран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95320" y="761760"/>
            <a:ext cx="4419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ная част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Реализация главного замысла собрания. В этой части излагается наиболее важная информация, происходит ее коллективное обсуждение, совместный поиск путей и способов решения рассматриваемой проблем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ключительная ча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Принятие решения. Анализ происшедшего на собрании. Дорабатывается предварительно подготовленный проект решения собрания и утверждается с поправ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Виды собраний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ределяются по тем конкретным задачам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ые решаются на собра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Организационные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составляются и утверждаются планы работы, избирается родительский комитет, распределяются поручения, разрабатываются мероприятия с участием роди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По плану всеобуч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осуществляется педагогическое просвещение роди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Тематическ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освящены обсуждению наиболее актуальных и сложных вопросов воспитания и развития учащихся данного клас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Итоговы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подведение итогов  учебно – воспитательного процесса за определённый период, выявление положительных и отрицательных тенденций в жизни клас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Формы собра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формационная телепрограмма «Время» или «Вести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адиционное собра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силиу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скусс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овая игр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дуктивная игр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сихолого – педагогический всеобуч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ворческий отче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ференция отц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рание ма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тельские посидел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 вопросов и ответ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дагогическая мастерская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ганизационно-деятельностная игра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ктику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лективный отдых родителей и дете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мен мнения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к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се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уг общ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спут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Конферен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одготовке к конференции привлекаются родители, обладающие достаточной теоретической подготовкой, специалисты различного профиля. В ходе конференции идет ознакомление с опытом этих родителей по выстраиванию эффективных взаимоотношений с детьми. Это может быть конференция по обмену опытом в вопросах воспитания детей, а может быть, и конференция отцов, на которой можно обсудить роль отца в воспитании детей и рассмотреть примеры положительного взаимодействия отцов с детьми. Обычно в такой форме эффективно проходят общешкольные собрания или собрания одной параллели. Для классных конференций интересны такие темы: «Что является в вашей семье средством поощрения и наказания?», «Режим дня школьника. Каким ему быть?», «Семейные традици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Деловая игр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роведении деловой игры можно решать различные проблемы. Например, обсудить, каким должен быть современный выпускник школы (это может быть выпускник начальной, основной или средней школы), и что для этого должны сделать родители и педколлектив. Можно разработать программу развития школы (класса) на ближайшее время и определить функционал учителей и родителей для реализации этой программы; в рамках одного класса. Можно продумать проблему улучшения успеваемости учащихся и т.п. Методика проведения деловых игр достаточно проста: присутствующие родители и педагоги делятся на группы, в том числе должна быть предусмотрена группа экспертов. Перед ними ставится некая проблема, и группы ищут эффективные пути решения этой проблемы. В рамках деловой игры хорошо проходят тренинги родителей по развитию способностей решать различного рода конфликтные ситуации. В этом случае полезно подбирать ситуации из жизни класса, школы, решение которых помогло бы родителям приобрести личностный опыт. При этом выявляются «пробелы» в опыте родителей не только педагогические, но и правовые. Своевременное выявление таких пробелов позволит выстроить в дальнейшем программу просвещения роди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ы</cp:lastModifiedBy>
  <dcterms:modified xsi:type="dcterms:W3CDTF">2014-02-04T13:41:5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