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0245-D75F-433D-B9A4-AE3584A2B7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88ED-6A2F-4F92-B771-8500B62E28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CEEC-76E2-4F5E-88F3-02FFCFA262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CFD0-4975-475F-A519-04A382EF20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7452-218A-47C5-82BD-EB70B96197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97A4-1042-4FF2-B494-5D8A7EE022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FDFD-2B27-406C-9DDD-B4F7105D54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4A20-4C11-4388-9923-369709D8DC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5118-5F60-4E98-97FA-EC48176B20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FBF-8F9D-4717-98BE-2088C505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70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8640"/>
            <a:ext cx="8870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C00-E201-496A-87BE-F719789E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8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8280" y="1768320"/>
            <a:ext cx="4328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4328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8280" y="4058640"/>
            <a:ext cx="4328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E5B-5973-4D48-A65F-4D67F655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62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2440" y="1768320"/>
            <a:ext cx="28562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1960" y="1768320"/>
            <a:ext cx="28562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8640"/>
            <a:ext cx="28562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2440" y="4058640"/>
            <a:ext cx="28562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1960" y="4058640"/>
            <a:ext cx="28562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2E9-773C-4427-9381-146DAD23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707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7C2-D8B3-42C8-92C0-09989F08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707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434-F8BD-41E5-9B41-2B70FEC3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8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8280" y="1768320"/>
            <a:ext cx="4328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C21-B49E-4C5C-9AB8-DA3F7C18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D21-4898-4921-9712-9CEF0786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292-7BC9-44B4-8D7B-C9AC21E8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8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8280" y="1768320"/>
            <a:ext cx="4328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4328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015-5E2C-44C1-A764-F577D570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8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8280" y="1768320"/>
            <a:ext cx="4328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8280" y="4058640"/>
            <a:ext cx="4328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254-9231-44C6-82CE-252E8EFA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8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8280" y="1768320"/>
            <a:ext cx="4328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8870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9A0-614A-4064-A4BA-1F222800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707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A156-A56F-4167-A372-26FA07F6D8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707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65160"/>
            <a:ext cx="10080720" cy="762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4560" y="2197080"/>
            <a:ext cx="4914720" cy="3419640"/>
          </a:xfrm>
          <a:prstGeom prst="rect">
            <a:avLst/>
          </a:prstGeom>
          <a:ln w="0">
            <a:noFill/>
          </a:ln>
        </p:spPr>
      </p:pic>
      <p:sp>
        <p:nvSpPr>
          <p:cNvPr id="52" name="Полилиния 5"/>
          <p:cNvSpPr/>
          <p:nvPr/>
        </p:nvSpPr>
        <p:spPr>
          <a:xfrm>
            <a:off x="4103640" y="1008000"/>
            <a:ext cx="863640" cy="863640"/>
          </a:xfrm>
          <a:custGeom>
            <a:avLst/>
            <a:gdLst>
              <a:gd name="textAreaLeft" fmla="*/ 126360 w 863640"/>
              <a:gd name="textAreaRight" fmla="*/ 737280 w 863640"/>
              <a:gd name="textAreaTop" fmla="*/ 126360 h 863640"/>
              <a:gd name="textAreaBottom" fmla="*/ 737280 h 863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лилиния 6"/>
          <p:cNvSpPr/>
          <p:nvPr/>
        </p:nvSpPr>
        <p:spPr>
          <a:xfrm>
            <a:off x="3887640" y="287280"/>
            <a:ext cx="1224000" cy="720720"/>
          </a:xfrm>
          <a:custGeom>
            <a:avLst/>
            <a:gdLst>
              <a:gd name="textAreaLeft" fmla="*/ 306000 w 1224000"/>
              <a:gd name="textAreaRight" fmla="*/ 918000 w 1224000"/>
              <a:gd name="textAreaTop" fmla="*/ 360360 h 720720"/>
              <a:gd name="textAreaBottom" fmla="*/ 600840 h 720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480"/>
            <a:ext cx="10045800" cy="7553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92360" y="2292480"/>
            <a:ext cx="4943520" cy="3324240"/>
          </a:xfrm>
          <a:prstGeom prst="rect">
            <a:avLst/>
          </a:prstGeom>
          <a:ln w="0">
            <a:noFill/>
          </a:ln>
        </p:spPr>
      </p:pic>
      <p:sp>
        <p:nvSpPr>
          <p:cNvPr id="57" name="Полилиния 4"/>
          <p:cNvSpPr/>
          <p:nvPr/>
        </p:nvSpPr>
        <p:spPr>
          <a:xfrm>
            <a:off x="4535640" y="1224000"/>
            <a:ext cx="865080" cy="863640"/>
          </a:xfrm>
          <a:custGeom>
            <a:avLst/>
            <a:gdLst>
              <a:gd name="textAreaLeft" fmla="*/ 126720 w 865080"/>
              <a:gd name="textAreaRight" fmla="*/ 738360 w 865080"/>
              <a:gd name="textAreaTop" fmla="*/ 126360 h 863640"/>
              <a:gd name="textAreaBottom" fmla="*/ 737280 h 863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олилиния 5"/>
          <p:cNvSpPr/>
          <p:nvPr/>
        </p:nvSpPr>
        <p:spPr>
          <a:xfrm>
            <a:off x="4392720" y="647640"/>
            <a:ext cx="1150920" cy="64764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324000 h 647640"/>
              <a:gd name="textAreaBottom" fmla="*/ 540000 h 647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65160"/>
            <a:ext cx="10080720" cy="7624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011480" y="455760"/>
            <a:ext cx="3908520" cy="271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092480" y="3440160"/>
            <a:ext cx="3743280" cy="244944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5" descr=""/>
          <p:cNvPicPr/>
          <p:nvPr/>
        </p:nvPicPr>
        <p:blipFill>
          <a:blip r:embed="rId4"/>
          <a:stretch/>
        </p:blipFill>
        <p:spPr>
          <a:xfrm>
            <a:off x="1646280" y="2657520"/>
            <a:ext cx="1457280" cy="2030400"/>
          </a:xfrm>
          <a:prstGeom prst="rect">
            <a:avLst/>
          </a:prstGeom>
          <a:ln w="0">
            <a:noFill/>
          </a:ln>
        </p:spPr>
      </p:pic>
      <p:sp>
        <p:nvSpPr>
          <p:cNvPr id="64" name="Полилиния 6"/>
          <p:cNvSpPr/>
          <p:nvPr/>
        </p:nvSpPr>
        <p:spPr>
          <a:xfrm>
            <a:off x="1584360" y="1563840"/>
            <a:ext cx="719280" cy="739800"/>
          </a:xfrm>
          <a:custGeom>
            <a:avLst/>
            <a:gdLst>
              <a:gd name="textAreaLeft" fmla="*/ 105120 w 719280"/>
              <a:gd name="textAreaRight" fmla="*/ 614160 w 719280"/>
              <a:gd name="textAreaTop" fmla="*/ 108360 h 739800"/>
              <a:gd name="textAreaBottom" fmla="*/ 631440 h 7398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олилиния 7"/>
          <p:cNvSpPr/>
          <p:nvPr/>
        </p:nvSpPr>
        <p:spPr>
          <a:xfrm>
            <a:off x="2519280" y="1608120"/>
            <a:ext cx="720720" cy="741240"/>
          </a:xfrm>
          <a:custGeom>
            <a:avLst/>
            <a:gdLst>
              <a:gd name="textAreaLeft" fmla="*/ 105480 w 720720"/>
              <a:gd name="textAreaRight" fmla="*/ 615240 w 720720"/>
              <a:gd name="textAreaTop" fmla="*/ 108360 h 741240"/>
              <a:gd name="textAreaBottom" fmla="*/ 632880 h 741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лилиния 8"/>
          <p:cNvSpPr/>
          <p:nvPr/>
        </p:nvSpPr>
        <p:spPr>
          <a:xfrm>
            <a:off x="1508040" y="1068480"/>
            <a:ext cx="792360" cy="555480"/>
          </a:xfrm>
          <a:custGeom>
            <a:avLst/>
            <a:gdLst>
              <a:gd name="textAreaLeft" fmla="*/ 198000 w 792360"/>
              <a:gd name="textAreaRight" fmla="*/ 594360 w 792360"/>
              <a:gd name="textAreaTop" fmla="*/ 277920 h 555480"/>
              <a:gd name="textAreaBottom" fmla="*/ 462960 h 555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олилиния 9"/>
          <p:cNvSpPr/>
          <p:nvPr/>
        </p:nvSpPr>
        <p:spPr>
          <a:xfrm>
            <a:off x="2448000" y="1079640"/>
            <a:ext cx="792000" cy="555480"/>
          </a:xfrm>
          <a:custGeom>
            <a:avLst/>
            <a:gdLst>
              <a:gd name="textAreaLeft" fmla="*/ 198000 w 792000"/>
              <a:gd name="textAreaRight" fmla="*/ 594000 w 792000"/>
              <a:gd name="textAreaTop" fmla="*/ 277920 h 555480"/>
              <a:gd name="textAreaBottom" fmla="*/ 462960 h 555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0" name="Полилиния 3"/>
          <p:cNvSpPr/>
          <p:nvPr/>
        </p:nvSpPr>
        <p:spPr>
          <a:xfrm>
            <a:off x="2376360" y="647640"/>
            <a:ext cx="475164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лилиния 4"/>
          <p:cNvSpPr/>
          <p:nvPr/>
        </p:nvSpPr>
        <p:spPr>
          <a:xfrm>
            <a:off x="2519280" y="4319640"/>
            <a:ext cx="4753080" cy="143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олилиния 5"/>
          <p:cNvSpPr/>
          <p:nvPr/>
        </p:nvSpPr>
        <p:spPr>
          <a:xfrm>
            <a:off x="2448000" y="2376360"/>
            <a:ext cx="475128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6"/>
          <p:cNvSpPr/>
          <p:nvPr/>
        </p:nvSpPr>
        <p:spPr>
          <a:xfrm>
            <a:off x="3959280" y="647640"/>
            <a:ext cx="0" cy="1440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7"/>
          <p:cNvSpPr/>
          <p:nvPr/>
        </p:nvSpPr>
        <p:spPr>
          <a:xfrm>
            <a:off x="5616720" y="647640"/>
            <a:ext cx="0" cy="1440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8"/>
          <p:cNvSpPr/>
          <p:nvPr/>
        </p:nvSpPr>
        <p:spPr>
          <a:xfrm>
            <a:off x="3959280" y="2376360"/>
            <a:ext cx="0" cy="1440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9"/>
          <p:cNvSpPr/>
          <p:nvPr/>
        </p:nvSpPr>
        <p:spPr>
          <a:xfrm>
            <a:off x="5543640" y="2376360"/>
            <a:ext cx="0" cy="1440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10"/>
          <p:cNvSpPr/>
          <p:nvPr/>
        </p:nvSpPr>
        <p:spPr>
          <a:xfrm>
            <a:off x="3959280" y="4319640"/>
            <a:ext cx="0" cy="143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11"/>
          <p:cNvSpPr/>
          <p:nvPr/>
        </p:nvSpPr>
        <p:spPr>
          <a:xfrm>
            <a:off x="5616720" y="4319640"/>
            <a:ext cx="0" cy="143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олилиния 12"/>
          <p:cNvSpPr/>
          <p:nvPr/>
        </p:nvSpPr>
        <p:spPr>
          <a:xfrm>
            <a:off x="2735280" y="1152360"/>
            <a:ext cx="865080" cy="792360"/>
          </a:xfrm>
          <a:custGeom>
            <a:avLst/>
            <a:gdLst>
              <a:gd name="textAreaLeft" fmla="*/ 126720 w 865080"/>
              <a:gd name="textAreaRight" fmla="*/ 738360 w 865080"/>
              <a:gd name="textAreaTop" fmla="*/ 115920 h 792360"/>
              <a:gd name="textAreaBottom" fmla="*/ 676440 h 792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олилиния 13"/>
          <p:cNvSpPr/>
          <p:nvPr/>
        </p:nvSpPr>
        <p:spPr>
          <a:xfrm>
            <a:off x="4319640" y="2664000"/>
            <a:ext cx="865080" cy="792000"/>
          </a:xfrm>
          <a:custGeom>
            <a:avLst/>
            <a:gdLst>
              <a:gd name="textAreaLeft" fmla="*/ 126720 w 865080"/>
              <a:gd name="textAreaRight" fmla="*/ 738360 w 865080"/>
              <a:gd name="textAreaTop" fmla="*/ 115920 h 792000"/>
              <a:gd name="textAreaBottom" fmla="*/ 676080 h 792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олилиния 14"/>
          <p:cNvSpPr/>
          <p:nvPr/>
        </p:nvSpPr>
        <p:spPr>
          <a:xfrm>
            <a:off x="3095640" y="1152360"/>
            <a:ext cx="504720" cy="792360"/>
          </a:xfrm>
          <a:custGeom>
            <a:avLst/>
            <a:gdLst>
              <a:gd name="textAreaLeft" fmla="*/ 73800 w 504720"/>
              <a:gd name="textAreaRight" fmla="*/ 430920 w 504720"/>
              <a:gd name="textAreaTop" fmla="*/ 115920 h 792360"/>
              <a:gd name="textAreaBottom" fmla="*/ 676440 h 792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олилиния 15"/>
          <p:cNvSpPr/>
          <p:nvPr/>
        </p:nvSpPr>
        <p:spPr>
          <a:xfrm>
            <a:off x="4680000" y="2664000"/>
            <a:ext cx="504720" cy="792000"/>
          </a:xfrm>
          <a:custGeom>
            <a:avLst/>
            <a:gdLst>
              <a:gd name="textAreaLeft" fmla="*/ 73800 w 504720"/>
              <a:gd name="textAreaRight" fmla="*/ 430920 w 504720"/>
              <a:gd name="textAreaTop" fmla="*/ 115920 h 792000"/>
              <a:gd name="textAreaBottom" fmla="*/ 676080 h 792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лилиния 16"/>
          <p:cNvSpPr/>
          <p:nvPr/>
        </p:nvSpPr>
        <p:spPr>
          <a:xfrm>
            <a:off x="2664000" y="792000"/>
            <a:ext cx="1008000" cy="576360"/>
          </a:xfrm>
          <a:custGeom>
            <a:avLst/>
            <a:gdLst>
              <a:gd name="textAreaLeft" fmla="*/ 252000 w 1008000"/>
              <a:gd name="textAreaRight" fmla="*/ 756000 w 1008000"/>
              <a:gd name="textAreaTop" fmla="*/ 288360 h 576360"/>
              <a:gd name="textAreaBottom" fmla="*/ 480600 h 576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олилиния 17"/>
          <p:cNvSpPr/>
          <p:nvPr/>
        </p:nvSpPr>
        <p:spPr>
          <a:xfrm>
            <a:off x="4248000" y="2232000"/>
            <a:ext cx="1008360" cy="576360"/>
          </a:xfrm>
          <a:custGeom>
            <a:avLst/>
            <a:gdLst>
              <a:gd name="textAreaLeft" fmla="*/ 252000 w 1008360"/>
              <a:gd name="textAreaRight" fmla="*/ 756360 w 1008360"/>
              <a:gd name="textAreaTop" fmla="*/ 288360 h 576360"/>
              <a:gd name="textAreaBottom" fmla="*/ 480600 h 576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Прямоугольник 18" descr=""/>
          <p:cNvPicPr/>
          <p:nvPr/>
        </p:nvPicPr>
        <p:blipFill>
          <a:blip r:embed="rId2"/>
          <a:stretch/>
        </p:blipFill>
        <p:spPr>
          <a:xfrm>
            <a:off x="5967360" y="4438800"/>
            <a:ext cx="884160" cy="11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10044000" cy="7553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091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6360" y="6480"/>
            <a:ext cx="10117080" cy="7553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527280" y="301680"/>
            <a:ext cx="2664000" cy="3146400"/>
          </a:xfrm>
          <a:prstGeom prst="rect">
            <a:avLst/>
          </a:prstGeom>
          <a:ln w="0">
            <a:noFill/>
          </a:ln>
        </p:spPr>
      </p:pic>
      <p:sp>
        <p:nvSpPr>
          <p:cNvPr id="92" name="Полилиния 4"/>
          <p:cNvSpPr/>
          <p:nvPr/>
        </p:nvSpPr>
        <p:spPr>
          <a:xfrm>
            <a:off x="2879640" y="3672000"/>
            <a:ext cx="3816360" cy="107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ая соединительная линия 5"/>
          <p:cNvSpPr/>
          <p:nvPr/>
        </p:nvSpPr>
        <p:spPr>
          <a:xfrm>
            <a:off x="4032360" y="3672000"/>
            <a:ext cx="0" cy="1079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ая соединительная линия 6"/>
          <p:cNvSpPr/>
          <p:nvPr/>
        </p:nvSpPr>
        <p:spPr>
          <a:xfrm>
            <a:off x="5400720" y="3672000"/>
            <a:ext cx="0" cy="1079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олилиния 7"/>
          <p:cNvSpPr/>
          <p:nvPr/>
        </p:nvSpPr>
        <p:spPr>
          <a:xfrm>
            <a:off x="3168720" y="3959280"/>
            <a:ext cx="574560" cy="576360"/>
          </a:xfrm>
          <a:custGeom>
            <a:avLst/>
            <a:gdLst>
              <a:gd name="textAreaLeft" fmla="*/ 83880 w 574560"/>
              <a:gd name="textAreaRight" fmla="*/ 490680 w 574560"/>
              <a:gd name="textAreaTop" fmla="*/ 84240 h 576360"/>
              <a:gd name="textAreaBottom" fmla="*/ 492120 h 576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олилиния 8"/>
          <p:cNvSpPr/>
          <p:nvPr/>
        </p:nvSpPr>
        <p:spPr>
          <a:xfrm>
            <a:off x="3095640" y="3672000"/>
            <a:ext cx="720720" cy="360360"/>
          </a:xfrm>
          <a:custGeom>
            <a:avLst/>
            <a:gdLst>
              <a:gd name="textAreaLeft" fmla="*/ 180000 w 720720"/>
              <a:gd name="textAreaRight" fmla="*/ 540720 w 720720"/>
              <a:gd name="textAreaTop" fmla="*/ 180360 h 360360"/>
              <a:gd name="textAreaBottom" fmla="*/ 300600 h 36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9"/>
          <p:cNvSpPr/>
          <p:nvPr/>
        </p:nvSpPr>
        <p:spPr>
          <a:xfrm>
            <a:off x="4398840" y="3986280"/>
            <a:ext cx="576360" cy="504720"/>
          </a:xfrm>
          <a:custGeom>
            <a:avLst/>
            <a:gdLst>
              <a:gd name="textAreaLeft" fmla="*/ 84240 w 576360"/>
              <a:gd name="textAreaRight" fmla="*/ 492120 w 576360"/>
              <a:gd name="textAreaTop" fmla="*/ 73800 h 504720"/>
              <a:gd name="textAreaBottom" fmla="*/ 430920 h 504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олилиния 10"/>
          <p:cNvSpPr/>
          <p:nvPr/>
        </p:nvSpPr>
        <p:spPr>
          <a:xfrm>
            <a:off x="5759280" y="4032360"/>
            <a:ext cx="505080" cy="503280"/>
          </a:xfrm>
          <a:custGeom>
            <a:avLst/>
            <a:gdLst>
              <a:gd name="textAreaLeft" fmla="*/ 73800 w 505080"/>
              <a:gd name="textAreaRight" fmla="*/ 431280 w 505080"/>
              <a:gd name="textAreaTop" fmla="*/ 73440 h 503280"/>
              <a:gd name="textAreaBottom" fmla="*/ 429840 h 503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Прямоугольник 11" descr=""/>
          <p:cNvPicPr/>
          <p:nvPr/>
        </p:nvPicPr>
        <p:blipFill>
          <a:blip r:embed="rId3"/>
          <a:stretch/>
        </p:blipFill>
        <p:spPr>
          <a:xfrm>
            <a:off x="3376440" y="4956120"/>
            <a:ext cx="878040" cy="11700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12" descr=""/>
          <p:cNvPicPr/>
          <p:nvPr/>
        </p:nvPicPr>
        <p:blipFill>
          <a:blip r:embed="rId4"/>
          <a:stretch/>
        </p:blipFill>
        <p:spPr>
          <a:xfrm>
            <a:off x="5321160" y="4956120"/>
            <a:ext cx="884520" cy="117000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3" descr=""/>
          <p:cNvPicPr/>
          <p:nvPr/>
        </p:nvPicPr>
        <p:blipFill>
          <a:blip r:embed="rId5"/>
          <a:stretch/>
        </p:blipFill>
        <p:spPr>
          <a:xfrm>
            <a:off x="4309920" y="4956120"/>
            <a:ext cx="884520" cy="11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10188720" cy="755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13000" y="696960"/>
            <a:ext cx="3267000" cy="2543040"/>
          </a:xfrm>
          <a:prstGeom prst="rect">
            <a:avLst/>
          </a:prstGeom>
          <a:ln w="0">
            <a:noFill/>
          </a:ln>
        </p:spPr>
      </p:pic>
      <p:sp>
        <p:nvSpPr>
          <p:cNvPr id="105" name="Полилиния 4"/>
          <p:cNvSpPr/>
          <p:nvPr/>
        </p:nvSpPr>
        <p:spPr>
          <a:xfrm>
            <a:off x="2735280" y="3311640"/>
            <a:ext cx="417672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5"/>
          <p:cNvSpPr/>
          <p:nvPr/>
        </p:nvSpPr>
        <p:spPr>
          <a:xfrm>
            <a:off x="4824360" y="3311640"/>
            <a:ext cx="0" cy="115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6"/>
          <p:cNvSpPr/>
          <p:nvPr/>
        </p:nvSpPr>
        <p:spPr>
          <a:xfrm>
            <a:off x="3816360" y="3311640"/>
            <a:ext cx="0" cy="115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7"/>
          <p:cNvSpPr/>
          <p:nvPr/>
        </p:nvSpPr>
        <p:spPr>
          <a:xfrm>
            <a:off x="5832360" y="3311640"/>
            <a:ext cx="0" cy="115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олилиния 8"/>
          <p:cNvSpPr/>
          <p:nvPr/>
        </p:nvSpPr>
        <p:spPr>
          <a:xfrm>
            <a:off x="2952720" y="3743280"/>
            <a:ext cx="719280" cy="649440"/>
          </a:xfrm>
          <a:custGeom>
            <a:avLst/>
            <a:gdLst>
              <a:gd name="textAreaLeft" fmla="*/ 105120 w 719280"/>
              <a:gd name="textAreaRight" fmla="*/ 614160 w 71928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олилиния 9"/>
          <p:cNvSpPr/>
          <p:nvPr/>
        </p:nvSpPr>
        <p:spPr>
          <a:xfrm>
            <a:off x="3887640" y="3672000"/>
            <a:ext cx="720720" cy="6476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4680 h 647640"/>
              <a:gd name="textAreaBottom" fmla="*/ 552960 h 647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олилиния 10"/>
          <p:cNvSpPr/>
          <p:nvPr/>
        </p:nvSpPr>
        <p:spPr>
          <a:xfrm>
            <a:off x="4896000" y="3672000"/>
            <a:ext cx="720720" cy="6476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4680 h 647640"/>
              <a:gd name="textAreaBottom" fmla="*/ 552960 h 647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олилиния 11"/>
          <p:cNvSpPr/>
          <p:nvPr/>
        </p:nvSpPr>
        <p:spPr>
          <a:xfrm>
            <a:off x="5975280" y="3672000"/>
            <a:ext cx="720720" cy="6476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4680 h 647640"/>
              <a:gd name="textAreaBottom" fmla="*/ 552960 h 647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00ff"/>
          </a:solidFill>
          <a:ln w="0">
            <a:solidFill>
              <a:srgbClr val="3465a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олилиния 12"/>
          <p:cNvSpPr/>
          <p:nvPr/>
        </p:nvSpPr>
        <p:spPr>
          <a:xfrm>
            <a:off x="2879640" y="3240000"/>
            <a:ext cx="936720" cy="503280"/>
          </a:xfrm>
          <a:custGeom>
            <a:avLst/>
            <a:gdLst>
              <a:gd name="textAreaLeft" fmla="*/ 234000 w 936720"/>
              <a:gd name="textAreaRight" fmla="*/ 702720 w 936720"/>
              <a:gd name="textAreaTop" fmla="*/ 251640 h 503280"/>
              <a:gd name="textAreaBottom" fmla="*/ 419400 h 503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олилиния 13"/>
          <p:cNvSpPr/>
          <p:nvPr/>
        </p:nvSpPr>
        <p:spPr>
          <a:xfrm>
            <a:off x="4824360" y="3240000"/>
            <a:ext cx="934920" cy="503280"/>
          </a:xfrm>
          <a:custGeom>
            <a:avLst/>
            <a:gdLst>
              <a:gd name="textAreaLeft" fmla="*/ 233640 w 934920"/>
              <a:gd name="textAreaRight" fmla="*/ 701280 w 934920"/>
              <a:gd name="textAreaTop" fmla="*/ 251640 h 503280"/>
              <a:gd name="textAreaBottom" fmla="*/ 419400 h 503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Прямоугольник 14" descr=""/>
          <p:cNvPicPr/>
          <p:nvPr/>
        </p:nvPicPr>
        <p:blipFill>
          <a:blip r:embed="rId3"/>
          <a:stretch/>
        </p:blipFill>
        <p:spPr>
          <a:xfrm>
            <a:off x="3084480" y="4595760"/>
            <a:ext cx="884160" cy="117180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15" descr=""/>
          <p:cNvPicPr/>
          <p:nvPr/>
        </p:nvPicPr>
        <p:blipFill>
          <a:blip r:embed="rId4"/>
          <a:stretch/>
        </p:blipFill>
        <p:spPr>
          <a:xfrm>
            <a:off x="3949560" y="4595760"/>
            <a:ext cx="884520" cy="117180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16" descr=""/>
          <p:cNvPicPr/>
          <p:nvPr/>
        </p:nvPicPr>
        <p:blipFill>
          <a:blip r:embed="rId5"/>
          <a:stretch/>
        </p:blipFill>
        <p:spPr>
          <a:xfrm>
            <a:off x="4889520" y="4595760"/>
            <a:ext cx="878040" cy="117180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17" descr=""/>
          <p:cNvPicPr/>
          <p:nvPr/>
        </p:nvPicPr>
        <p:blipFill>
          <a:blip r:embed="rId6"/>
          <a:stretch/>
        </p:blipFill>
        <p:spPr>
          <a:xfrm>
            <a:off x="5821200" y="4595760"/>
            <a:ext cx="884520" cy="11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Диаграмма 2" descr=""/>
          <p:cNvPicPr/>
          <p:nvPr/>
        </p:nvPicPr>
        <p:blipFill>
          <a:blip r:embed="rId1"/>
          <a:stretch/>
        </p:blipFill>
        <p:spPr>
          <a:xfrm>
            <a:off x="500040" y="5516640"/>
            <a:ext cx="811080" cy="63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10188720" cy="7626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92000" y="576360"/>
            <a:ext cx="2376720" cy="273528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5"/>
          <p:cNvSpPr/>
          <p:nvPr/>
        </p:nvSpPr>
        <p:spPr>
          <a:xfrm>
            <a:off x="216000" y="3384720"/>
            <a:ext cx="3384360" cy="107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797360" y="647640"/>
            <a:ext cx="3267000" cy="2543400"/>
          </a:xfrm>
          <a:prstGeom prst="rect">
            <a:avLst/>
          </a:prstGeom>
          <a:ln w="0">
            <a:noFill/>
          </a:ln>
        </p:spPr>
      </p:pic>
      <p:sp>
        <p:nvSpPr>
          <p:cNvPr id="125" name="Полилиния 7"/>
          <p:cNvSpPr/>
          <p:nvPr/>
        </p:nvSpPr>
        <p:spPr>
          <a:xfrm>
            <a:off x="4464000" y="3384720"/>
            <a:ext cx="4176720" cy="107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ая соединительная линия 8"/>
          <p:cNvSpPr/>
          <p:nvPr/>
        </p:nvSpPr>
        <p:spPr>
          <a:xfrm>
            <a:off x="1152360" y="3384720"/>
            <a:ext cx="0" cy="1079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ая соединительная линия 9"/>
          <p:cNvSpPr/>
          <p:nvPr/>
        </p:nvSpPr>
        <p:spPr>
          <a:xfrm>
            <a:off x="2376360" y="3384720"/>
            <a:ext cx="0" cy="1079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ая соединительная линия 10"/>
          <p:cNvSpPr/>
          <p:nvPr/>
        </p:nvSpPr>
        <p:spPr>
          <a:xfrm>
            <a:off x="6551640" y="3384720"/>
            <a:ext cx="0" cy="1079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ая соединительная линия 11"/>
          <p:cNvSpPr/>
          <p:nvPr/>
        </p:nvSpPr>
        <p:spPr>
          <a:xfrm>
            <a:off x="5472000" y="3384720"/>
            <a:ext cx="0" cy="1079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ая соединительная линия 12"/>
          <p:cNvSpPr/>
          <p:nvPr/>
        </p:nvSpPr>
        <p:spPr>
          <a:xfrm>
            <a:off x="7632720" y="3384720"/>
            <a:ext cx="0" cy="1079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Прямоугольник 13" descr=""/>
          <p:cNvPicPr/>
          <p:nvPr/>
        </p:nvPicPr>
        <p:blipFill>
          <a:blip r:embed="rId5"/>
          <a:stretch/>
        </p:blipFill>
        <p:spPr>
          <a:xfrm>
            <a:off x="487440" y="4668840"/>
            <a:ext cx="884160" cy="117144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14" descr=""/>
          <p:cNvPicPr/>
          <p:nvPr/>
        </p:nvPicPr>
        <p:blipFill>
          <a:blip r:embed="rId6"/>
          <a:stretch/>
        </p:blipFill>
        <p:spPr>
          <a:xfrm>
            <a:off x="2292480" y="4668840"/>
            <a:ext cx="888840" cy="117144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15" descr=""/>
          <p:cNvPicPr/>
          <p:nvPr/>
        </p:nvPicPr>
        <p:blipFill>
          <a:blip r:embed="rId7"/>
          <a:stretch/>
        </p:blipFill>
        <p:spPr>
          <a:xfrm>
            <a:off x="1359000" y="4668840"/>
            <a:ext cx="884160" cy="117144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16" descr=""/>
          <p:cNvPicPr/>
          <p:nvPr/>
        </p:nvPicPr>
        <p:blipFill>
          <a:blip r:embed="rId8"/>
          <a:stretch/>
        </p:blipFill>
        <p:spPr>
          <a:xfrm>
            <a:off x="4529160" y="4595760"/>
            <a:ext cx="878040" cy="117180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7" descr=""/>
          <p:cNvPicPr/>
          <p:nvPr/>
        </p:nvPicPr>
        <p:blipFill>
          <a:blip r:embed="rId9"/>
          <a:stretch/>
        </p:blipFill>
        <p:spPr>
          <a:xfrm>
            <a:off x="7259760" y="4595760"/>
            <a:ext cx="884160" cy="117180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18" descr=""/>
          <p:cNvPicPr/>
          <p:nvPr/>
        </p:nvPicPr>
        <p:blipFill>
          <a:blip r:embed="rId10"/>
          <a:stretch/>
        </p:blipFill>
        <p:spPr>
          <a:xfrm>
            <a:off x="6327720" y="4595760"/>
            <a:ext cx="884160" cy="11718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19" descr=""/>
          <p:cNvPicPr/>
          <p:nvPr/>
        </p:nvPicPr>
        <p:blipFill>
          <a:blip r:embed="rId11"/>
          <a:stretch/>
        </p:blipFill>
        <p:spPr>
          <a:xfrm>
            <a:off x="5389560" y="4595760"/>
            <a:ext cx="882720" cy="1171800"/>
          </a:xfrm>
          <a:prstGeom prst="rect">
            <a:avLst/>
          </a:prstGeom>
          <a:ln w="0">
            <a:noFill/>
          </a:ln>
        </p:spPr>
      </p:pic>
      <p:sp>
        <p:nvSpPr>
          <p:cNvPr id="138" name="Полилиния 20"/>
          <p:cNvSpPr/>
          <p:nvPr/>
        </p:nvSpPr>
        <p:spPr>
          <a:xfrm>
            <a:off x="360360" y="3672000"/>
            <a:ext cx="647640" cy="647640"/>
          </a:xfrm>
          <a:custGeom>
            <a:avLst/>
            <a:gdLst>
              <a:gd name="textAreaLeft" fmla="*/ 94680 w 647640"/>
              <a:gd name="textAreaRight" fmla="*/ 552960 w 647640"/>
              <a:gd name="textAreaTop" fmla="*/ 94680 h 647640"/>
              <a:gd name="textAreaBottom" fmla="*/ 552960 h 647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олилиния 21"/>
          <p:cNvSpPr/>
          <p:nvPr/>
        </p:nvSpPr>
        <p:spPr>
          <a:xfrm>
            <a:off x="1511280" y="3672000"/>
            <a:ext cx="649440" cy="647640"/>
          </a:xfrm>
          <a:custGeom>
            <a:avLst/>
            <a:gdLst>
              <a:gd name="textAreaLeft" fmla="*/ 95040 w 649440"/>
              <a:gd name="textAreaRight" fmla="*/ 554400 w 649440"/>
              <a:gd name="textAreaTop" fmla="*/ 94680 h 647640"/>
              <a:gd name="textAreaBottom" fmla="*/ 552960 h 647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олилиния 22"/>
          <p:cNvSpPr/>
          <p:nvPr/>
        </p:nvSpPr>
        <p:spPr>
          <a:xfrm>
            <a:off x="2735280" y="3672000"/>
            <a:ext cx="649440" cy="647640"/>
          </a:xfrm>
          <a:custGeom>
            <a:avLst/>
            <a:gdLst>
              <a:gd name="textAreaLeft" fmla="*/ 95040 w 649440"/>
              <a:gd name="textAreaRight" fmla="*/ 554400 w 649440"/>
              <a:gd name="textAreaTop" fmla="*/ 94680 h 647640"/>
              <a:gd name="textAreaBottom" fmla="*/ 552960 h 647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олилиния 23"/>
          <p:cNvSpPr/>
          <p:nvPr/>
        </p:nvSpPr>
        <p:spPr>
          <a:xfrm>
            <a:off x="4608360" y="3672000"/>
            <a:ext cx="648000" cy="647640"/>
          </a:xfrm>
          <a:custGeom>
            <a:avLst/>
            <a:gdLst>
              <a:gd name="textAreaLeft" fmla="*/ 94680 w 648000"/>
              <a:gd name="textAreaRight" fmla="*/ 553320 w 648000"/>
              <a:gd name="textAreaTop" fmla="*/ 94680 h 647640"/>
              <a:gd name="textAreaBottom" fmla="*/ 552960 h 647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олилиния 24"/>
          <p:cNvSpPr/>
          <p:nvPr/>
        </p:nvSpPr>
        <p:spPr>
          <a:xfrm>
            <a:off x="5616720" y="3672000"/>
            <a:ext cx="647640" cy="647640"/>
          </a:xfrm>
          <a:custGeom>
            <a:avLst/>
            <a:gdLst>
              <a:gd name="textAreaLeft" fmla="*/ 94680 w 647640"/>
              <a:gd name="textAreaRight" fmla="*/ 552960 w 647640"/>
              <a:gd name="textAreaTop" fmla="*/ 94680 h 647640"/>
              <a:gd name="textAreaBottom" fmla="*/ 552960 h 647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олилиния 25"/>
          <p:cNvSpPr/>
          <p:nvPr/>
        </p:nvSpPr>
        <p:spPr>
          <a:xfrm>
            <a:off x="6696000" y="3672000"/>
            <a:ext cx="647640" cy="647640"/>
          </a:xfrm>
          <a:custGeom>
            <a:avLst/>
            <a:gdLst>
              <a:gd name="textAreaLeft" fmla="*/ 94680 w 647640"/>
              <a:gd name="textAreaRight" fmla="*/ 552960 w 647640"/>
              <a:gd name="textAreaTop" fmla="*/ 94680 h 647640"/>
              <a:gd name="textAreaBottom" fmla="*/ 552960 h 647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00ff"/>
          </a:solidFill>
          <a:ln w="0">
            <a:solidFill>
              <a:srgbClr val="3465a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олилиния 26"/>
          <p:cNvSpPr/>
          <p:nvPr/>
        </p:nvSpPr>
        <p:spPr>
          <a:xfrm>
            <a:off x="7775640" y="3672000"/>
            <a:ext cx="647640" cy="647640"/>
          </a:xfrm>
          <a:custGeom>
            <a:avLst/>
            <a:gdLst>
              <a:gd name="textAreaLeft" fmla="*/ 94680 w 647640"/>
              <a:gd name="textAreaRight" fmla="*/ 552960 w 647640"/>
              <a:gd name="textAreaTop" fmla="*/ 94680 h 647640"/>
              <a:gd name="textAreaBottom" fmla="*/ 552960 h 647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0000ff"/>
          </a:solidFill>
          <a:ln w="0">
            <a:solidFill>
              <a:srgbClr val="3465a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олилиния 27"/>
          <p:cNvSpPr/>
          <p:nvPr/>
        </p:nvSpPr>
        <p:spPr>
          <a:xfrm>
            <a:off x="360360" y="3311640"/>
            <a:ext cx="647640" cy="431640"/>
          </a:xfrm>
          <a:custGeom>
            <a:avLst/>
            <a:gdLst>
              <a:gd name="textAreaLeft" fmla="*/ 162000 w 647640"/>
              <a:gd name="textAreaRight" fmla="*/ 486000 w 647640"/>
              <a:gd name="textAreaTop" fmla="*/ 216000 h 431640"/>
              <a:gd name="textAreaBottom" fmla="*/ 360000 h 431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28"/>
          <p:cNvSpPr/>
          <p:nvPr/>
        </p:nvSpPr>
        <p:spPr>
          <a:xfrm>
            <a:off x="4608360" y="3311640"/>
            <a:ext cx="648000" cy="431640"/>
          </a:xfrm>
          <a:custGeom>
            <a:avLst/>
            <a:gdLst>
              <a:gd name="textAreaLeft" fmla="*/ 162000 w 648000"/>
              <a:gd name="textAreaRight" fmla="*/ 486000 w 648000"/>
              <a:gd name="textAreaTop" fmla="*/ 216000 h 431640"/>
              <a:gd name="textAreaBottom" fmla="*/ 360000 h 431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олилиния 29"/>
          <p:cNvSpPr/>
          <p:nvPr/>
        </p:nvSpPr>
        <p:spPr>
          <a:xfrm>
            <a:off x="6696000" y="3311640"/>
            <a:ext cx="647640" cy="431640"/>
          </a:xfrm>
          <a:custGeom>
            <a:avLst/>
            <a:gdLst>
              <a:gd name="textAreaLeft" fmla="*/ 162000 w 647640"/>
              <a:gd name="textAreaRight" fmla="*/ 486000 w 647640"/>
              <a:gd name="textAreaTop" fmla="*/ 216000 h 431640"/>
              <a:gd name="textAreaBottom" fmla="*/ 360000 h 431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20:54:14Z</dcterms:created>
  <dc:creator>Детский Сад</dc:creator>
  <dc:description/>
  <dc:language>en-US</dc:language>
  <cp:lastModifiedBy>Пушкинского района Детский сад 24</cp:lastModifiedBy>
  <dcterms:modified xsi:type="dcterms:W3CDTF">2020-08-09T12:53:49Z</dcterms:modified>
  <cp:revision>12</cp:revision>
  <dc:subject/>
  <dc:title>Презентация PowerPoint</dc:title>
</cp:coreProperties>
</file>