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628-5DAA-4B2B-BC54-C56738A4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D1EE-EE59-4D93-A149-C2BDD70D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40D-B672-4B97-B844-C9452B4C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B5F-1EEA-4806-A414-8C39B257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ECE6-2503-429A-8E9E-ACB4E478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416D-D7DB-4CA7-8C02-831B3A46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B922-128E-4228-8786-A6E513A7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9E7D-7965-4F8D-A779-DB4B124F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9384-D790-49C3-AF94-2780620F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5392-3EE3-4E14-BB59-3D832B57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003F-23BB-4BBD-AAD2-A98F62A0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081-60DB-47B0-BE55-5B275027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C7DA-0CEC-4FF0-B69A-AD05A04B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E814-B74A-4BBB-9A11-2258DFE0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AD5D-0D8D-4A5D-AE24-42CA9FBF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B671-6131-4B4A-BCD8-21895636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42C1-9AE7-4B1F-B2A0-BBB286CA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290C-E674-41BF-9D7F-CE6AD3BF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AC9-66AB-4D85-9D2F-11F4ADFF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8E5-C04A-4BBF-A5AE-20D4664C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AA0-C194-4C48-9BFE-2B973C25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3C2-3DD2-409D-93A1-A60EC68E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EEA-5CE2-4FB5-87CA-1A8BAD34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B7F-E12B-496C-82EC-0206FC4D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923D-5CDA-4E74-A748-B37AC662573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5C70-FD0A-4826-B8F4-94E436A7260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«Чтобы жить, нужны солнце, свобода и маленький цветок»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 Ганс Христиан Андерсен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5" descr="лето"/>
          <p:cNvPicPr/>
          <p:nvPr/>
        </p:nvPicPr>
        <p:blipFill>
          <a:blip r:embed="rId1"/>
          <a:srcRect l="0" t="0" r="9009" b="0"/>
          <a:stretch/>
        </p:blipFill>
        <p:spPr>
          <a:xfrm>
            <a:off x="1332000" y="3933720"/>
            <a:ext cx="2732040" cy="2162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Красивоцветущие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8" descr="DSC00272"/>
          <p:cNvPicPr/>
          <p:nvPr/>
        </p:nvPicPr>
        <p:blipFill>
          <a:blip r:embed="rId1"/>
          <a:stretch/>
        </p:blipFill>
        <p:spPr>
          <a:xfrm>
            <a:off x="2627280" y="314172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0"/>
          <p:cNvSpPr/>
          <p:nvPr/>
        </p:nvSpPr>
        <p:spPr>
          <a:xfrm>
            <a:off x="4005720" y="256536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Фиал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Красивоцветущие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DSC00300"/>
          <p:cNvPicPr/>
          <p:nvPr/>
        </p:nvPicPr>
        <p:blipFill>
          <a:blip r:embed="rId1"/>
          <a:stretch/>
        </p:blipFill>
        <p:spPr>
          <a:xfrm>
            <a:off x="3492360" y="3141720"/>
            <a:ext cx="2482920" cy="3311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 flipH="1">
            <a:off x="3708360" y="2492280"/>
            <a:ext cx="18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Глокси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Декоративно-лиственные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3715920" y="26370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Диффенбах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22" descr="DSC00295"/>
          <p:cNvPicPr/>
          <p:nvPr/>
        </p:nvPicPr>
        <p:blipFill>
          <a:blip r:embed="rId1"/>
          <a:stretch/>
        </p:blipFill>
        <p:spPr>
          <a:xfrm>
            <a:off x="3708360" y="3213000"/>
            <a:ext cx="244800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Декоративно-лиственные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3571560" y="256536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Аглаоне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20" descr="DSC00284"/>
          <p:cNvPicPr/>
          <p:nvPr/>
        </p:nvPicPr>
        <p:blipFill>
          <a:blip r:embed="rId1"/>
          <a:stretch/>
        </p:blipFill>
        <p:spPr>
          <a:xfrm>
            <a:off x="2556000" y="3176640"/>
            <a:ext cx="446400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Декоративно-лиственные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13" descr="DSC00285"/>
          <p:cNvPicPr/>
          <p:nvPr/>
        </p:nvPicPr>
        <p:blipFill>
          <a:blip r:embed="rId1"/>
          <a:stretch/>
        </p:blipFill>
        <p:spPr>
          <a:xfrm>
            <a:off x="3492360" y="3141720"/>
            <a:ext cx="2556000" cy="34084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8"/>
          <p:cNvSpPr/>
          <p:nvPr/>
        </p:nvSpPr>
        <p:spPr>
          <a:xfrm>
            <a:off x="3932640" y="249228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Сциндапсу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Декоративно-лиственные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12" descr="DSC00303"/>
          <p:cNvPicPr/>
          <p:nvPr/>
        </p:nvPicPr>
        <p:blipFill>
          <a:blip r:embed="rId1"/>
          <a:stretch/>
        </p:blipFill>
        <p:spPr>
          <a:xfrm>
            <a:off x="2556000" y="3141720"/>
            <a:ext cx="4224240" cy="31669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4"/>
          <p:cNvSpPr/>
          <p:nvPr/>
        </p:nvSpPr>
        <p:spPr>
          <a:xfrm>
            <a:off x="4145400" y="26370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Бего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Луковичные и клубневы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2692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Гиппеастру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566160" y="3860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8" descr="DSC00307"/>
          <p:cNvPicPr/>
          <p:nvPr/>
        </p:nvPicPr>
        <p:blipFill>
          <a:blip r:embed="rId1"/>
          <a:stretch/>
        </p:blipFill>
        <p:spPr>
          <a:xfrm>
            <a:off x="3456000" y="2997360"/>
            <a:ext cx="2646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Луковичные и клубневы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DSC00280"/>
          <p:cNvPicPr/>
          <p:nvPr/>
        </p:nvPicPr>
        <p:blipFill>
          <a:blip r:embed="rId1"/>
          <a:stretch/>
        </p:blipFill>
        <p:spPr>
          <a:xfrm>
            <a:off x="2843280" y="3213000"/>
            <a:ext cx="4417920" cy="3311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3565800" y="3860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789720" y="26370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Цикламе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Луковичные и клубневы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Picture 5" descr="DSC00300"/>
          <p:cNvPicPr/>
          <p:nvPr/>
        </p:nvPicPr>
        <p:blipFill>
          <a:blip r:embed="rId1"/>
          <a:stretch/>
        </p:blipFill>
        <p:spPr>
          <a:xfrm>
            <a:off x="3348000" y="3141720"/>
            <a:ext cx="2629080" cy="3503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3567600" y="263700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Глоксиния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Ампельные или висяч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Picture 4" descr="DSC00325"/>
          <p:cNvPicPr/>
          <p:nvPr/>
        </p:nvPicPr>
        <p:blipFill>
          <a:blip r:embed="rId1"/>
          <a:stretch/>
        </p:blipFill>
        <p:spPr>
          <a:xfrm>
            <a:off x="2771640" y="3284640"/>
            <a:ext cx="4418280" cy="3313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3647520" y="2637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Хлорофиту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6360" y="1340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Удивительный мир комнатных цветов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Picture 7" descr="DSC00280"/>
          <p:cNvPicPr/>
          <p:nvPr/>
        </p:nvPicPr>
        <p:blipFill>
          <a:blip r:embed="rId1"/>
          <a:stretch/>
        </p:blipFill>
        <p:spPr>
          <a:xfrm>
            <a:off x="1476360" y="2637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DSC01256"/>
          <p:cNvPicPr/>
          <p:nvPr/>
        </p:nvPicPr>
        <p:blipFill>
          <a:blip r:embed="rId2"/>
          <a:stretch/>
        </p:blipFill>
        <p:spPr>
          <a:xfrm>
            <a:off x="5724360" y="2637000"/>
            <a:ext cx="2808360" cy="37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Вьющиеся и цепляющиеся (лианы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6" descr="DSC00324"/>
          <p:cNvPicPr/>
          <p:nvPr/>
        </p:nvPicPr>
        <p:blipFill>
          <a:blip r:embed="rId1"/>
          <a:stretch/>
        </p:blipFill>
        <p:spPr>
          <a:xfrm>
            <a:off x="2916360" y="2997360"/>
            <a:ext cx="4513320" cy="3384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9"/>
          <p:cNvSpPr/>
          <p:nvPr/>
        </p:nvSpPr>
        <p:spPr>
          <a:xfrm>
            <a:off x="3861360" y="249228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Монсте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Вьющиеся и цепляющиеся (лианы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Сциндапс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Picture 8" descr="DSC00323"/>
          <p:cNvPicPr/>
          <p:nvPr/>
        </p:nvPicPr>
        <p:blipFill>
          <a:blip r:embed="rId1"/>
          <a:stretch/>
        </p:blipFill>
        <p:spPr>
          <a:xfrm>
            <a:off x="3564000" y="2924280"/>
            <a:ext cx="26636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Растения - аллерг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Диффенбах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Picture 4" descr="DSC00295"/>
          <p:cNvPicPr/>
          <p:nvPr/>
        </p:nvPicPr>
        <p:blipFill>
          <a:blip r:embed="rId1"/>
          <a:stretch/>
        </p:blipFill>
        <p:spPr>
          <a:xfrm>
            <a:off x="3564000" y="2852640"/>
            <a:ext cx="2646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Растения - аллерг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Picture 5" descr="DSC00284"/>
          <p:cNvPicPr/>
          <p:nvPr/>
        </p:nvPicPr>
        <p:blipFill>
          <a:blip r:embed="rId1"/>
          <a:stretch/>
        </p:blipFill>
        <p:spPr>
          <a:xfrm>
            <a:off x="2843280" y="321300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3571560" y="263700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Аглаоне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Растения - аллерг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642840" y="256536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Аглаоне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Picture 7" descr="DSC01254"/>
          <p:cNvPicPr/>
          <p:nvPr/>
        </p:nvPicPr>
        <p:blipFill>
          <a:blip r:embed="rId1"/>
          <a:stretch/>
        </p:blipFill>
        <p:spPr>
          <a:xfrm>
            <a:off x="3564000" y="3141720"/>
            <a:ext cx="2538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Значение  комнатных  цветов  в жизни  челове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улучшают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наше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настроени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-помогают  акцентировать  внимание  на  том или  ином  предмете  декор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-увлажняют воздух 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- выделяют в него полезные вещества – фитонциды, убивающие микроорганизмы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-очищают и оздоравливают атмосферу  в  доме   от энергетической  гряз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спользуются в медицин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2913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ойми  живой  язык  природы, и скажешь ты – прекрасен мир”.</a:t>
            </a: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М. Пришвин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Picture 35" descr="DSC00308"/>
          <p:cNvPicPr/>
          <p:nvPr/>
        </p:nvPicPr>
        <p:blipFill>
          <a:blip r:embed="rId1"/>
          <a:stretch/>
        </p:blipFill>
        <p:spPr>
          <a:xfrm>
            <a:off x="3276720" y="2924280"/>
            <a:ext cx="2698560" cy="35989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7"/>
          <p:cNvSpPr/>
          <p:nvPr/>
        </p:nvSpPr>
        <p:spPr>
          <a:xfrm>
            <a:off x="3787920" y="2349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Хамедоре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40" descr="DSC01247"/>
          <p:cNvPicPr/>
          <p:nvPr/>
        </p:nvPicPr>
        <p:blipFill>
          <a:blip r:embed="rId2"/>
          <a:stretch/>
        </p:blipFill>
        <p:spPr>
          <a:xfrm>
            <a:off x="250920" y="3500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1" descr="DSC00280"/>
          <p:cNvPicPr/>
          <p:nvPr/>
        </p:nvPicPr>
        <p:blipFill>
          <a:blip r:embed="rId3"/>
          <a:stretch/>
        </p:blipFill>
        <p:spPr>
          <a:xfrm>
            <a:off x="6300720" y="371628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ae5d"/>
                </a:solidFill>
                <a:latin typeface="Arial"/>
              </a:rPr>
              <a:t>Изучение  действия  фитонцидов  растений  на  жилое  помеще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Хлорофиту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7" descr="DSC00296"/>
          <p:cNvPicPr/>
          <p:nvPr/>
        </p:nvPicPr>
        <p:blipFill>
          <a:blip r:embed="rId1"/>
          <a:stretch/>
        </p:blipFill>
        <p:spPr>
          <a:xfrm>
            <a:off x="1332000" y="2997360"/>
            <a:ext cx="3741480" cy="280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SC00299"/>
          <p:cNvPicPr/>
          <p:nvPr/>
        </p:nvPicPr>
        <p:blipFill>
          <a:blip r:embed="rId2"/>
          <a:stretch/>
        </p:blipFill>
        <p:spPr>
          <a:xfrm>
            <a:off x="5700600" y="2965320"/>
            <a:ext cx="2111400" cy="28116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5873040" y="249228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Хризанте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Изучение  действия  фитонцидов  растений  на  жилое  помещени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Геран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12" descr="DSC01259"/>
          <p:cNvPicPr/>
          <p:nvPr/>
        </p:nvPicPr>
        <p:blipFill>
          <a:blip r:embed="rId1"/>
          <a:stretch/>
        </p:blipFill>
        <p:spPr>
          <a:xfrm>
            <a:off x="1187280" y="2924280"/>
            <a:ext cx="2791080" cy="37209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5"/>
          <p:cNvSpPr/>
          <p:nvPr/>
        </p:nvSpPr>
        <p:spPr>
          <a:xfrm>
            <a:off x="1910160" y="234936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Гибиску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18" descr="DSC01258"/>
          <p:cNvPicPr/>
          <p:nvPr/>
        </p:nvPicPr>
        <p:blipFill>
          <a:blip r:embed="rId2"/>
          <a:stretch/>
        </p:blipFill>
        <p:spPr>
          <a:xfrm>
            <a:off x="4332240" y="3429000"/>
            <a:ext cx="43196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Очищение  дома 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от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 энергитической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 гряз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4" descr="DSC00306"/>
          <p:cNvPicPr/>
          <p:nvPr/>
        </p:nvPicPr>
        <p:blipFill>
          <a:blip r:embed="rId1"/>
          <a:stretch/>
        </p:blipFill>
        <p:spPr>
          <a:xfrm>
            <a:off x="3419640" y="2924280"/>
            <a:ext cx="26985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Влияние   растений  на  организм  челове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Оформление  комнатными цветами помещений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способствует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b0f0"/>
                </a:solidFill>
                <a:latin typeface="Arial"/>
              </a:rPr>
              <a:t>снятию психологического напряжения и снятию психологической усталости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Зеленый  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цвет  растений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снижает артериальное давление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, способствует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отдыху уставших глаз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4" descr="DSC00285"/>
          <p:cNvPicPr/>
          <p:nvPr/>
        </p:nvPicPr>
        <p:blipFill>
          <a:blip r:embed="rId1"/>
          <a:stretch/>
        </p:blipFill>
        <p:spPr>
          <a:xfrm>
            <a:off x="7596360" y="4869000"/>
            <a:ext cx="13492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Домашние  докт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300720" y="2204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5" descr="DSC00287"/>
          <p:cNvPicPr/>
          <p:nvPr/>
        </p:nvPicPr>
        <p:blipFill>
          <a:blip r:embed="rId1"/>
          <a:stretch/>
        </p:blipFill>
        <p:spPr>
          <a:xfrm>
            <a:off x="3132000" y="3213000"/>
            <a:ext cx="2376720" cy="3168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2489400" y="2565360"/>
            <a:ext cx="29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Алоэ или столетни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Домашние  докт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50800" y="2636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Каланхоэ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7" descr="DSC00289"/>
          <p:cNvPicPr/>
          <p:nvPr/>
        </p:nvPicPr>
        <p:blipFill>
          <a:blip r:embed="rId1"/>
          <a:stretch/>
        </p:blipFill>
        <p:spPr>
          <a:xfrm>
            <a:off x="4284720" y="3284640"/>
            <a:ext cx="24829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Красивоцветущие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9" descr="DSC00280"/>
          <p:cNvPicPr/>
          <p:nvPr/>
        </p:nvPicPr>
        <p:blipFill>
          <a:blip r:embed="rId1"/>
          <a:stretch/>
        </p:blipFill>
        <p:spPr>
          <a:xfrm>
            <a:off x="2627280" y="3429000"/>
            <a:ext cx="3936960" cy="2952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2"/>
          <p:cNvSpPr/>
          <p:nvPr/>
        </p:nvSpPr>
        <p:spPr>
          <a:xfrm>
            <a:off x="3718440" y="285264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Цикламе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1:43:19Z</dcterms:created>
  <dc:creator>Гончарова Клавдия Ивановна</dc:creator>
  <dc:description/>
  <dc:language>en-US</dc:language>
  <cp:lastModifiedBy>Роман</cp:lastModifiedBy>
  <dcterms:modified xsi:type="dcterms:W3CDTF">2020-06-21T13:58:36Z</dcterms:modified>
  <cp:revision>93</cp:revision>
  <dc:subject/>
  <dc:title>Слайд 1</dc:title>
</cp:coreProperties>
</file>