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2D8-1371-4ED2-B9FE-AA29C51E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87728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E6B-042A-411F-93E5-FC2FB772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44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ECB-C0EF-4C92-8D38-1995EEC1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85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63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85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63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843-EAEB-4263-A059-13A2869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B66A-9344-4C17-A7FE-DF4560E9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824120"/>
            <a:ext cx="809784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44C6-BFD5-4711-B684-74617348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809784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F32-32BF-47A8-967D-F9354D4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369-8E74-4476-B168-4073CB2D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7831-F5D1-40D1-AD59-0E481643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FB1-1B86-4E59-9328-B36EC39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348E-AED6-4F29-859E-8617D13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824120"/>
            <a:ext cx="809784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40C-9BD4-45BC-872C-9D2F972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44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45B-A70E-4F1D-98AF-00E7693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654-4CFB-48E4-AB79-5755EED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487728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F74-D0D5-4BF4-BAB7-5C8669BB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044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C273-31D0-442C-8902-3D8C9D32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85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66320" y="182412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85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66320" y="4877280"/>
            <a:ext cx="26071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64B-54AC-48DA-97C3-1AA4E662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809784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5B2-A5BD-4ABF-AD86-BBB3097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6D6-D09D-4B29-B22C-C35DF15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800-0233-460D-8461-4C5B630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8BE-5475-4C56-ABC9-C141B62E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090-9F9E-4F36-964A-D070EBB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440" y="487728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413-EA3C-4EC4-9488-753468C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5640" y="45504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440" y="1824120"/>
            <a:ext cx="39517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877280"/>
            <a:ext cx="809784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DE0-20C3-48BE-8B68-BA37F42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780EB-6AAB-421A-917D-FCC529E15E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1824120"/>
            <a:ext cx="809784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7640" y="68882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83360" y="68882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1F273-7FF0-4A7A-8965-52E3AC4263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63640" y="2303640"/>
            <a:ext cx="82803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ТИКУЛЯЦИОННАЯ ГИМНА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08000" y="946080"/>
            <a:ext cx="80010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63640" y="863640"/>
            <a:ext cx="82519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8920" y="1008000"/>
            <a:ext cx="80582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46000" y="936720"/>
            <a:ext cx="81298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8640" y="944640"/>
            <a:ext cx="8018280" cy="56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7640" y="863640"/>
            <a:ext cx="834372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87480" y="887400"/>
            <a:ext cx="8066160" cy="56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2000" y="863640"/>
            <a:ext cx="8008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720" y="863640"/>
            <a:ext cx="82328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39960" y="792000"/>
            <a:ext cx="82040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36720" y="936720"/>
            <a:ext cx="82756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20880" y="936720"/>
            <a:ext cx="822456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63640"/>
            <a:ext cx="81532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88920" y="863640"/>
            <a:ext cx="82519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36720" y="868320"/>
            <a:ext cx="810252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36720" y="879480"/>
            <a:ext cx="8192880" cy="55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0T09:26:03Z</dcterms:created>
  <dc:creator/>
  <dc:description/>
  <dc:language>en-US</dc:language>
  <cp:lastModifiedBy/>
  <dcterms:modified xsi:type="dcterms:W3CDTF">2020-08-10T09:54:50Z</dcterms:modified>
  <cp:revision>1</cp:revision>
  <dc:subject/>
  <dc:title/>
</cp:coreProperties>
</file>