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B609-30E6-402A-A3B1-203618C6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D78-4147-471C-BD0F-963E815B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5A72-2A96-454D-A3F1-7E29B8AD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26A-D84C-4BF7-8426-B45FDCA6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5473-7B55-45B2-B23D-12F0DFD0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E91D-920D-4665-9AA0-7BBC41D1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4E5E-B257-4C63-ADDB-91F53909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5752-71CA-4DF4-945C-2BB4A5EE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DF05-9C92-4FD8-B17B-5787C615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79C4-7661-46CE-9300-47434E2E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52BB-C4A0-4CD6-919E-3E4B5A24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8CF2-CEA2-49EB-A036-97132540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2BAE-E680-4D1F-B180-868C803E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3E5E-A6C6-488E-89FE-F8C05DD3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9D80-B549-46B8-B139-436830F8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D628-09D6-4A4C-8983-AA91CC14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DEBF-FC4C-4C20-ADBD-CCC46CF7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7B29B-8C80-4FE2-8AF7-A5C6B7DC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89A54-92DB-4182-8F13-6711552C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8E507-CBFF-42F1-84AD-9C418B8B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FF315-322E-4A8E-943D-325CC7E2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2AC98-23CB-43CD-B936-29CFAAE9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625-D79A-41CC-B588-95189079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050B6-37DC-4FA0-B448-CD487918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135ED-9B8D-41A4-8601-71747612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24FE4-F76B-4299-90F8-70AAD7F5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91B88-6C8D-49DF-B655-3E925919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A0861-C70B-44D4-8DE1-56ABD7A6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FC669-33CE-4589-8220-4B86B4F1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DDED6-6DFA-4741-BF06-955DE0EC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F71B-322B-49D2-958C-DE0DBBF7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5E18-5841-46BB-8743-7D3FD2E6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AD4-DAA7-41DA-AFF3-44C46B00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BE7-52B6-4AB4-853C-6BBA80FC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224A-A3D1-422F-BB35-9A6BDC15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CC2C-5005-4252-A4F9-B118007D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4c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e84c22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e84c22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84c22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e84c22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84c22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e84c22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84c22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e84c22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84c22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e84c22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84c22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84c22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84c22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2E69-76A0-4D9A-8B62-C8016BA20A60}" type="slidenum">
              <a:rPr b="0" lang="ru-RU" sz="10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4c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e84c2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e84c22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e84c22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84c22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e84c22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84c22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e84c22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84c22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e84c22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84c22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e84c22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84c22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84c22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84c22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22EB-F3BF-490B-82E1-AEC11895B73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4c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e84c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e84c22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e84c22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84c22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e84c22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84c22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e84c22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84c22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e84c22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84c22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e84c22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84c22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84c22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84c22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e84c22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FB83-ACB9-4AD5-B02D-435334DA8E80}" type="slidenum">
              <a:rPr b="0" lang="ru-RU" sz="10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483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659280" y="3870000"/>
            <a:ext cx="2160360" cy="13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1800" spc="-1" strike="noStrike">
              <a:solidFill>
                <a:srgbClr val="e84c22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</a:t>
            </a:r>
            <a:endParaRPr b="0" lang="en-US" sz="1800" spc="-1" strike="noStrike">
              <a:solidFill>
                <a:srgbClr val="e84c22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стина О.В.</a:t>
            </a:r>
            <a:endParaRPr b="0" lang="en-US" sz="1800" spc="-1" strike="noStrike">
              <a:solidFill>
                <a:srgbClr val="e84c22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520720" cy="33609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3" descr=""/>
          <p:cNvPicPr/>
          <p:nvPr/>
        </p:nvPicPr>
        <p:blipFill>
          <a:blip r:embed="rId2"/>
          <a:stretch/>
        </p:blipFill>
        <p:spPr>
          <a:xfrm>
            <a:off x="5889600" y="3618000"/>
            <a:ext cx="2212920" cy="295272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2" descr=""/>
          <p:cNvPicPr/>
          <p:nvPr/>
        </p:nvPicPr>
        <p:blipFill>
          <a:blip r:embed="rId3"/>
          <a:stretch/>
        </p:blipFill>
        <p:spPr>
          <a:xfrm>
            <a:off x="2279520" y="3618000"/>
            <a:ext cx="2216160" cy="2952720"/>
          </a:xfrm>
          <a:prstGeom prst="rect">
            <a:avLst/>
          </a:prstGeom>
          <a:ln w="0">
            <a:noFill/>
          </a:ln>
        </p:spPr>
      </p:pic>
      <p:pic>
        <p:nvPicPr>
          <p:cNvPr id="153" name="Объект 3" descr=""/>
          <p:cNvPicPr/>
          <p:nvPr/>
        </p:nvPicPr>
        <p:blipFill>
          <a:blip r:embed="rId4"/>
          <a:stretch/>
        </p:blipFill>
        <p:spPr>
          <a:xfrm>
            <a:off x="3708360" y="304920"/>
            <a:ext cx="2343240" cy="33130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6" descr=""/>
          <p:cNvPicPr/>
          <p:nvPr/>
        </p:nvPicPr>
        <p:blipFill>
          <a:blip r:embed="rId5"/>
          <a:stretch/>
        </p:blipFill>
        <p:spPr>
          <a:xfrm>
            <a:off x="6372360" y="351000"/>
            <a:ext cx="2415960" cy="32209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5000" y="4149720"/>
            <a:ext cx="20732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войны и труженица тыла</a:t>
            </a:r>
            <a:endParaRPr b="0" lang="en-US" sz="1800" spc="-1" strike="noStrike">
              <a:solidFill>
                <a:srgbClr val="e84c22"/>
              </a:solidFill>
              <a:latin typeface="Corbel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5" descr=""/>
          <p:cNvPicPr/>
          <p:nvPr/>
        </p:nvPicPr>
        <p:blipFill>
          <a:blip r:embed="rId2"/>
          <a:stretch/>
        </p:blipFill>
        <p:spPr>
          <a:xfrm>
            <a:off x="4067280" y="3051000"/>
            <a:ext cx="4817880" cy="36133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788000" y="-171360"/>
            <a:ext cx="40320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женики тыла и ветеран войны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ень Победы</a:t>
            </a:r>
            <a:endParaRPr b="0" lang="en-US" sz="1800" spc="-1" strike="noStrike">
              <a:solidFill>
                <a:srgbClr val="e84c22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Неизвестен - Минута молчания_Метроном_30 сек (www.hotplayer.ru).mp3" descr=""/>
          <p:cNvPicPr/>
          <p:nvPr/>
        </p:nvPicPr>
        <p:blipFill>
          <a:blip r:embed="rId2"/>
          <a:stretch/>
        </p:blipFill>
        <p:spPr>
          <a:xfrm>
            <a:off x="1332000" y="45813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292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ожение цветов к Обелиску</a:t>
            </a:r>
            <a:endParaRPr b="0" lang="en-US" sz="1800" spc="-1" strike="noStrike">
              <a:solidFill>
                <a:srgbClr val="e84c22"/>
              </a:solidFill>
              <a:latin typeface="Corbel"/>
            </a:endParaRPr>
          </a:p>
        </p:txBody>
      </p:sp>
      <p:pic>
        <p:nvPicPr>
          <p:cNvPr id="162" name="Объект 3" descr=""/>
          <p:cNvPicPr/>
          <p:nvPr/>
        </p:nvPicPr>
        <p:blipFill>
          <a:blip r:embed="rId1"/>
          <a:stretch/>
        </p:blipFill>
        <p:spPr>
          <a:xfrm>
            <a:off x="324000" y="743040"/>
            <a:ext cx="3555720" cy="26668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"/>
          <p:cNvPicPr/>
          <p:nvPr/>
        </p:nvPicPr>
        <p:blipFill>
          <a:blip r:embed="rId2"/>
          <a:stretch/>
        </p:blipFill>
        <p:spPr>
          <a:xfrm>
            <a:off x="2195640" y="3505320"/>
            <a:ext cx="3960720" cy="29718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5" descr=""/>
          <p:cNvPicPr/>
          <p:nvPr/>
        </p:nvPicPr>
        <p:blipFill>
          <a:blip r:embed="rId3"/>
          <a:stretch/>
        </p:blipFill>
        <p:spPr>
          <a:xfrm>
            <a:off x="5003640" y="743040"/>
            <a:ext cx="367848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1600" y="882360"/>
            <a:ext cx="74754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ru-RU" sz="6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82320" y="3870360"/>
            <a:ext cx="657540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Девиз Акции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534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4680" y="404280"/>
            <a:ext cx="4176720" cy="29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мертный полк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м городе</a:t>
            </a:r>
            <a:endParaRPr b="0" lang="en-US" sz="1800" spc="-1" strike="noStrike">
              <a:solidFill>
                <a:srgbClr val="e84c22"/>
              </a:solidFill>
              <a:latin typeface="Corbel"/>
            </a:endParaRPr>
          </a:p>
        </p:txBody>
      </p:sp>
      <p:pic>
        <p:nvPicPr>
          <p:cNvPr id="137" name="Объект 3" descr=""/>
          <p:cNvPicPr/>
          <p:nvPr/>
        </p:nvPicPr>
        <p:blipFill>
          <a:blip r:embed="rId1"/>
          <a:stretch/>
        </p:blipFill>
        <p:spPr>
          <a:xfrm>
            <a:off x="174600" y="282600"/>
            <a:ext cx="4792680" cy="2952720"/>
          </a:xfrm>
          <a:prstGeom prst="rect">
            <a:avLst/>
          </a:prstGeom>
          <a:ln w="0">
            <a:noFill/>
          </a:ln>
        </p:spPr>
      </p:pic>
      <p:pic>
        <p:nvPicPr>
          <p:cNvPr id="138" name="Объект 3" descr=""/>
          <p:cNvPicPr/>
          <p:nvPr/>
        </p:nvPicPr>
        <p:blipFill>
          <a:blip r:embed="rId2"/>
          <a:stretch/>
        </p:blipFill>
        <p:spPr>
          <a:xfrm>
            <a:off x="4356000" y="2997360"/>
            <a:ext cx="464184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"/>
          <p:cNvPicPr/>
          <p:nvPr/>
        </p:nvPicPr>
        <p:blipFill>
          <a:blip r:embed="rId1"/>
          <a:stretch/>
        </p:blipFill>
        <p:spPr>
          <a:xfrm>
            <a:off x="171360" y="309600"/>
            <a:ext cx="4416480" cy="33116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" descr=""/>
          <p:cNvPicPr/>
          <p:nvPr/>
        </p:nvPicPr>
        <p:blipFill>
          <a:blip r:embed="rId2"/>
          <a:stretch/>
        </p:blipFill>
        <p:spPr>
          <a:xfrm>
            <a:off x="3995640" y="2997360"/>
            <a:ext cx="4956120" cy="37162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59280" y="-675000"/>
            <a:ext cx="3960720" cy="26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ки ДОУ участвуют в акции «Бессмертный полк»</a:t>
            </a:r>
            <a:endParaRPr b="0" lang="en-US" sz="1800" spc="-1" strike="noStrike">
              <a:solidFill>
                <a:srgbClr val="e84c22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78800" cy="5705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31640" y="188640"/>
            <a:ext cx="5132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войны</a:t>
            </a:r>
            <a:endParaRPr b="0" lang="en-US" sz="1800" spc="-1" strike="noStrike">
              <a:solidFill>
                <a:srgbClr val="e84c22"/>
              </a:solidFill>
              <a:latin typeface="Corbe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1" descr=""/>
          <p:cNvPicPr/>
          <p:nvPr/>
        </p:nvPicPr>
        <p:blipFill>
          <a:blip r:embed="rId1"/>
          <a:stretch/>
        </p:blipFill>
        <p:spPr>
          <a:xfrm>
            <a:off x="385920" y="115920"/>
            <a:ext cx="2449440" cy="32670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2" descr=""/>
          <p:cNvPicPr/>
          <p:nvPr/>
        </p:nvPicPr>
        <p:blipFill>
          <a:blip r:embed="rId2"/>
          <a:stretch/>
        </p:blipFill>
        <p:spPr>
          <a:xfrm>
            <a:off x="1332000" y="3500280"/>
            <a:ext cx="2289240" cy="30528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" descr=""/>
          <p:cNvPicPr/>
          <p:nvPr/>
        </p:nvPicPr>
        <p:blipFill>
          <a:blip r:embed="rId3"/>
          <a:stretch/>
        </p:blipFill>
        <p:spPr>
          <a:xfrm>
            <a:off x="3203640" y="233280"/>
            <a:ext cx="2357280" cy="33307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2" descr=""/>
          <p:cNvPicPr/>
          <p:nvPr/>
        </p:nvPicPr>
        <p:blipFill>
          <a:blip r:embed="rId4"/>
          <a:stretch/>
        </p:blipFill>
        <p:spPr>
          <a:xfrm>
            <a:off x="4362480" y="3254400"/>
            <a:ext cx="2189160" cy="32986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" descr=""/>
          <p:cNvPicPr/>
          <p:nvPr/>
        </p:nvPicPr>
        <p:blipFill>
          <a:blip r:embed="rId5"/>
          <a:stretch/>
        </p:blipFill>
        <p:spPr>
          <a:xfrm>
            <a:off x="6300720" y="260280"/>
            <a:ext cx="2535480" cy="33814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32360" y="3933360"/>
            <a:ext cx="2103480" cy="17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войны</a:t>
            </a:r>
            <a:endParaRPr b="0" lang="en-US" sz="1800" spc="-1" strike="noStrike">
              <a:solidFill>
                <a:srgbClr val="e84c22"/>
              </a:solidFill>
              <a:latin typeface="Corbe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6:52:58Z</dcterms:created>
  <dc:creator>Admin</dc:creator>
  <dc:description/>
  <dc:language>en-US</dc:language>
  <cp:lastModifiedBy>Ольга</cp:lastModifiedBy>
  <dcterms:modified xsi:type="dcterms:W3CDTF">2020-08-10T11:54:26Z</dcterms:modified>
  <cp:revision>75</cp:revision>
  <dc:subject/>
  <dc:title>«Формирование нравственно – патриотических чувств у детей старшего дошкольного возраста при ознакомлении с родным городом»</dc:title>
</cp:coreProperties>
</file>