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55643-FF5F-4706-B973-727711CF3E2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D81A0-6F93-4F00-B265-DFDDC7433F8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16BBB-F056-4D52-ADA0-77A47C0CD3C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1C602-728E-4CDF-BF7C-874EDE9115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6D42A-19D2-4235-BAE1-98B565964FC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55EAC-CA0A-4CB3-BF8D-BD2C5C319A0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3EAEF-69C6-40DD-B6F5-85B59B5DCCB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B3AF-52F9-4CB7-9C1A-193064298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CB74-A111-4B8E-BE70-4D3DC7832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47DA6A-1BB3-49CD-9A8C-DA56AB243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1E9E43-911D-46D4-8469-ECAFD19E7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F34A1F-32B7-40E3-BA25-F0633B5D7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56AEDA-0758-4D4B-B7CC-811B04ED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8F37E3-E07A-42D3-A91C-05D178E0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687B1B-398B-4433-8349-8B87CA91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55EE19-FE41-4F30-8389-BC1FBB4FA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FE5D6D-3FB1-4005-A1A8-5371818F4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A83084-7C44-4BAE-B3C9-291227AD7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AC7144-7F15-427B-94D8-B73884332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C105-3241-4DC9-AFEC-A28C0663A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54AFD9-44B7-462B-AC10-A5A9C55B6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2498B7-05FA-4D77-A8CF-DC704B7BC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E5A19A-3AB4-4877-86EB-8748E42FE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D6336E-84EA-42CE-898F-142DEC736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A603F2-2CA1-4C5D-86DC-BD768CC41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A17E24-04B1-4758-92F5-B2A5064C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86062D-58B3-474B-ADE2-0D380A3D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22FC5E-8D36-496B-8D88-5D08BFC9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0306B7-E112-4C4A-AB2E-9081F65FF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DFB267-1487-43ED-B6C3-09813A687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3320-A929-4DE9-8DEA-D30DE85A8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CCEB12-EEF8-47EA-BF51-B2CFCAD0C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9F859D-219E-4DE9-A07C-8AE5EFD43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7BC851-2665-4DA8-84B3-C5408C7D8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42A1C5-2224-44BF-AC92-6CADD5263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981689-45CA-49B5-87C0-20EDC4B69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A29C67-7174-4A93-8866-582186B04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AE4161-D40F-4A8C-9D14-98B94A8EA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710796-8B06-43D1-8E2D-0145EA40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43C7AF-06FB-4D9C-BE75-AA60900E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2CCDF6-E48E-429D-8699-7F3303B7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40B6C-8167-4931-AC2D-61EA10E85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73109B-26D4-4678-858A-7E2691245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2FE373-5F29-4167-A640-CE4AFBA23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797F0E-EE35-4DEF-96E2-1C8A456BF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68DE11-1BEC-4D0A-9AF4-C409E4456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68ADE5-7B3E-45C4-9AD8-D502B5439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15B329-99FA-42E4-81F0-0CB463535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EE2008-9B22-4B87-B823-FBF5A62E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8FD6D4-EFE5-46DB-93F9-8E8618EF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A0ECA8-80B5-4567-B52E-218704E38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C08E84-1614-4FFC-8FBD-76C3DB9B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82AA2-A14C-4E51-A69E-1A02C0063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069D00-DF73-4B1E-8743-1C4A0002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3E3539-D675-46B7-A617-2AAA6C79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296DD6-54FB-4823-8525-6D7FEC30E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87D2F1-C4F5-4883-A939-C9B170CF4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584E13-2EBA-41C8-9C46-29DD6E493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FE1B6-F623-4CB4-95C0-A65D76386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F6B8B-020D-42C5-BBBC-876BC40F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ADBBD-3AB1-4A11-83AC-B5B7F3D60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04ECD-0C22-4D3C-A6D3-A2F1AE055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54FD8-913A-468B-8950-8A519FD1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27FD-48B4-4CD2-A4B3-615353B2C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18D51-925A-450A-A881-8BB7A258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B0A76-C3F3-4EA5-B07D-7899FA50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F971C-3FFD-4EF8-A9A4-EF183BB31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A43CF-1532-4223-BF0E-D356BB538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0F477-2794-4FC1-9DE0-8D8BDE733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52A2E-B1D1-42F0-B7B9-8D31554D8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41CF1-31D5-4DA7-9DC9-861370566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8E458-BBA9-4D1F-854C-9024708EC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17FE4-CE7A-4888-B071-3578D6B46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5274D-3D45-4B4E-9C2C-A97DF0A92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2AA6-8903-41B9-AEF2-D438BCA7A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C127A-5CBE-4F10-A520-FC4779B7F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11D3F-CC7E-4D33-8F58-7740D6D0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64EDB-268E-4B5C-9B04-47202099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C3734-70C2-4BA4-ACD0-D152055E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DCA83-606E-43CC-811E-1B684FA78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49AF5-AAC2-4CEB-A226-39217A3B1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A71E4-293D-412B-81F9-4DE7A5184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5792B-4DDB-4A22-9F6B-EEA8595EB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92BFC-B926-49CA-9CB0-CF4EB8CE9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DE1D7-D57C-4FB4-B3AB-76FA71249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175D-253C-48BD-B4E1-6D32FCFD4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20656-DAD0-417E-8B4B-A3D5532A4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1C453-50E8-4EDF-9813-449F2230D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74139-5144-45EE-8FFD-3AB10D0FA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CE435-F617-457A-AE8A-12BE850D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8FA26-31E2-456F-9655-2DD5FA07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089DE-B7CD-4025-AFA5-0177C296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1AA21-AC51-4AEF-A581-E03704CD6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93A77-0DDC-4097-9B13-1FC717678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2A3A0-E418-4BA3-A5E9-1AF1A2085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7F105-18AB-4902-962F-2FE175561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F934-1F0D-44A3-A5C2-C3F11BD67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AA1C3-8ED7-4016-8768-1F7F10C9F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6D917-5811-45B6-AB77-5CE1AE227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F806F-8258-4448-A3E0-A4AB3803B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7382F-B93B-4DB0-AC7F-77E753DC0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ABBD2-1BA6-4B82-A87D-0E3313D30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C6FFA-9DD7-4CDB-B1F7-043AA399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C57DE-B449-4E31-BBA0-F5BF8AAC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6730C-A7E5-45CF-9A3D-DFC18286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80328-CE44-46A0-826A-EB9572CF4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AEE9A-B7AA-4D85-AC3D-B94CBB642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B03B-709D-41AA-8DFA-55060C6E5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3BAB2-42E0-4938-A55C-80FA70F42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962AD-1DEF-4D13-AEEB-995F9F9AE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DA58D-8ECB-413C-AD73-53235F6E5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AAE826-D8A9-4920-921F-AFFB4BCC6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7AE60-AA01-4D1E-A992-925E9EB8C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FCFCF-1797-4743-895E-B7B0EFA3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75BCE-F2B8-4805-A100-D6D4EECCB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53D73-0012-4D5F-A687-E5B7FFC2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EB659-3DBF-40AD-A0A4-DE989205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20F83-71B2-44E9-B3E3-DF20C843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2212-7C0A-420C-81A0-8D1B4ED0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AAF0C-CA31-4D14-9235-D49B4D69E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57D79-896B-4BDC-9B62-465D0591B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FD367-63F6-4A2D-AE61-84B0B1946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C1D951-6154-4362-9AE3-BE78206BD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1FA412-15A4-41A2-B440-FBE99658A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0CB5F-16D6-455F-874B-E604154A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BBD00-5D7A-4C36-A7F6-148C1C3AA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90661-C8DE-4FF8-A9A4-A9B7DCA3B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60B90-204D-44B6-80F1-4D24EF26D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F3A89-0ED1-46C8-A722-ABCAF8E9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8BDF-9D32-4734-BABF-B1A3B571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85A98E-7EC4-4463-96B2-2EB97BF4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B8183-F166-45A8-B7FE-AF914391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B3C75C-D6AB-4968-9210-A6790D8D1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B0A0C-4D67-4BF9-AF5E-EA2B463C9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2080B-CAEF-4174-9F12-2CD25F09D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B6A536-2FC1-4F9A-A8C5-3FEB3E507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DE4DF0-52B7-4445-8DB5-44C475614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D244DF-98E0-4BDE-9C3F-B83542534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03D4D4-1287-49BD-A14D-50E05A5AC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2EF371-DFDA-421D-BF56-2FD24EE06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0840-F6AB-43E4-A236-387C5FE9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04BBF2-C692-4AE9-B73C-27131B393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5DF727-2098-4E03-A28E-9AC113B4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95E63C-3A09-4D1C-BE36-BFCE6883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2A820-1C5F-4C31-8C20-0F0B22DB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896FCE-7088-4E80-A4F1-91E44E248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5CFD4-A712-4937-9899-C2A176B45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7E14C4-C060-48CA-96C3-ACF52CDDF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343A8E-8569-40C3-AD43-034556307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DF1A1A-F78A-4387-9D70-32047225C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158ECB-0303-4C25-8ED9-DC6B5D25E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469B2-B012-4A71-A8E5-DFA2FA4E96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9EF59-57F8-45F3-A227-3F2DBE0B4C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380E5-1255-47F6-A1C1-DB6D31F34A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D49A3-4F49-4CA7-9C14-B69600BE05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4497C-6156-4611-B76A-F000B3F952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2D067-7D70-4CA4-B2BD-3AD2AC2386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B8F4F-4FFE-4A8D-824C-357C5BA2AB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BDCDC-B0EE-40AD-8047-E477F43255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DB122-86F0-4B2F-847A-F11F1E3765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08604-DB51-434B-A347-5CDA4A4AC0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02C6A-8CC1-463F-802B-6C238514C2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21D7A-69BA-4710-9950-F365B89CFD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Скругленный прямоугольник 3"/>
          <p:cNvSpPr/>
          <p:nvPr/>
        </p:nvSpPr>
        <p:spPr>
          <a:xfrm>
            <a:off x="214200" y="214200"/>
            <a:ext cx="8715600" cy="27147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Экологические  проблемы  возникли не сегодня. Но в наши дни ситуация резко ухудшилась: каждую минуту на  планете исчезает  23 га леса и три биологических ви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Поэтому, обращая пристальное  внимание на экологию, человек пытается прежде всего сохранить  самого себя. Но, спасая себя необходимо спасти  природ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2" descr="D:\Documents and Settings\User\Мои документы\Мои рисунки\77T0RECA2ARKKPCAMM5NZ3CA178SMLCA82QN4MCA6YYJMYCAIAG9Z0CAW1GOSRCA96UMWMCABSNRPHCA72F8HKCALBRXPYCASIH9YFCA2LZHHDCA02SPB6CA0PLSKQCAZUIKACCAU5ICXICAD9OK18CAB1PILR.jpg"/>
          <p:cNvPicPr/>
          <p:nvPr/>
        </p:nvPicPr>
        <p:blipFill>
          <a:blip r:embed="rId1"/>
          <a:stretch/>
        </p:blipFill>
        <p:spPr>
          <a:xfrm>
            <a:off x="142920" y="2928960"/>
            <a:ext cx="3857760" cy="257184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pic>
        <p:nvPicPr>
          <p:cNvPr id="501" name="Picture 3" descr="D:\Documents and Settings\User\Мои документы\Мои рисунки\2ZG4NTCABLKCVFCA1FIEL1CAXXWCE3CANCGOT7CAL5LFSWCAHO7KYECA1C9RIXCAMIQ2SJCAE0NQHQCA6TDCX1CA9UGQ3CCA4ZESTXCAOSTO8VCALNZU7ICAR2LTM7CA63TU09CAC9TUIGCAHV6TCRCAIU21Z9.jpg"/>
          <p:cNvPicPr/>
          <p:nvPr/>
        </p:nvPicPr>
        <p:blipFill>
          <a:blip r:embed="rId2"/>
          <a:stretch/>
        </p:blipFill>
        <p:spPr>
          <a:xfrm>
            <a:off x="5286240" y="2928960"/>
            <a:ext cx="3699000" cy="256680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pic>
        <p:nvPicPr>
          <p:cNvPr id="502" name="Picture 4" descr="D:\Documents and Settings\User\Мои документы\Мои рисунки\IZBZVFCAMUQ0I2CAA5DCB9CACRHPVWCAOT11BXCAFTTEH7CAV6TMTACAZ5KFUTCAAYYMG8CAKPP50ZCAPV177YCAEBX9DUCAPAHS14CA4CZVE0CA6ISKIWCAXPWLNDCASRJ9GBCA892MPBCAIC6ORVCABJYPU4.jpg"/>
          <p:cNvPicPr/>
          <p:nvPr/>
        </p:nvPicPr>
        <p:blipFill>
          <a:blip r:embed="rId3"/>
          <a:stretch/>
        </p:blipFill>
        <p:spPr>
          <a:xfrm>
            <a:off x="2357280" y="2928960"/>
            <a:ext cx="3391200" cy="257184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sp>
        <p:nvSpPr>
          <p:cNvPr id="503" name="Скругленный прямоугольник 9"/>
          <p:cNvSpPr/>
          <p:nvPr/>
        </p:nvSpPr>
        <p:spPr>
          <a:xfrm>
            <a:off x="214200" y="5357880"/>
            <a:ext cx="8643960" cy="1342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Математика создает условия для развития умения давать количественную оценку состояния природных объектов и явлений, положительных и отрицательных последствий деятельности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Прямоугольник 6"/>
          <p:cNvSpPr/>
          <p:nvPr/>
        </p:nvSpPr>
        <p:spPr>
          <a:xfrm>
            <a:off x="285840" y="142920"/>
            <a:ext cx="8429400" cy="1271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Прямоугольник 5"/>
          <p:cNvSpPr/>
          <p:nvPr/>
        </p:nvSpPr>
        <p:spPr>
          <a:xfrm>
            <a:off x="285840" y="2357280"/>
            <a:ext cx="4343400" cy="3214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Большую часть земного шара занимают леса. Мы можем отдыхать в тени деревьев, дышать свежим, чистым, обогащенным кислородом воздухом. Это дом, в котором живут звери и птицы. Охраняйте и берегите лес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530280" y="2457360"/>
            <a:ext cx="3895560" cy="3041640"/>
          </a:xfrm>
          <a:prstGeom prst="rect">
            <a:avLst/>
          </a:prstGeom>
          <a:ln w="0">
            <a:noFill/>
          </a:ln>
        </p:spPr>
      </p:pic>
      <p:sp>
        <p:nvSpPr>
          <p:cNvPr id="508" name="Скругленный прямоугольник 7"/>
          <p:cNvSpPr/>
          <p:nvPr/>
        </p:nvSpPr>
        <p:spPr>
          <a:xfrm>
            <a:off x="4857840" y="1643040"/>
            <a:ext cx="3929040" cy="4572000"/>
          </a:xfrm>
          <a:custGeom>
            <a:avLst/>
            <a:gdLst>
              <a:gd name="textAreaLeft" fmla="*/ 191520 w 3929040"/>
              <a:gd name="textAreaRight" fmla="*/ 3737520 w 3929040"/>
              <a:gd name="textAreaTop" fmla="*/ 191520 h 4572000"/>
              <a:gd name="textAreaBottom" fmla="*/ 4380480 h 4572000"/>
            </a:gdLst>
            <a:ahLst/>
            <a:rect l="textAreaLeft" t="textAreaTop" r="textAreaRight" b="textAreaBottom"/>
            <a:pathLst>
              <a:path w="21600" h="25134">
                <a:moveTo>
                  <a:pt x="3600" y="0"/>
                </a:moveTo>
                <a:arcTo wR="3600" hR="3600" stAng="16200000" swAng="-5400000"/>
                <a:lnTo>
                  <a:pt x="0" y="21534"/>
                </a:lnTo>
                <a:arcTo wR="3600" hR="3600" stAng="10800000" swAng="-5400000"/>
                <a:lnTo>
                  <a:pt x="18000" y="251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В настоящее время леса  на планете занимают около 40 млн.км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. Ежегодно  эта величина уменьшается на 2%. Когда  планета  останется без своих «легких», если этот процесс не останови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Прямоугольник 3"/>
          <p:cNvSpPr/>
          <p:nvPr/>
        </p:nvSpPr>
        <p:spPr>
          <a:xfrm>
            <a:off x="500040" y="285840"/>
            <a:ext cx="8215200" cy="1643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В мире ежегодно добывается  1600 млн.м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древесины, около 20% всей древесины идет на топливо. Сколько кубических метров древесины сжигае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3" descr=""/>
          <p:cNvPicPr/>
          <p:nvPr/>
        </p:nvPicPr>
        <p:blipFill>
          <a:blip r:embed="rId1"/>
          <a:stretch/>
        </p:blipFill>
        <p:spPr>
          <a:xfrm>
            <a:off x="2017800" y="2305080"/>
            <a:ext cx="488304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Скругленный прямоугольник 6"/>
          <p:cNvSpPr/>
          <p:nvPr/>
        </p:nvSpPr>
        <p:spPr>
          <a:xfrm>
            <a:off x="428760" y="142920"/>
            <a:ext cx="8429400" cy="1557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27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В суровую зиму  в лесу может погибнуть до 90% птиц. Если в лесу обитало 3400 птиц, то каково количество оставшихся?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В чем состоит основная причина их гибели?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3" name="Picture 2" descr=""/>
          <p:cNvPicPr/>
          <p:nvPr/>
        </p:nvPicPr>
        <p:blipFill>
          <a:blip r:embed="rId1"/>
          <a:stretch/>
        </p:blipFill>
        <p:spPr>
          <a:xfrm>
            <a:off x="2371680" y="2090880"/>
            <a:ext cx="3767040" cy="37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5" name="Picture 2" descr=""/>
          <p:cNvPicPr/>
          <p:nvPr/>
        </p:nvPicPr>
        <p:blipFill>
          <a:blip r:embed="rId1"/>
          <a:stretch/>
        </p:blipFill>
        <p:spPr>
          <a:xfrm>
            <a:off x="944640" y="2517840"/>
            <a:ext cx="4194000" cy="3181320"/>
          </a:xfrm>
          <a:prstGeom prst="rect">
            <a:avLst/>
          </a:prstGeom>
          <a:ln w="0">
            <a:noFill/>
          </a:ln>
        </p:spPr>
      </p:pic>
      <p:sp>
        <p:nvSpPr>
          <p:cNvPr id="516" name="Скругленный прямоугольник 3"/>
          <p:cNvSpPr/>
          <p:nvPr/>
        </p:nvSpPr>
        <p:spPr>
          <a:xfrm>
            <a:off x="285840" y="285840"/>
            <a:ext cx="8643960" cy="14288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Муравьи очищают лес от мусора, они могут переносить груз, в 10 раз превышающий собственный вес. Сколько лет живет муравей, если его продолжительность жизни составляет 1% от продолжительности жизни  Мамонтова дерева (2500 лет)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3" descr="D:\Documents and Settings\User\Мои документы\Мои рисунки\78SLHSCA3TNNFVCA88WNM6CADBOWE3CA4VXFGNCASZNZ1ZCAFD06S1CANIPV5DCAAH3VRSCAS97FHOCAJAQGW8CAV9HA6WCACKFTOOCA4WLTQ6CAE94HJHCA1KHQ3RCA4XR8ZQCA082BWMCA33VJ6PCAY5US64.jpg"/>
          <p:cNvPicPr/>
          <p:nvPr/>
        </p:nvPicPr>
        <p:blipFill>
          <a:blip r:embed="rId2"/>
          <a:stretch/>
        </p:blipFill>
        <p:spPr>
          <a:xfrm>
            <a:off x="6357960" y="2786040"/>
            <a:ext cx="194004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2" descr=""/>
          <p:cNvPicPr/>
          <p:nvPr/>
        </p:nvPicPr>
        <p:blipFill>
          <a:blip r:embed="rId1"/>
          <a:stretch/>
        </p:blipFill>
        <p:spPr>
          <a:xfrm>
            <a:off x="285840" y="142920"/>
            <a:ext cx="8385120" cy="6305400"/>
          </a:xfrm>
          <a:prstGeom prst="rect">
            <a:avLst/>
          </a:prstGeom>
          <a:ln w="57240">
            <a:solidFill>
              <a:srgbClr val="0070c0"/>
            </a:solidFill>
            <a:miter/>
          </a:ln>
        </p:spPr>
      </p:pic>
      <p:sp>
        <p:nvSpPr>
          <p:cNvPr id="519" name="Скругленный прямоугольник 3"/>
          <p:cNvSpPr/>
          <p:nvPr/>
        </p:nvSpPr>
        <p:spPr>
          <a:xfrm>
            <a:off x="3357720" y="1143000"/>
            <a:ext cx="5143320" cy="4000680"/>
          </a:xfrm>
          <a:prstGeom prst="roundRect">
            <a:avLst>
              <a:gd name="adj" fmla="val 1694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Берегите лес  и все, что в нем растет и живет. Не убивайте паука, не наступайте на муравьев, не срывайте растени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5:04:27Z</dcterms:created>
  <dc:creator>User</dc:creator>
  <dc:description/>
  <dc:language>en-US</dc:language>
  <cp:lastModifiedBy>Vlad</cp:lastModifiedBy>
  <dcterms:modified xsi:type="dcterms:W3CDTF">2010-06-11T20:57:23Z</dcterms:modified>
  <cp:revision>14</cp:revision>
  <dc:subject/>
  <dc:title>Большую часть земного шара занимают леса. Мы можем отдыхать в тени деревьев, дышать свежим, чистым, обогащенным кислородом воздухом. Это дом, в котором живут звери и птицы. Охраняйте и берегите лес. </dc:title>
</cp:coreProperties>
</file>