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5.png" ContentType="image/png"/>
  <Override PartName="/ppt/media/image1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8565-8D4E-4A93-95C6-927CFBE6F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C8AD-1EE8-4C47-8F7B-503CF4899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6493-D619-4867-8E72-A5A46DF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79B7-0100-4B03-AD15-153A10C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0FBD-68BB-4909-90F1-634D8C5A2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2255B-F81E-43D3-86B8-4218765AC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23A9-F3DF-4399-AEBB-732DAA13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BAA03-EA0A-4595-A5DA-D7D31D1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0984-F60D-4DEC-AC71-CC49A18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57D39-01BC-4DEE-B059-2E82FD46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EA618-CA08-444B-8364-7EEBB6D4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E1F78-53F3-426C-80DD-6D5BCA62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1997-A8F7-4E31-8633-662D335C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ED11A-2FB9-4642-80F6-03B0F18A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3F932-4714-4D93-AD7C-3676018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2426E-0A94-4CB1-9CA0-975218F6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8982D-D50A-4F02-8F21-B30C744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6C9B-4CD0-46AC-849F-A960F5FA81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32C-B870-4BD3-97EF-ACB8B6EC2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AB7-52B9-4D58-BA39-E04873DE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6E7-087F-4FF2-BC1A-2C66321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842-1E50-4754-B4E4-3D701BC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48BB-4478-4977-B2AF-4FC6FA5D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01FC-D42D-45BB-9701-F001111C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659-AC0F-418C-AC34-9AF39571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206-F2E7-4E51-96FF-77425AE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B57E-7C36-47E8-9F99-577ECAF4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576C-41BE-4A26-BFA2-3352CE9C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8CC0-B155-4456-BC4F-A1E2369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DD83-F2E1-40FC-8558-2E6F97C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CF33-741A-41AF-B34F-08F9834C1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ACE0-92E7-4CF8-A879-E4A52C3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FF89-35EE-40AE-8A2B-E757304C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C30D-953C-40D1-9438-BF12DE1B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1028-2812-467F-8375-023BCF5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A744-5757-470F-A06A-D7E6067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2A87-1420-4CB3-83B4-73302BE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2130480"/>
            <a:ext cx="6759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Comic Sans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omic Sans MS"/>
                <a:ea typeface="Segoe UI"/>
              </a:rPr>
              <a:t>23.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Comic Sans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C5F1D-C12C-44A2-88B0-37B596009B6A}" type="slidenum">
              <a:rPr b="0" lang="ru-RU" sz="1800" spc="-1" strike="noStrike">
                <a:solidFill>
                  <a:srgbClr val="215968"/>
                </a:solidFill>
                <a:latin typeface="Comic Sans MS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0">
              <a:lnSpc>
                <a:spcPct val="11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67480" indent="-26748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879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879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98440" indent="0">
              <a:lnSpc>
                <a:spcPct val="11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98440" indent="-298440">
              <a:lnSpc>
                <a:spcPct val="11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Matild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Matilda"/>
                <a:ea typeface="Segoe UI"/>
              </a:rPr>
              <a:t>23.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Matild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242C2-2978-4665-8298-7ACA8BF8F470}" type="slidenum">
              <a:rPr b="0" lang="ru-RU" sz="1800" spc="-1" strike="noStrike">
                <a:solidFill>
                  <a:srgbClr val="215968"/>
                </a:solidFill>
                <a:latin typeface="Matilda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Matild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Matilda"/>
                <a:ea typeface="Segoe UI"/>
              </a:rPr>
              <a:t>23.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215968"/>
                </a:solidFill>
                <a:latin typeface="Matild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C32C-4DC8-4875-B879-53FD6D7ACC7F}" type="slidenum">
              <a:rPr b="0" lang="ru-RU" sz="1800" spc="-1" strike="noStrike">
                <a:solidFill>
                  <a:srgbClr val="215968"/>
                </a:solidFill>
                <a:latin typeface="Matilda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17000"/>
              </a:lnSpc>
              <a:spcBef>
                <a:spcPts val="1137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7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7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117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3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303640" y="1282680"/>
            <a:ext cx="5256000" cy="2820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171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Вид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конструкторов 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44480" y="4200480"/>
            <a:ext cx="1955880" cy="2062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28000" y="503280"/>
            <a:ext cx="1525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000160" y="431640"/>
            <a:ext cx="2751120" cy="353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759280" y="1297080"/>
            <a:ext cx="2953080" cy="410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487520" y="4103640"/>
            <a:ext cx="4059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79640" y="503280"/>
            <a:ext cx="410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ЗАБАВНЫЕ ЛИПУ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144960" y="1871640"/>
            <a:ext cx="3551040" cy="2651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60720" y="4859280"/>
            <a:ext cx="5903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пкая лента разных цветов. Длинна каждой полоски 10 с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9640" y="5763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62040" y="50472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743280" y="23763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417680" y="4319640"/>
            <a:ext cx="2711520" cy="213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119640" y="4464000"/>
            <a:ext cx="2684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44720" y="720720"/>
            <a:ext cx="2685960" cy="2014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495760" y="3527280"/>
            <a:ext cx="307188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495760" y="64764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944720" y="3598920"/>
            <a:ext cx="28940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0000" y="3110040"/>
            <a:ext cx="3958920" cy="315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660680" y="952560"/>
            <a:ext cx="3377880" cy="171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626080" y="1152360"/>
            <a:ext cx="31575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2840" y="1584360"/>
            <a:ext cx="2117520" cy="2087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319640" y="1511280"/>
            <a:ext cx="2305080" cy="2122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200" y="58680"/>
            <a:ext cx="447696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 ИЗ ТРУБ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467000" y="4229280"/>
            <a:ext cx="1989000" cy="1674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128000" y="1414440"/>
            <a:ext cx="1501560" cy="2263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672000" y="3803760"/>
            <a:ext cx="2592360" cy="2676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6480000" y="3971880"/>
            <a:ext cx="230364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19280" y="268200"/>
            <a:ext cx="447696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 ИЗ КАР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84360" y="1728720"/>
            <a:ext cx="1914480" cy="2257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751280" y="1697040"/>
            <a:ext cx="2857680" cy="2048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489040" y="3992400"/>
            <a:ext cx="2838600" cy="2560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035760" y="3959280"/>
            <a:ext cx="217332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874960" y="287280"/>
            <a:ext cx="4613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 ИЗ ПАЛ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12720" y="2193840"/>
            <a:ext cx="2735280" cy="3638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751280" y="3959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824360" y="1587600"/>
            <a:ext cx="309564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74960" y="287280"/>
            <a:ext cx="4613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 ИЗ ГУ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35040" y="1693800"/>
            <a:ext cx="2433600" cy="2482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789200" y="4473720"/>
            <a:ext cx="1811160" cy="1933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767640" y="4059360"/>
            <a:ext cx="1976400" cy="2420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680000" y="1655640"/>
            <a:ext cx="3746520" cy="2032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4103640" y="3887640"/>
            <a:ext cx="1979640" cy="25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087640" y="1728720"/>
            <a:ext cx="6119640" cy="27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29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Спасибо </a:t>
            </a:r>
            <a:endParaRPr b="0" lang="en-US" sz="2400" spc="-1" strike="noStrike">
              <a:ln w="29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29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за</a:t>
            </a:r>
            <a:endParaRPr b="0" lang="en-US" sz="2400" spc="-1" strike="noStrike">
              <a:ln w="29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29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внимание</a:t>
            </a:r>
            <a:endParaRPr b="0" lang="en-US" sz="2400" spc="-1" strike="noStrike">
              <a:ln w="29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9640" y="250920"/>
            <a:ext cx="41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МОЗА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84720" y="17287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184720" y="41767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751040" y="4265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728720" y="180036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80000" y="4386240"/>
            <a:ext cx="2206800" cy="2021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60680" y="853920"/>
            <a:ext cx="1724040" cy="166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103640" y="1800360"/>
            <a:ext cx="1523880" cy="2552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191280" y="647640"/>
            <a:ext cx="2219400" cy="318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584360" y="3168720"/>
            <a:ext cx="213372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11280" y="56988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551640" y="3619440"/>
            <a:ext cx="2019240" cy="271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40360" y="581040"/>
            <a:ext cx="2552760" cy="273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71640" y="3652920"/>
            <a:ext cx="360036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8720" y="2286000"/>
            <a:ext cx="2193840" cy="304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483160" y="3633840"/>
            <a:ext cx="3227400" cy="277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368360" y="360360"/>
            <a:ext cx="1728720" cy="2809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408720" y="360360"/>
            <a:ext cx="229248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11280" y="503280"/>
            <a:ext cx="4842000" cy="2879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568680" y="3816360"/>
            <a:ext cx="49276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82920" y="216000"/>
            <a:ext cx="468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ЗНОЦВЕТНЫЕ ЛИПУ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35120" y="1457280"/>
            <a:ext cx="1749600" cy="182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048360" y="3743280"/>
            <a:ext cx="2646360" cy="264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384720" y="2160720"/>
            <a:ext cx="2519280" cy="2973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802480" y="1511280"/>
            <a:ext cx="2836800" cy="17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446120" y="4680000"/>
            <a:ext cx="251460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73040" y="431640"/>
            <a:ext cx="2370240" cy="3160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78360" y="1944720"/>
            <a:ext cx="1996920" cy="3174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354720" y="598320"/>
            <a:ext cx="2212920" cy="1705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11280" y="3876840"/>
            <a:ext cx="1440000" cy="253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264360" y="2735280"/>
            <a:ext cx="24480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79640" y="142920"/>
            <a:ext cx="41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ПРИСО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84360" y="1611360"/>
            <a:ext cx="2433600" cy="206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08720" y="3922560"/>
            <a:ext cx="2336760" cy="242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900840" y="1224000"/>
            <a:ext cx="1452600" cy="207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079880" y="1871640"/>
            <a:ext cx="2400120" cy="338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571760" y="4094280"/>
            <a:ext cx="2173320" cy="224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2:18:01Z</dcterms:created>
  <dc:creator>Фокина Лидия Петровна</dc:creator>
  <dc:description/>
  <cp:keywords>Шаблон презентации</cp:keywords>
  <dc:language>en-US</dc:language>
  <cp:lastModifiedBy/>
  <dcterms:modified xsi:type="dcterms:W3CDTF">2020-08-10T10:00:17Z</dcterms:modified>
  <cp:revision>88</cp:revision>
  <dc:subject/>
  <dc:title>Тетрадь на спира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