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98B-6BC5-4D1C-9CA6-60E6315D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4B5-CC59-4F5E-B625-7F02B956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9F2-ED85-46A7-857B-9D88F2F8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A7C-9B64-44ED-B3D1-3CB7B1A5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8999-721E-4679-B541-ADC8EE77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38AC-7D57-4190-8698-167C6BBB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0E95-0269-4537-B0CD-CECA9BD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D699-DEAD-44C7-8EC1-8446592A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BB58-4FDB-4C88-881C-FFD8FD52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BA2E-A4B9-48BC-9FC6-FB27519B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6DFB-65E9-4C81-8897-66ECA14C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1F5-0FC2-46B9-8DF8-A3AF8833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F843-3396-47C1-A3D5-FEE72E0F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C9D-9552-483B-9325-1662BDB6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7DCB-3BDF-4A0E-95A7-41F0D77D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4886-C32B-42CD-876D-A520692A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7826-0E7A-43B6-AE20-C0AAB739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AB96-98FF-42D2-818C-D5A3FD2F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299E-5C41-41A0-8820-2C6FB824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7D32-4B2A-4F94-B740-E402E19F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ED48-13B7-4A9B-89AD-06F7E6B9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A5DBD-37C6-492A-ABFD-4CE9ABE2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574-D98C-4D90-A01D-1861BB43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22D0-B358-4B5A-9181-6BB6F4A2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FC62-CFB5-4022-87F4-2BF4BDC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DFAE-BA94-4169-BDAF-9510757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3751-10A5-49A6-8829-4882621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765B-6155-4CE6-830E-08414F8E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7373-4A23-405F-A660-CF6E1A92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1C293-3F3F-44FA-9FEF-03DDDA31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90CE-6B91-401C-A752-A4C5C0FE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4BAF-B9AC-4175-88C4-4C836153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87FBD-42FB-408C-BDAD-B289F080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2F9-3AE9-4395-978C-355EF020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1113D-2A2B-49A0-9654-B94DFF8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B500-1F8F-419E-A5B5-152B8BA0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169F-16EF-490E-9984-06740446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EB2A-0F7C-4408-B236-37BB26C8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E3431-7E7A-4E51-810C-CE4899E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1389-E0E2-486C-8500-953C9B0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C195-9FF8-4A4F-B3AE-B6E06807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643F-94A1-44E9-AD5D-6EFF3274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0CD3-AEF0-4160-8509-E09B7F1A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D5A-4027-4239-9DF7-14C2CAB9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B71-356B-4D4F-A2B6-D305B820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0D0-AA5C-4A41-ACE5-09C3ED3C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AE2-D365-4E08-8559-C818A727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0F1-96B0-4F33-AFB5-5600FBE0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2209-30B0-4CE2-89C7-5A1AC07DCB1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F3E4-2123-4666-8BCA-4DF8DD4F222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7DD0-54DC-4A2E-9326-F5EF40B5BF7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7B94-5BA7-452E-B933-9737667C10C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840" y="-55800"/>
            <a:ext cx="8501040" cy="1384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лочки Кюизенера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средство развития математических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ностей у детей дошкольного возраста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6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2143080" y="1357200"/>
            <a:ext cx="45147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000680" y="2781000"/>
            <a:ext cx="51163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Палочки Кюизенера – это счетные палочки, которые еще называют «числа в цвете», цветными палочками, цветными числами, цветными линеечка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Для детей 3-9 ле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Заголовок 2" descr=""/>
          <p:cNvPicPr/>
          <p:nvPr/>
        </p:nvPicPr>
        <p:blipFill>
          <a:blip r:embed="rId1"/>
          <a:stretch/>
        </p:blipFill>
        <p:spPr>
          <a:xfrm>
            <a:off x="317520" y="66600"/>
            <a:ext cx="8674200" cy="193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Documents and Settings\Татьяна\Рабочий стол\Рисунок3.png"/>
          <p:cNvPicPr/>
          <p:nvPr/>
        </p:nvPicPr>
        <p:blipFill>
          <a:blip r:embed="rId2"/>
          <a:stretch/>
        </p:blipFill>
        <p:spPr>
          <a:xfrm>
            <a:off x="142920" y="2421000"/>
            <a:ext cx="38577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мплект состоит из 116 пластмассовых палочек, 10 разных цветов и разной длины. Наименьшая палочка имеет длину 1 см., и является кубиком.  Цифры от 1до 10, знаки действий, знаки отношений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388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став комплекта входят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бел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число 1 - 25 шту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Calibri"/>
              </a:rPr>
              <a:t>розов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число 2 - 20 шту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Calibri"/>
              </a:rPr>
              <a:t>голуб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число 3 - 16 шту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асн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о 4 - 12 шту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жёлт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о 5 - 10 шту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  <a:ea typeface="Calibri"/>
              </a:rPr>
              <a:t>фиолетов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о 6 - 9 штук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ёрн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о 7 - 8 шту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бордов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о 8 - 7 шту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иня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о 9 - 5 шту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Calibri"/>
              </a:rPr>
              <a:t>оранжев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о 10 - 4 штук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016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52280" y="549360"/>
            <a:ext cx="89726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ые упражнения с палочками Кюизенер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ветные коврики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глублять знания детей о составе числа из двух меньших чисел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Играем с цветом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звивать умение комбинировать цвет в рису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мерение с помощью палочки-мерки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чить детей измерять объекты. Ознакомить с условными мерками. Закреплять состав числа. Умение счита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полни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чить сравнивать рядом стоящие числ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Подбери цифру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мение соотносить количество предметов с цифро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ветные числа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закрепить счет в пределах 10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порядку становись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пражнять в прямом и обратном счете. Развивать умение находить место числу в числовом ря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где живет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мение выявлять наличие нескольких признаков цвета и величин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Составь число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знакомить детей с составом числа из единиц и двух меньших чисел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Больше - меньше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приучать употреблять в речи не цвет палочки, а число, которое оно обознача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дом для палочки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вершенствовать умение детей соотносить цветные числа с цифра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Конструирование цифр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звивать умение изображать цифру разными способа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395280" y="404640"/>
            <a:ext cx="82803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3260c"/>
                </a:solidFill>
                <a:latin typeface="Times New Roman"/>
              </a:rPr>
              <a:t>Ожидаемый  результ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лочек Кюизенер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местной и самостоятельной игровой деятельности, включение в учебно-образовательный процесс совершенствует процесс формирования элементарных математических представлений, повышает интерес детей к занятиям математикой, а также способствует развитию умственных способностей до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4T11:47:24Z</dcterms:created>
  <dc:creator>Артём</dc:creator>
  <dc:description/>
  <dc:language>en-US</dc:language>
  <cp:lastModifiedBy>ясли-сад</cp:lastModifiedBy>
  <dcterms:modified xsi:type="dcterms:W3CDTF">2018-12-05T13:13:41Z</dcterms:modified>
  <cp:revision>28</cp:revision>
  <dc:subject/>
  <dc:title>Палочки Кюизенера  как средство развития  математических способностей  у детей дошкольного возраста</dc:title>
</cp:coreProperties>
</file>