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852D-63F0-49AD-8C8C-C63F2F364F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4C0C-8683-4444-B415-C6EB7F67221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595-F3AD-463D-B4F0-1AF66AE7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4E9-9E90-42DC-908A-1ED3A5FE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ABA-58F9-4665-B569-AC08ADDF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CA0-0F50-4FC0-AFE9-7B313A73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E5F9-C368-4085-BB6E-61E9F439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82D0-EF68-4A53-A0CF-66A1A6DB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7066-4C24-4C7E-8DA3-E3AAB90E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3D67-D95F-4D19-B48C-0A194E83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F2D9-B4BC-4BB0-B092-17C1BF8B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4584-E50D-4C77-93E5-3398AC3E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7E2E-42CF-4F82-8BCE-9400AF14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0A8-B63F-49C9-8906-5F8A4D00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5A8E-3626-42D3-B9D9-4D30E5A5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3969-2E08-4984-9810-A81CE985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491F-009A-4760-BCCF-4AAE276A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AE7A-A50D-4968-A015-FFEEF67F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22E0-E1C3-4B5F-A7B6-84BC3DA4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ACE-C72D-423C-AE20-93CB5660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10B-F161-47B4-A747-339FBA02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2A3-82F0-4D7E-90E0-45E0F736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B7F-35D7-4AA8-B097-6A7F8C3B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4D7-F85F-4AB1-9ADF-50E64893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186-F197-4759-B8AB-16092E5D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D51-1BE6-4BC2-8FF8-48FD5C13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3175-FC77-4EF3-9647-A32FFCE44C0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D612-79FC-403A-ABFF-8D54A68E1D6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920000" cy="25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Лягушки на болоте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3988080"/>
            <a:ext cx="10775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Автор творческого проекта по макрам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педагог дополнительного образо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Ханина Татьяна Алексее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Выполнила проект инвалид 2 групп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Семилетова Ан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C:\Users\Олег\Pictures\Рисунок2.png"/>
          <p:cNvPicPr/>
          <p:nvPr/>
        </p:nvPicPr>
        <p:blipFill>
          <a:blip r:embed="rId1"/>
          <a:stretch/>
        </p:blipFill>
        <p:spPr>
          <a:xfrm>
            <a:off x="395280" y="4292640"/>
            <a:ext cx="308916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лан реализации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95280" y="1484280"/>
          <a:ext cx="8229600" cy="5113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Декабрь2015г-январь 2016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Составление плана работ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Составлен план рабо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Январь 2016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Выбор т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Панно «Лягушки на болоте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Январь 2016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Определение последовательности рабо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Определена последовательность рабо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Февраль-ма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2016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Выполнение технологических опер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Плетение изде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2016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Оформление основы пан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Оформленная  основа пан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Ма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2016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Эколого-экономическое обоснование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Дана эколого-экономическая оценка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Ма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2016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Сборка и окончательное оформление   пан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Окончательно оформленное издел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Март 2016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Защита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5856"/>
                          </a:solidFill>
                          <a:latin typeface="Verdana"/>
                          <a:ea typeface="Times New Roman"/>
                        </a:rPr>
                        <a:t>Защита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ерспекти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ется работа по накоплению методической базы данны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итература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nsportal.ru/nachalnaya-shkola/tekhnologiya/2013/02/12/uzelkovoe-pleten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 Макраме в интерьере: уютные детали/ Е.В. Кузьмина, Т. А. Кузьмина. – Ростов н/Д.: Феникс, 2006.- 146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Плетение из шпагата, шнура, бечёвки. Идеи для интерьера./ Т.О. Скребцова, Л.А. Данильченко. – Ростов н/Д.: Феникс, 2006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images1"/>
          <p:cNvPicPr/>
          <p:nvPr/>
        </p:nvPicPr>
        <p:blipFill>
          <a:blip r:embed="rId1"/>
          <a:stretch/>
        </p:blipFill>
        <p:spPr>
          <a:xfrm>
            <a:off x="2411280" y="1197000"/>
            <a:ext cx="4465800" cy="300024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3" descr=""/>
          <p:cNvPicPr/>
          <p:nvPr/>
        </p:nvPicPr>
        <p:blipFill>
          <a:blip r:embed="rId2"/>
          <a:stretch/>
        </p:blipFill>
        <p:spPr>
          <a:xfrm>
            <a:off x="2828880" y="4498920"/>
            <a:ext cx="499284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35880" cy="1268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«Лягушки на болоте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Picture 2" descr="H:\Портфолито фото\на рыжий кот\DSC_0040.JPG"/>
          <p:cNvPicPr/>
          <p:nvPr/>
        </p:nvPicPr>
        <p:blipFill>
          <a:blip r:embed="rId1"/>
          <a:stretch/>
        </p:blipFill>
        <p:spPr>
          <a:xfrm>
            <a:off x="3564000" y="1700280"/>
            <a:ext cx="5111640" cy="4805280"/>
          </a:xfrm>
          <a:prstGeom prst="rect">
            <a:avLst/>
          </a:prstGeom>
          <a:ln w="76320">
            <a:solidFill>
              <a:srgbClr val="005d74"/>
            </a:solidFill>
            <a:miter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3465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екоративное настенное панно. Очень оригинально оформленное. Легкое в исполнении и идеально подходит для оформления игровой комна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ннотация  проекта: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анный блок знаний имеет цель: формирование у детей и взрослых активной творческой деятельности, образного мышления и пространственного воображения, обеспечивает атмосферу творчества и сотрудничества в детском коллективе. В проекте представлены методические разработки занятий по плетению панно «Лягушки на болоте»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ние условий для освоения умений и навыков в изготовлении плетеных изделий в технике макраме, для детей и взрослых, обеспечивающих атмосферу творчества и сотрудничества в детском коллективе. Изготовить панно для игровой комнаты младшей группы детского сада в технике макрам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ополагающий вопрос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изделия, в стиле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краме, должны быть для интерьера игровой комнаты младшей группы детского садик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и проект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лечь взрослых в творческую деятельн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ировать такие черты, как трудолюбие, настойчивость и усидчив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ть планировать работу и доводить до конца начатое дело, развивать эстетический вкус и глазоме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блемные вопрос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м требованиям должна отвечать поделк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правила и требования по созданию поделки в технике макраме существуют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м заключается процесс создания поделки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Сбор и обработка информа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Выбор и анализ нескольких ид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Этапы и требования к выполнению подел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езультаты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50560" y="549360"/>
            <a:ext cx="88930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 освоена технолог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овательность изготовления панно, научились анализировать свою работу и одновременно использовать материалы различных вид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смело сказать, что, композиция  воплощенная в  изделии органично сочетается с современным интерьером игровой комнаты детского сад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13:06Z</dcterms:created>
  <dc:creator>user</dc:creator>
  <dc:description/>
  <dc:language>en-US</dc:language>
  <cp:lastModifiedBy>Олег</cp:lastModifiedBy>
  <dcterms:modified xsi:type="dcterms:W3CDTF">2020-08-10T17:23:29Z</dcterms:modified>
  <cp:revision>84</cp:revision>
  <dc:subject/>
  <dc:title>Это сеть муниципальных библиотек, включающая в себя Центральную городскую библиотеку              им. А.П.Чехова и 20 библиотек-филиалов, 6 из  которых – специализированные детские библиотеки.</dc:title>
</cp:coreProperties>
</file>