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E6C-AA09-4C23-9039-69CCA995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9F7-55C9-4AE0-9E0A-AD22116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942-B1A0-41A8-BCAF-15112525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E82-A0DA-4846-A283-C05115A6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2566-0260-4303-8CE1-27367B76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FAB-5B51-4FE9-8CAC-34795793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085D-7078-46ED-A834-B0B44346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D875-5EE1-4E9B-85BF-352752AE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92EE-D147-48FD-8734-906FDD54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957-03DB-4779-A59D-ECAF044F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9267-0999-415C-ADB3-89DBBFE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F69-3922-4A3A-9907-CD7A0047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413-B6BF-4DA1-8796-F6B8B27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305A-405F-415C-A277-8C5C5DF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561-61C3-4F10-A5F2-DE6BFEC8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F651-4FBB-4622-B27F-FE73C8AC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C49-9654-4F4F-AB35-93A7A511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799-ED3B-46B2-A13C-422198E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594-56A8-47D4-984B-78C808A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59B-ACCF-46A0-A299-F6C980CD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5C0-F76C-4CB3-A6C6-C09AF2D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AF5-FD8F-4BBF-AB11-AC96818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9B7-1AA3-4AB6-BABE-640B818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BE0-2847-44A4-B95C-13444031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04E0-558D-495B-918E-85C093889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7C1-D7AC-4BE0-8AE3-26403E7C2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обычные ц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бы сделать такие цветочки вам понадобитс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убочки для коктейля, ватные палочки, цветной пластилин, гуашь цветная, кисточка, в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897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атайте шарик из пластилина любого цв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441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ежьте ватные палочки пополам и втыкайте их в шарик в хаотичном порядке ( чем больше палочек тем пышнее получится цветоче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51476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таким образ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делайте несколько таких шариков «бутонов». Получится целый бук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5147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товые « бутоны» воткните в трубочки для коктей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58640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надо сделать листь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атайте колбаску из пластилина и расплющьте ее в форме листа. Прилепите лист к стеблю( трубочк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51476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расьте кончики красками. Поставьте ваши цветы в стаканчик или вазу. У вас получился замечательный и оригинальный букет цвето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514760" cy="385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6:14:00Z</dcterms:created>
  <dc:creator>Admin</dc:creator>
  <dc:description/>
  <dc:language>en-US</dc:language>
  <cp:lastModifiedBy>Admin</cp:lastModifiedBy>
  <dcterms:modified xsi:type="dcterms:W3CDTF">2013-04-05T06:53:06Z</dcterms:modified>
  <cp:revision>2</cp:revision>
  <dc:subject/>
  <dc:title>       Необычные цветы</dc:title>
</cp:coreProperties>
</file>