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CD15-8E8B-419F-A2BE-B6167B176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C52B-0246-4661-A6E2-29C872A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BE11-FBF4-4BDF-BF14-F468D64A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D53D-C66D-4CC6-A688-333A8D6230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E2B55-7E93-48F8-A841-07EB0FB612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F2DCE-4B45-4C2C-BC96-FE418BE4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6ABCD-8A19-48B8-9A77-B835C820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9B5B8-0157-4A04-AB7D-BD9CBF91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177F6-D715-43BC-B4F3-B9DC6855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1040" y="533160"/>
            <a:ext cx="780588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62C81-1B6B-4031-A4AC-805A4A9D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53BB1-709B-43CA-B54D-1A61856C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8DBD-37D1-4E9A-B7E9-835C759A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3D460-A191-4592-ABB9-28EF7174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26B28-AF63-4CB6-9A2F-37278FE4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93155-93FA-415B-9117-AA12D567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55F59-354E-460F-90AC-40A5BCE8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3E5C3-79CA-4A04-B33C-E3168F9F6E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9162-70CA-4A1D-AA86-3C8649A55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8B9B-9CEE-46C2-93FA-CF48DD60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22D2-D11B-45C5-B361-C5D963ED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3AF3-A96C-40BD-A8C3-66745195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F300-6685-4B2D-B155-8BAB98FA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199E-3ACD-4DFD-83AE-5D99B2BD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1040" y="533160"/>
            <a:ext cx="780588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6AEF-2E41-43F0-BE25-49374B1B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842E-4785-4AE9-B355-54A4377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F17A-F208-4C91-8280-1CDA243E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64C5-7158-4893-BEEC-4C6A0139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29B1-F95B-478E-B658-FD92409D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6F32-4059-4C24-9429-BFC726E1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7CA4-E0AF-46FE-89A7-D0005E2160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9BF29-BBE0-4469-AE7A-1B82D029A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31B65-A709-4E58-AE77-21072275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39ADD-2D68-476F-A985-FF8735B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349D-A70C-4E63-AFD2-74931636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EF9CA-493D-4B8A-ABCA-55D426C5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25308-660D-4120-8AC1-4DFB2001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71040" y="533160"/>
            <a:ext cx="780588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F67BD-CD51-404D-B19C-4AF444B2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C4AE0A-03D2-48C3-B9D2-4C14D066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70557-E6AE-4D74-B4C8-175BA3E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8115C-E370-4770-BA15-3BA2ADC9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4079E-440A-405E-9D3D-88AD9828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EE833-F266-45F7-AB08-CA74BB5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76A73-2CDD-4613-ABD5-1D21E3C43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2AF7-B8A6-4042-8BD8-CF5C5288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71040" y="533160"/>
            <a:ext cx="780588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533160"/>
            <a:ext cx="780588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1AAF-8DA1-48A8-984D-9BF57062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0C33-1190-4704-98D0-4C19291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FB41-84CA-4BE0-9F3C-E56EEA5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0286-A9F6-4CC0-9971-933A7A9D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433520"/>
            <a:ext cx="830268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9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9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.12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4A08-F231-4F61-A9EA-8CCE14AA91B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6840" y="1523880"/>
            <a:ext cx="82263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rPr>
              <a:t>19.12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6837E2-0847-4B41-A4CF-CF0083319E19}" type="slidenum">
              <a: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rPr>
              <a:t>19.12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72646D-074B-4EBC-B6C8-5E918A571111}" type="slidenum">
              <a: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456840" y="1523520"/>
            <a:ext cx="405612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Четвё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d6903e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  <a:ea typeface="Microsoft YaHe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b37934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Третий уровен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d6903e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37"/>
              </a:spcBef>
              <a:spcAft>
                <a:spcPts val="1426"/>
              </a:spcAft>
              <a:buClr>
                <a:srgbClr val="d6903e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Num" idx="7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623E38-95BE-4B85-B92D-49F663CC7C87}" type="slidenum">
              <a: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Lucida Sans Unicode"/>
              </a:rPr>
              <a:t>19.12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457200" y="-33931080"/>
            <a:ext cx="4037040" cy="3609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Четвё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d6903e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  <a:ea typeface="Microsoft YaHe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b37934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Третий уровен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d6903e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37"/>
              </a:spcBef>
              <a:spcAft>
                <a:spcPts val="1426"/>
              </a:spcAft>
              <a:buClr>
                <a:srgbClr val="d6903e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Четвё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d6903e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  <a:ea typeface="Microsoft YaHe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b37934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Третий уровен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d6903e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37"/>
              </a:spcBef>
              <a:spcAft>
                <a:spcPts val="1426"/>
              </a:spcAft>
              <a:buClr>
                <a:srgbClr val="d6903e"/>
              </a:buClr>
              <a:buSzPct val="85000"/>
              <a:buFont typeface="Wingdings 2" charset="2"/>
              <a:buChar char="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6840" y="1555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400040"/>
            <a:ext cx="403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  <a:ea typeface="Microsoft YaHei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  <a:ea typeface="Microsoft YaHei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  <a:ea typeface="Microsoft YaHei"/>
              </a:rPr>
              <a:t>Четвё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  <a:ea typeface="Microsoft YaHei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  <a:ea typeface="Microsoft YaHei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  <a:ea typeface="Microsoft YaHei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  <a:ea typeface="Microsoft YaHei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1960" y="2179800"/>
            <a:ext cx="3749760" cy="1440"/>
          </a:xfrm>
          <a:prstGeom prst="line">
            <a:avLst/>
          </a:prstGeom>
          <a:ln w="12600">
            <a:solidFill>
              <a:srgbClr val="e8e9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9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4735440" cy="923760"/>
          </a:xfrm>
          <a:custGeom>
            <a:avLst/>
            <a:gdLst/>
            <a:ahLst/>
            <a:rect l="l" t="t" r="r" b="b"/>
            <a:pathLst>
              <a:path w="13152" h="2565">
                <a:moveTo>
                  <a:pt x="0" y="0"/>
                </a:moveTo>
                <a:lnTo>
                  <a:pt x="0" y="1121"/>
                </a:lnTo>
                <a:lnTo>
                  <a:pt x="641" y="1479"/>
                </a:lnTo>
                <a:lnTo>
                  <a:pt x="1276" y="1755"/>
                </a:lnTo>
                <a:lnTo>
                  <a:pt x="1957" y="1992"/>
                </a:lnTo>
                <a:lnTo>
                  <a:pt x="2670" y="2193"/>
                </a:lnTo>
                <a:lnTo>
                  <a:pt x="3417" y="2352"/>
                </a:lnTo>
                <a:lnTo>
                  <a:pt x="4196" y="2468"/>
                </a:lnTo>
                <a:lnTo>
                  <a:pt x="4999" y="2540"/>
                </a:lnTo>
                <a:lnTo>
                  <a:pt x="5821" y="2564"/>
                </a:lnTo>
                <a:lnTo>
                  <a:pt x="6649" y="2540"/>
                </a:lnTo>
                <a:lnTo>
                  <a:pt x="7452" y="2468"/>
                </a:lnTo>
                <a:lnTo>
                  <a:pt x="8230" y="2352"/>
                </a:lnTo>
                <a:lnTo>
                  <a:pt x="8976" y="2193"/>
                </a:lnTo>
                <a:lnTo>
                  <a:pt x="9692" y="1993"/>
                </a:lnTo>
                <a:lnTo>
                  <a:pt x="10371" y="1755"/>
                </a:lnTo>
                <a:lnTo>
                  <a:pt x="11009" y="1479"/>
                </a:lnTo>
                <a:lnTo>
                  <a:pt x="11601" y="1172"/>
                </a:lnTo>
                <a:lnTo>
                  <a:pt x="12149" y="834"/>
                </a:lnTo>
                <a:lnTo>
                  <a:pt x="12646" y="465"/>
                </a:lnTo>
                <a:lnTo>
                  <a:pt x="13089" y="70"/>
                </a:lnTo>
                <a:lnTo>
                  <a:pt x="13151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900680"/>
            <a:ext cx="9144000" cy="1957320"/>
          </a:xfrm>
          <a:prstGeom prst="roundRect">
            <a:avLst>
              <a:gd name="adj" fmla="val 7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0240" y="5859360"/>
            <a:ext cx="4753080" cy="1000080"/>
          </a:xfrm>
          <a:custGeom>
            <a:avLst/>
            <a:gdLst/>
            <a:ahLst/>
            <a:rect l="l" t="t" r="r" b="b"/>
            <a:pathLst>
              <a:path w="13204" h="2776">
                <a:moveTo>
                  <a:pt x="84" y="2775"/>
                </a:moveTo>
                <a:lnTo>
                  <a:pt x="84" y="1907"/>
                </a:lnTo>
                <a:lnTo>
                  <a:pt x="0" y="1873"/>
                </a:lnTo>
                <a:lnTo>
                  <a:pt x="532" y="1505"/>
                </a:lnTo>
                <a:lnTo>
                  <a:pt x="1106" y="1171"/>
                </a:lnTo>
                <a:lnTo>
                  <a:pt x="1722" y="874"/>
                </a:lnTo>
                <a:lnTo>
                  <a:pt x="2377" y="617"/>
                </a:lnTo>
                <a:lnTo>
                  <a:pt x="3069" y="400"/>
                </a:lnTo>
                <a:lnTo>
                  <a:pt x="3792" y="229"/>
                </a:lnTo>
                <a:lnTo>
                  <a:pt x="4543" y="102"/>
                </a:lnTo>
                <a:lnTo>
                  <a:pt x="5319" y="26"/>
                </a:lnTo>
                <a:lnTo>
                  <a:pt x="6119" y="0"/>
                </a:lnTo>
                <a:lnTo>
                  <a:pt x="6917" y="26"/>
                </a:lnTo>
                <a:lnTo>
                  <a:pt x="7692" y="102"/>
                </a:lnTo>
                <a:lnTo>
                  <a:pt x="8444" y="229"/>
                </a:lnTo>
                <a:lnTo>
                  <a:pt x="9166" y="400"/>
                </a:lnTo>
                <a:lnTo>
                  <a:pt x="9859" y="617"/>
                </a:lnTo>
                <a:lnTo>
                  <a:pt x="10514" y="874"/>
                </a:lnTo>
                <a:lnTo>
                  <a:pt x="11130" y="1171"/>
                </a:lnTo>
                <a:lnTo>
                  <a:pt x="11704" y="1505"/>
                </a:lnTo>
                <a:lnTo>
                  <a:pt x="12235" y="1873"/>
                </a:lnTo>
                <a:lnTo>
                  <a:pt x="12716" y="2271"/>
                </a:lnTo>
                <a:lnTo>
                  <a:pt x="13144" y="2700"/>
                </a:lnTo>
                <a:lnTo>
                  <a:pt x="13203" y="2775"/>
                </a:lnTo>
                <a:lnTo>
                  <a:pt x="84" y="2775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71040" y="533160"/>
            <a:ext cx="7805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1640" algn="r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1640" algn="r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1640" algn="r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1640" algn="r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34800" y="1079280"/>
            <a:ext cx="83059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Constantia"/>
              </a:rPr>
              <a:t>Экологические проблемы Курской области</a:t>
            </a:r>
            <a:r>
              <a:rPr b="0" lang="ru-RU" sz="42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ＭＳ Ｐ明朝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Значительная часть земель изымается из хозяйственного использования в результате развития горнодобывающей промышленности.  Площадь нарушенных земель в области составляет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18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тыс.га. из них более 6 тыс.га — паш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Так, на несмытых чернозёмах пашни содержание гумуса в метровом слое уменьшилось на 20-30%, на среднесмытых — на 45-50% по сравнению с почвами целинной степ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Состояние плодородных почв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9280" y="1079640"/>
            <a:ext cx="88203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ＭＳ Ｐ明朝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Черноземы славятся своим плодородием. Они содержат значительное количество гумуса (до 8-9% под естественной степной растительностью и 4,5-6,5% на пашне), соединений азота, калия, кальция, фосфора, имеют благоприятную для произрастания растений слабокислую или близкую к нейтральной реакцию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Почвенный покров области в значительной степени подвержен эрозии. Развитию эрозионных процессов в значительной степени способствуют широкое распространение склонов различной крутизны, рыхлые породы, слагающие территорию, ливневый характер выпадения осадков, быстрое таяние сне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ＭＳ Ｐ明朝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3600"/>
            </a:br>
            <a:r>
              <a:rPr b="0" lang="ru-RU" sz="4400" spc="-1" strike="noStrike">
                <a:solidFill>
                  <a:srgbClr val="dbdbdb"/>
                </a:solidFill>
                <a:latin typeface="Constantia"/>
              </a:rPr>
              <a:t> </a:t>
            </a:r>
            <a:br>
              <a:rPr sz="4400"/>
            </a:br>
            <a:br>
              <a:rPr sz="4200"/>
            </a:b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960" y="73080"/>
            <a:ext cx="79246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Неправильная обработка поч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1260360"/>
            <a:ext cx="822960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аша область обладает значительными запасами и разнообразием лекарственных растений и задача заключается в том, чтобы эти запасы использовались рационально. В области разработан режим заготовок лекарственных растений по административным район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еурегулированный сбор лекарственных растений  приводит к их исчезновен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 настоящее время на территории области около 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  <a:ea typeface="ＭＳ Ｐ明朝"/>
              </a:rPr>
              <a:t>200 вид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флоры являются редкими, более 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  <a:ea typeface="ＭＳ Ｐ明朝"/>
              </a:rPr>
              <a:t>60 видов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— охраняемы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1120" y="-540000"/>
            <a:ext cx="8229600" cy="31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100"/>
            </a:br>
            <a:br>
              <a:rPr sz="3100"/>
            </a:br>
            <a:r>
              <a:rPr b="0" lang="ru-RU" sz="3100" spc="-1" strike="noStrike">
                <a:solidFill>
                  <a:srgbClr val="c00000"/>
                </a:solidFill>
                <a:latin typeface="Constantia"/>
              </a:rPr>
              <a:t>Проблема №4</a:t>
            </a:r>
            <a:br>
              <a:rPr sz="3100"/>
            </a:b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Нерациональное использование природных ресурсов</a:t>
            </a:r>
            <a:br>
              <a:rPr sz="4400"/>
            </a:b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1400040"/>
            <a:ext cx="404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5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  <a:ea typeface="ＭＳ Ｐ明朝"/>
              </a:rPr>
              <a:t>Редкие лекарственные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1400040"/>
            <a:ext cx="403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525920" y="1347840"/>
            <a:ext cx="1957320" cy="2614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76360" y="4191120"/>
            <a:ext cx="3309840" cy="1828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6483240" y="3962520"/>
            <a:ext cx="2430720" cy="2766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1240" y="3733920"/>
            <a:ext cx="3086280" cy="457200"/>
          </a:xfrm>
          <a:prstGeom prst="rect">
            <a:avLst/>
          </a:prstGeom>
          <a:solidFill>
            <a:srgbClr val="a5b592"/>
          </a:solidFill>
          <a:ln w="38160">
            <a:solidFill>
              <a:srgbClr val="7a85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анды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1240" y="6215040"/>
            <a:ext cx="2860920" cy="514440"/>
          </a:xfrm>
          <a:prstGeom prst="rect">
            <a:avLst/>
          </a:prstGeom>
          <a:solidFill>
            <a:srgbClr val="a5b592"/>
          </a:solidFill>
          <a:ln w="38160">
            <a:solidFill>
              <a:srgbClr val="7a85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Шалф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83240" y="3048120"/>
            <a:ext cx="2659320" cy="757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a85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алериана лек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6321600"/>
            <a:ext cx="2667240" cy="536400"/>
          </a:xfrm>
          <a:prstGeom prst="rect">
            <a:avLst/>
          </a:prstGeom>
          <a:solidFill>
            <a:srgbClr val="a5b592"/>
          </a:solidFill>
          <a:ln w="38160">
            <a:solidFill>
              <a:srgbClr val="7a85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ван ч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 Курской области из 57 видов млекопитающих диких животных большой интерес представляют лоси, косули, кабаны, европейские олени, бобры, барсуки.  Они в прошлом были широко распространены, служили объектом охоты и почти были истреблены браконьерским способом чело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ЖИВОТНЫЙ МИР ЛЕСОВ</a:t>
            </a:r>
            <a:r>
              <a:rPr b="0" lang="ru-RU" sz="4200" spc="-1" strike="noStrike">
                <a:solidFill>
                  <a:srgbClr val="dbdbdb"/>
                </a:solidFill>
                <a:latin typeface="Constantia"/>
              </a:rPr>
              <a:t>: </a:t>
            </a: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3084480" cy="2038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638680" y="401940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3808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  <a:ea typeface="ＭＳ Ｐ明朝"/>
              </a:rPr>
              <a:t>...Родная земля — самое великолеп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  <a:ea typeface="ＭＳ Ｐ明朝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  <a:ea typeface="ＭＳ Ｐ明朝"/>
              </a:rPr>
              <a:t>что нам дано для жиз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  <a:ea typeface="ＭＳ Ｐ明朝"/>
              </a:rPr>
              <a:t>Её мы должны возделывать, беречь и охранять всеми силами своего су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ＭＳ Ｐ明朝"/>
              </a:rPr>
              <a:t>                                                     </a:t>
            </a:r>
            <a:r>
              <a:rPr b="1" lang="ru-RU" sz="3600" spc="-1" strike="noStrike">
                <a:solidFill>
                  <a:srgbClr val="7c354d"/>
                </a:solidFill>
                <a:latin typeface="Constantia"/>
                <a:ea typeface="ＭＳ Ｐ明朝"/>
              </a:rPr>
              <a:t>К. Пауст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040" y="533520"/>
            <a:ext cx="78073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51960" y="12600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6e6ff"/>
                </a:solidFill>
                <a:latin typeface="Times New Roman"/>
              </a:rPr>
              <a:t>Спасибо за просмотр! </a:t>
            </a:r>
            <a:endParaRPr b="0" lang="en-US" sz="5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182880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Одна из главных идей Стратегии экономического и социального развития области на период до 2020 года - природные ресурсы области должны служить обеспечению благоприятной экологической обстановки на территории обл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Государственная программа  Курской области в сфере  природопользования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11120" y="152100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сохранение, расширение и рациональное использование месторождений полезных ископаем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рационализация водо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снижение антропогенной нагрузки и загрязнения водных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улучшение качества окружающе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формирование экологической культуры, развитие экологического образования и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организация эффективно работающей системы охраны объектов животного мира, государственного контроля и надзора за их использова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Основные приоритеты государственной политики Курской области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Добыча полезных ископае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ырубка л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еправильная обработка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ерациональное использование природных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Constantia"/>
              </a:rPr>
              <a:t>Проблемы в использовании природных ресурсов</a:t>
            </a:r>
            <a:endParaRPr b="0" lang="en-US" sz="4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роблема</a:t>
            </a:r>
            <a:r>
              <a:rPr b="1" lang="ru-RU" sz="4200" spc="-1" strike="noStrike">
                <a:solidFill>
                  <a:srgbClr val="dbdbdb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№1</a:t>
            </a:r>
            <a:br>
              <a:rPr sz="2800"/>
            </a:b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Добыча полезных ископаемых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тивная эксплуатация месторождений полезных ископаемых, таких, как Курская магнитная аномалия (КМА), добыча различных стройматериалов(песок, мел) значительно ухудшает окружающую среду. 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гантские карьеры и отвалы создают весьма безрадостный промышленный ландшафт. Часто такие ландшафты называют «лунными». Использовать их практически невозможно. 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90760" y="5638680"/>
            <a:ext cx="451620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e6e6ff"/>
              </a:solidFill>
              <a:latin typeface="Times New Roman"/>
              <a:ea typeface="ＭＳ Ｐ明朝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nstantia"/>
              </a:rPr>
              <a:t>Добыча руды открытым способом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6896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64832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219560" y="2895480"/>
            <a:ext cx="483876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Constantia"/>
              </a:rPr>
              <a:t>Проблема №2 </a:t>
            </a:r>
            <a:br>
              <a:rPr sz="3600"/>
            </a:b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Вырубка лесов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5007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еса играют важную роль в природе и в жизни человека. Они являются своеобразными хранилищами воды. Почва под лесом в 3-4 раза больше впитывает воды. чем распаханная. В лесу лучше задерживается снег, поэтому слабее промерзает почва. Здесь меньше скорость ветра и испарение, более многоводны реки. 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e6e6ff"/>
              </a:solidFill>
              <a:latin typeface="Times New Roman"/>
              <a:ea typeface="ＭＳ Ｐ明朝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257800" y="1327320"/>
            <a:ext cx="3759120" cy="2819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72000" y="4124160"/>
            <a:ext cx="328932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0280" y="174240"/>
            <a:ext cx="4059360" cy="66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рубка леса, распашка задернованных склонов, низкая агротехника вызывают  ускорение эрозии почв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рубка лесов приводит к быстрому  таянию снега, бурным весенним паводкам, обмелению рек. Лес защищает почву от смыва и выдувания, уменьшает вредное влияние засухи, смягчает климат. 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176720" y="3575160"/>
            <a:ext cx="4967280" cy="3281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64832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280" y="900000"/>
            <a:ext cx="8820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ＭＳ Ｐ明朝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 области имеется около 600 тыс.га земель, нуждающихся в защите от эрозии. Всероссийский научно-исследовательский институт земледелия и защиты почв от эрозии, расположенный в Курске, разработал «Генеральную схему противоэрозионных мероприятий». Предусматривается це­лый комплекс мер борьбы с эрозией: агротехнические (противоэрозионная обработка почвы, высокая агротехника), фитомелиоративные (залужение крутых склонов, лесополосы) и гидротехнические (водозадерживающие валы, плетневые запруды и др.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Проблема №3</a:t>
            </a:r>
            <a:br>
              <a:rPr sz="2800"/>
            </a:b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Состояние плодородных почв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12-19T17:28:58Z</dcterms:modified>
  <cp:revision>0</cp:revision>
  <dc:subject/>
  <dc:title/>
</cp:coreProperties>
</file>