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8A30-EEF5-4E25-B21C-2A82F3CD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D5F-DC2A-41EB-BCA5-31F72ADE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7ED3-25CA-44AF-9398-02F1E1C2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248-4BC5-41A5-A1C4-7D7202B6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60C7-391B-4A43-8832-0DC99327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0EC-3FC4-406D-99FA-7D992660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04C-E7B6-445C-A8E7-A8540CF0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A61-A476-4DB7-A222-0EC4D6B8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57F-5104-4A0B-ADDA-78FFFC70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559-AD0B-4BA4-AE3E-53E23C9A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95E-CFCC-4240-80EA-073D16D1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90B-50CF-4AE7-B63E-91EDF7A5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C0F1-403E-444F-8AAC-DC552C72C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МОЙ ГОРОД-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САНКТ-ПЕТЕРБУР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65000"/>
            <a:ext cx="640080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6553080" cy="35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ff3399"/>
                </a:solidFill>
                <a:latin typeface="Comic Sans MS"/>
              </a:rPr>
              <a:t>Считалочка </a:t>
            </a:r>
            <a:r>
              <a:rPr b="1" i="1" lang="ru-RU" sz="2000" spc="-1" strike="noStrike">
                <a:solidFill>
                  <a:srgbClr val="ff3399"/>
                </a:solidFill>
                <a:latin typeface="Comic Sans MS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Comic Sans MS"/>
              </a:rPr>
              <a:t>Люблю по городу гулять,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Comic Sans MS"/>
              </a:rPr>
              <a:t>Люблю смотреть, люблю считать.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Comic Sans MS"/>
              </a:rPr>
              <a:t>Невский – раз, Зимний – два,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Comic Sans MS"/>
              </a:rPr>
              <a:t>Три – красавица Нева,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Comic Sans MS"/>
              </a:rPr>
              <a:t>А четыре – мост Дворцовый,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Comic Sans MS"/>
              </a:rPr>
              <a:t>Пять – гуляю по Садовой,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Comic Sans MS"/>
              </a:rPr>
              <a:t>Шесть – к Исаакию схожу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Comic Sans MS"/>
              </a:rPr>
              <a:t>И на купол погляжу.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Comic Sans MS"/>
              </a:rPr>
              <a:t>Семь – конечно, Летний сад,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Comic Sans MS"/>
              </a:rPr>
              <a:t>Как красив его наряд.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Comic Sans MS"/>
              </a:rPr>
              <a:t>Восемь – крепость у Невы,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Comic Sans MS"/>
              </a:rPr>
              <a:t>были там, наверно, вы.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Comic Sans MS"/>
              </a:rPr>
              <a:t>Девять – повстречался мне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Comic Sans MS"/>
              </a:rPr>
              <a:t>Медный всадник на коне.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Comic Sans MS"/>
              </a:rPr>
              <a:t>Десять – из-за поворота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Comic Sans MS"/>
              </a:rPr>
              <a:t>Вижу Нарвские вор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Вот памятник царю Петру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И царскому коню,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Фотографируют его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По двести раз на дн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Царь много славных дел свершил,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А конь неоднократно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Его на подвиги возил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И привозил обратно. </a:t>
            </a:r>
            <a:br>
              <a:rPr sz="2000"/>
            </a:br>
            <a:r>
              <a:rPr b="1" i="1" lang="en-US" sz="2000" spc="-1" strike="noStrike">
                <a:solidFill>
                  <a:srgbClr val="003399"/>
                </a:solidFill>
                <a:latin typeface="Comic Sans MS"/>
              </a:rPr>
              <a:t>(М.Борис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4251240" cy="4464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Медный вса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1143000"/>
            <a:ext cx="734544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Дворцовая площадь и Эрмита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Зимний дворец у Невы, посмотри!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Жили когда-то в нем наши цари.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Ну а сейчас в нём огромный музей.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Здесь – "Эрмитаж", гордость Родины всей.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(Ю. Юд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454644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Казанский со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777080" cy="40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Река Не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У красавицы Невы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Ожерелье из листвы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Из гранитов самых лучших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Сшито платье на века.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Но совсем не белоручка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Знаменитая река: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Баржи, лодки, пароходы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На себе несет Нева.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И в трубе водопроводной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Тоже плещется Нева.</a:t>
            </a:r>
            <a:br>
              <a:rPr sz="2000"/>
            </a:br>
            <a:r>
              <a:rPr b="1" i="1" lang="en-US" sz="2000" spc="-1" strike="noStrike">
                <a:solidFill>
                  <a:srgbClr val="003399"/>
                </a:solidFill>
                <a:latin typeface="Comic Sans MS"/>
              </a:rPr>
              <a:t>(М. Борисова)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330800" cy="37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Крейсер Авр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90520" y="1595520"/>
            <a:ext cx="6981840" cy="43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Comic Sans MS"/>
              </a:rPr>
              <a:t>Адмиралтейст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Маленький кораблик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городе огромном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небе над Невою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инем и просторном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Маленький кораблик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ысоко плывёт –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Это символ города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Здесь рождался флот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(С. Скаченков)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9400" y="1268280"/>
            <a:ext cx="386388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7774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07:10:27Z</dcterms:created>
  <dc:creator>User</dc:creator>
  <dc:description/>
  <dc:language>en-US</dc:language>
  <cp:lastModifiedBy>User</cp:lastModifiedBy>
  <dcterms:modified xsi:type="dcterms:W3CDTF">2014-05-29T18:44:36Z</dcterms:modified>
  <cp:revision>2</cp:revision>
  <dc:subject/>
  <dc:title>МОЙ ГОРОД- САНКТ-ПЕТЕРБУРГ</dc:title>
</cp:coreProperties>
</file>