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4.jpeg" ContentType="image/jpeg"/>
  <Override PartName="/ppt/media/image1.wmf" ContentType="image/x-wmf"/>
  <Override PartName="/ppt/media/image2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41240" y="577440"/>
            <a:ext cx="859968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599680" cy="2268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741240" y="4585680"/>
            <a:ext cx="8599680" cy="2268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41240" y="577440"/>
            <a:ext cx="859968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4196520" cy="2268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48000" y="2101680"/>
            <a:ext cx="4196520" cy="2268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41240" y="4585680"/>
            <a:ext cx="4196520" cy="2268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48000" y="4585680"/>
            <a:ext cx="4196520" cy="2268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41240" y="577440"/>
            <a:ext cx="859968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2768760" cy="2268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48960" y="2101680"/>
            <a:ext cx="2768760" cy="2268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56320" y="2101680"/>
            <a:ext cx="2768760" cy="2268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741240" y="4585680"/>
            <a:ext cx="2768760" cy="2268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648960" y="4585680"/>
            <a:ext cx="2768760" cy="2268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556320" y="4585680"/>
            <a:ext cx="2768760" cy="2268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41240" y="577440"/>
            <a:ext cx="859968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741240" y="2101680"/>
            <a:ext cx="8599680" cy="475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41240" y="577440"/>
            <a:ext cx="859968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599680" cy="47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1240" y="577440"/>
            <a:ext cx="859968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4196520" cy="47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148000" y="2101680"/>
            <a:ext cx="4196520" cy="47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1240" y="577440"/>
            <a:ext cx="859968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741240" y="577440"/>
            <a:ext cx="8599680" cy="63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1240" y="577440"/>
            <a:ext cx="859968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4196520" cy="2268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48000" y="2101680"/>
            <a:ext cx="4196520" cy="47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741240" y="4585680"/>
            <a:ext cx="4196520" cy="2268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41240" y="577440"/>
            <a:ext cx="859968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741240" y="2101680"/>
            <a:ext cx="8599680" cy="475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41240" y="577440"/>
            <a:ext cx="859968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4196520" cy="47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48000" y="2101680"/>
            <a:ext cx="4196520" cy="2268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148000" y="4585680"/>
            <a:ext cx="4196520" cy="2268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41240" y="577440"/>
            <a:ext cx="859968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4196520" cy="2268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48000" y="2101680"/>
            <a:ext cx="4196520" cy="2268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41240" y="4585680"/>
            <a:ext cx="8599680" cy="2268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41240" y="577440"/>
            <a:ext cx="859968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599680" cy="2268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741240" y="4585680"/>
            <a:ext cx="8599680" cy="2268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1240" y="577440"/>
            <a:ext cx="859968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4196520" cy="2268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48000" y="2101680"/>
            <a:ext cx="4196520" cy="2268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41240" y="4585680"/>
            <a:ext cx="4196520" cy="2268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148000" y="4585680"/>
            <a:ext cx="4196520" cy="2268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41240" y="577440"/>
            <a:ext cx="859968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2768760" cy="2268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648960" y="2101680"/>
            <a:ext cx="2768760" cy="2268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556320" y="2101680"/>
            <a:ext cx="2768760" cy="2268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741240" y="4585680"/>
            <a:ext cx="2768760" cy="2268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648960" y="4585680"/>
            <a:ext cx="2768760" cy="2268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556320" y="4585680"/>
            <a:ext cx="2768760" cy="2268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1240" y="577440"/>
            <a:ext cx="859968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599680" cy="47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1240" y="577440"/>
            <a:ext cx="859968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4196520" cy="47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48000" y="2101680"/>
            <a:ext cx="4196520" cy="47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41240" y="577440"/>
            <a:ext cx="859968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41240" y="577440"/>
            <a:ext cx="8599680" cy="63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1240" y="577440"/>
            <a:ext cx="859968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4196520" cy="2268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48000" y="2101680"/>
            <a:ext cx="4196520" cy="47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741240" y="4585680"/>
            <a:ext cx="4196520" cy="2268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1240" y="577440"/>
            <a:ext cx="859968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4196520" cy="47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48000" y="2101680"/>
            <a:ext cx="4196520" cy="2268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48000" y="4585680"/>
            <a:ext cx="4196520" cy="2268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41240" y="577440"/>
            <a:ext cx="859968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4196520" cy="2268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48000" y="2101680"/>
            <a:ext cx="4196520" cy="2268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41240" y="4585680"/>
            <a:ext cx="8599680" cy="2268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1240" y="117360"/>
            <a:ext cx="859968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e6e6e6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89000" y="2223720"/>
            <a:ext cx="846936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937640" y="6251400"/>
            <a:ext cx="1968480" cy="1057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0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5219640" cy="1017720"/>
          </a:xfrm>
          <a:custGeom>
            <a:avLst/>
            <a:gdLst/>
            <a:ahLst/>
            <a:rect l="l" t="t" r="r" b="b"/>
            <a:pathLst>
              <a:path w="14498" h="2828">
                <a:moveTo>
                  <a:pt x="0" y="0"/>
                </a:moveTo>
                <a:lnTo>
                  <a:pt x="0" y="1236"/>
                </a:lnTo>
                <a:lnTo>
                  <a:pt x="706" y="1631"/>
                </a:lnTo>
                <a:lnTo>
                  <a:pt x="1407" y="1935"/>
                </a:lnTo>
                <a:lnTo>
                  <a:pt x="2157" y="2197"/>
                </a:lnTo>
                <a:lnTo>
                  <a:pt x="2943" y="2418"/>
                </a:lnTo>
                <a:lnTo>
                  <a:pt x="3767" y="2593"/>
                </a:lnTo>
                <a:lnTo>
                  <a:pt x="4625" y="2721"/>
                </a:lnTo>
                <a:lnTo>
                  <a:pt x="5510" y="2801"/>
                </a:lnTo>
                <a:lnTo>
                  <a:pt x="6417" y="2827"/>
                </a:lnTo>
                <a:lnTo>
                  <a:pt x="7329" y="2801"/>
                </a:lnTo>
                <a:lnTo>
                  <a:pt x="8215" y="2721"/>
                </a:lnTo>
                <a:lnTo>
                  <a:pt x="9072" y="2593"/>
                </a:lnTo>
                <a:lnTo>
                  <a:pt x="9895" y="2418"/>
                </a:lnTo>
                <a:lnTo>
                  <a:pt x="10684" y="2197"/>
                </a:lnTo>
                <a:lnTo>
                  <a:pt x="11432" y="1935"/>
                </a:lnTo>
                <a:lnTo>
                  <a:pt x="12136" y="1631"/>
                </a:lnTo>
                <a:lnTo>
                  <a:pt x="12788" y="1293"/>
                </a:lnTo>
                <a:lnTo>
                  <a:pt x="13392" y="920"/>
                </a:lnTo>
                <a:lnTo>
                  <a:pt x="13940" y="513"/>
                </a:lnTo>
                <a:lnTo>
                  <a:pt x="14429" y="78"/>
                </a:lnTo>
                <a:lnTo>
                  <a:pt x="14497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47ff"/>
              </a:gs>
              <a:gs pos="100000">
                <a:srgbClr val="000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0" y="5402160"/>
            <a:ext cx="10080720" cy="2157480"/>
          </a:xfrm>
          <a:prstGeom prst="roundRect">
            <a:avLst>
              <a:gd name="adj" fmla="val 69"/>
            </a:avLst>
          </a:prstGeom>
          <a:gradFill rotWithShape="0">
            <a:gsLst>
              <a:gs pos="0">
                <a:srgbClr val="0047ff"/>
              </a:gs>
              <a:gs pos="100000">
                <a:srgbClr val="000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-33480" y="6459480"/>
            <a:ext cx="5240520" cy="1101960"/>
          </a:xfrm>
          <a:custGeom>
            <a:avLst/>
            <a:gdLst/>
            <a:ahLst/>
            <a:rect l="l" t="t" r="r" b="b"/>
            <a:pathLst>
              <a:path w="14555" h="3060">
                <a:moveTo>
                  <a:pt x="93" y="3059"/>
                </a:moveTo>
                <a:lnTo>
                  <a:pt x="93" y="2102"/>
                </a:lnTo>
                <a:lnTo>
                  <a:pt x="0" y="2065"/>
                </a:lnTo>
                <a:lnTo>
                  <a:pt x="586" y="1659"/>
                </a:lnTo>
                <a:lnTo>
                  <a:pt x="1219" y="1291"/>
                </a:lnTo>
                <a:lnTo>
                  <a:pt x="1898" y="964"/>
                </a:lnTo>
                <a:lnTo>
                  <a:pt x="2620" y="680"/>
                </a:lnTo>
                <a:lnTo>
                  <a:pt x="3383" y="441"/>
                </a:lnTo>
                <a:lnTo>
                  <a:pt x="4180" y="252"/>
                </a:lnTo>
                <a:lnTo>
                  <a:pt x="5008" y="112"/>
                </a:lnTo>
                <a:lnTo>
                  <a:pt x="5864" y="29"/>
                </a:lnTo>
                <a:lnTo>
                  <a:pt x="6745" y="0"/>
                </a:lnTo>
                <a:lnTo>
                  <a:pt x="7625" y="29"/>
                </a:lnTo>
                <a:lnTo>
                  <a:pt x="8479" y="112"/>
                </a:lnTo>
                <a:lnTo>
                  <a:pt x="9308" y="252"/>
                </a:lnTo>
                <a:lnTo>
                  <a:pt x="10104" y="441"/>
                </a:lnTo>
                <a:lnTo>
                  <a:pt x="10868" y="680"/>
                </a:lnTo>
                <a:lnTo>
                  <a:pt x="11590" y="964"/>
                </a:lnTo>
                <a:lnTo>
                  <a:pt x="12269" y="1291"/>
                </a:lnTo>
                <a:lnTo>
                  <a:pt x="12902" y="1659"/>
                </a:lnTo>
                <a:lnTo>
                  <a:pt x="13487" y="2065"/>
                </a:lnTo>
                <a:lnTo>
                  <a:pt x="14018" y="2504"/>
                </a:lnTo>
                <a:lnTo>
                  <a:pt x="14489" y="2976"/>
                </a:lnTo>
                <a:lnTo>
                  <a:pt x="14554" y="3059"/>
                </a:lnTo>
                <a:lnTo>
                  <a:pt x="93" y="3059"/>
                </a:lnTo>
              </a:path>
            </a:pathLst>
          </a:custGeom>
          <a:gradFill rotWithShape="0">
            <a:gsLst>
              <a:gs pos="0">
                <a:srgbClr val="2300dc"/>
              </a:gs>
              <a:gs pos="100000">
                <a:srgbClr val="000080">
                  <a:alpha val="5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741240" y="2101680"/>
            <a:ext cx="8599680" cy="47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741240" y="577440"/>
            <a:ext cx="859968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700" spc="-1" strike="noStrike">
                <a:solidFill>
                  <a:srgbClr val="e6e6ff"/>
                </a:solidFill>
                <a:latin typeface="Times New Roman"/>
              </a:rPr>
              <a:t>Click to edit the title text format</a:t>
            </a:r>
            <a:endParaRPr b="0" lang="en-US" sz="47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2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2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2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2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2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2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0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95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700" spc="-1" strike="noStrike">
                <a:solidFill>
                  <a:srgbClr val="e6e6ff"/>
                </a:solidFill>
                <a:latin typeface="Times New Roman"/>
              </a:rPr>
              <a:t>Тема: Опасные животные</a:t>
            </a:r>
            <a:endParaRPr b="0" lang="en-US" sz="47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079640" y="1800000"/>
            <a:ext cx="8477280" cy="521964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e6e6ff"/>
                </a:solidFill>
                <a:latin typeface="Times New Roman"/>
              </a:rPr>
              <a:t>Цели урока:</a:t>
            </a: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  <a:p>
            <a:pPr marL="343080" indent="0">
              <a:lnSpc>
                <a:spcPct val="109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e6e6ff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e6e6ff"/>
                </a:solidFill>
                <a:latin typeface="Times New Roman"/>
                <a:ea typeface="Times New Roman"/>
              </a:rPr>
              <a:t>Дать представление об опасных животных, их видах и опасностях, причинами которых они являются.</a:t>
            </a: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  <a:p>
            <a:pPr marL="343080" indent="0">
              <a:lnSpc>
                <a:spcPct val="109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e6e6ff"/>
                </a:solidFill>
                <a:latin typeface="Times New Roman"/>
                <a:ea typeface="Times New Roman"/>
              </a:rPr>
              <a:t>Ознакомить с правилами безопасного поведения при встрече с дикими животными в природных условиях.</a:t>
            </a: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  <a:p>
            <a:pPr marL="343080" indent="0">
              <a:lnSpc>
                <a:spcPct val="109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e6e6ff"/>
                </a:solidFill>
                <a:latin typeface="Times New Roman"/>
              </a:rPr>
              <a:t>Воспитывать чувство ответственности за собственную жизнь и безопасность, формировать стремление к взаимовыручке и взаимопомощи,  чувство уважения и заботы по отношению к природе.</a:t>
            </a: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0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20720" y="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95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700" spc="-1" strike="noStrike">
                <a:solidFill>
                  <a:srgbClr val="e6e6ff"/>
                </a:solidFill>
                <a:latin typeface="Times New Roman"/>
              </a:rPr>
              <a:t>Опасные животные</a:t>
            </a:r>
            <a:endParaRPr b="0" lang="en-US" sz="4700" spc="-1" strike="noStrike">
              <a:solidFill>
                <a:srgbClr val="e6e6ff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60360" y="1440000"/>
            <a:ext cx="4859280" cy="28796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5737320" y="1440000"/>
            <a:ext cx="3983040" cy="29318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5730840" y="4587840"/>
            <a:ext cx="3989520" cy="26114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360360" y="4587840"/>
            <a:ext cx="4859280" cy="261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0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95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700" spc="-1" strike="noStrike">
                <a:solidFill>
                  <a:srgbClr val="e6e6ff"/>
                </a:solidFill>
                <a:latin typeface="Times New Roman"/>
              </a:rPr>
              <a:t>Укусы насекомых</a:t>
            </a:r>
            <a:endParaRPr b="0" lang="en-US" sz="47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41240" y="2101680"/>
            <a:ext cx="4200480" cy="22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740120" y="1996920"/>
            <a:ext cx="4319640" cy="25736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4859280" y="4680000"/>
            <a:ext cx="4079880" cy="23400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539640" y="3419640"/>
            <a:ext cx="3814920" cy="36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0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95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700" spc="-1" strike="noStrike">
                <a:solidFill>
                  <a:srgbClr val="e6e6ff"/>
                </a:solidFill>
                <a:latin typeface="Times New Roman"/>
              </a:rPr>
              <a:t>Укусы насекомых</a:t>
            </a:r>
            <a:endParaRPr b="0" lang="en-US" sz="4700" spc="-1" strike="noStrike">
              <a:solidFill>
                <a:srgbClr val="e6e6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476360" y="2101680"/>
            <a:ext cx="2728800" cy="22719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5545080" y="2101680"/>
            <a:ext cx="3411720" cy="22719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5829480" y="4587840"/>
            <a:ext cx="2844720" cy="22716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1327320" y="4587840"/>
            <a:ext cx="3028680" cy="22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0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95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700" spc="-1" strike="noStrike">
                <a:solidFill>
                  <a:srgbClr val="e6e6ff"/>
                </a:solidFill>
                <a:latin typeface="Times New Roman"/>
              </a:rPr>
              <a:t>Таежный клещ</a:t>
            </a:r>
            <a:endParaRPr b="0" lang="en-US" sz="47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41240" y="2101680"/>
            <a:ext cx="4200480" cy="505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726160" y="2101680"/>
            <a:ext cx="3052800" cy="22719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5634000" y="4587840"/>
            <a:ext cx="3237120" cy="22716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1325520" y="4587840"/>
            <a:ext cx="3030480" cy="22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0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20720" y="1792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95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700" spc="-1" strike="noStrike">
                <a:solidFill>
                  <a:srgbClr val="e6e6ff"/>
                </a:solidFill>
                <a:latin typeface="Times New Roman"/>
              </a:rPr>
              <a:t>Укусы ядовитых змей</a:t>
            </a:r>
            <a:endParaRPr b="0" lang="en-US" sz="4700" spc="-1" strike="noStrike">
              <a:solidFill>
                <a:srgbClr val="e6e6ff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720720" y="1619280"/>
            <a:ext cx="4140360" cy="27525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5230800" y="1619280"/>
            <a:ext cx="4041720" cy="27525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5219640" y="4587840"/>
            <a:ext cx="4140360" cy="22716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720720" y="4587840"/>
            <a:ext cx="4140360" cy="22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0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142560"/>
            <a:ext cx="8607240" cy="1390680"/>
          </a:xfrm>
          <a:prstGeom prst="rect">
            <a:avLst/>
          </a:prstGeom>
          <a:noFill/>
          <a:ln w="0">
            <a:noFill/>
          </a:ln>
        </p:spPr>
        <p:txBody>
          <a:bodyPr lIns="0" rIns="0" tIns="295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700" spc="-1" strike="noStrike">
                <a:solidFill>
                  <a:srgbClr val="e6e6ff"/>
                </a:solidFill>
                <a:latin typeface="Times New Roman"/>
              </a:rPr>
              <a:t>Бешенство-тяжелое инфекционное заболевание</a:t>
            </a:r>
            <a:endParaRPr b="0" lang="en-US" sz="4700" spc="-1" strike="noStrike">
              <a:solidFill>
                <a:srgbClr val="e6e6ff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39640" y="1619280"/>
            <a:ext cx="3814920" cy="27525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59280" y="1619280"/>
            <a:ext cx="4140360" cy="27003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4859280" y="4500720"/>
            <a:ext cx="4140360" cy="28796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539640" y="4587840"/>
            <a:ext cx="3814920" cy="27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0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52400" y="17784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95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700" spc="-1" strike="noStrike">
                <a:solidFill>
                  <a:srgbClr val="e6e6ff"/>
                </a:solidFill>
                <a:latin typeface="Times New Roman"/>
              </a:rPr>
              <a:t>Паук каракурт</a:t>
            </a:r>
            <a:endParaRPr b="0" lang="en-US" sz="4700" spc="-1" strike="noStrike">
              <a:solidFill>
                <a:srgbClr val="e6e6ff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700360" y="1440000"/>
            <a:ext cx="4680000" cy="29318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5151600" y="2101680"/>
            <a:ext cx="4200480" cy="22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5219640" y="4587840"/>
            <a:ext cx="4140360" cy="27907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60360" y="4587840"/>
            <a:ext cx="4500720" cy="27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0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520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e6e6ff"/>
                </a:solidFill>
                <a:latin typeface="Times New Roman"/>
              </a:rPr>
              <a:t>Внимание!</a:t>
            </a:r>
            <a:br>
              <a:rPr sz="4000"/>
            </a:br>
            <a:r>
              <a:rPr b="1" lang="ru-RU" sz="4000" spc="-1" strike="noStrike">
                <a:solidFill>
                  <a:srgbClr val="e6e6ff"/>
                </a:solidFill>
                <a:latin typeface="Times New Roman"/>
              </a:rPr>
              <a:t> Пожароопасный период.</a:t>
            </a:r>
            <a:endParaRPr b="0" lang="en-US" sz="40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741240" y="1976400"/>
            <a:ext cx="8607600" cy="501336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ctr">
            <a:noAutofit/>
          </a:bodyPr>
          <a:p>
            <a:pPr marL="343080" indent="0" algn="just">
              <a:lnSpc>
                <a:spcPct val="86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e6e6ff"/>
              </a:solidFill>
              <a:latin typeface="Times New Roman"/>
            </a:endParaRPr>
          </a:p>
          <a:p>
            <a:pPr marL="343080" indent="0" algn="just">
              <a:lnSpc>
                <a:spcPct val="86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e6e6ff"/>
                </a:solidFill>
                <a:latin typeface="Times New Roman"/>
              </a:rPr>
              <a:t>Правила безопасного поведения.</a:t>
            </a: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  <a:p>
            <a:pPr marL="343080" indent="0" algn="just">
              <a:lnSpc>
                <a:spcPct val="86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e6e6ff"/>
                </a:solidFill>
                <a:latin typeface="Times New Roman"/>
              </a:rPr>
              <a:t>Запрещается:</a:t>
            </a: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  <a:p>
            <a:pPr marL="343080" indent="0" algn="just">
              <a:lnSpc>
                <a:spcPct val="86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e6e6ff"/>
                </a:solidFill>
                <a:latin typeface="Times New Roman"/>
              </a:rPr>
              <a:t>- разводить костры, использовать мангалы;</a:t>
            </a: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  <a:p>
            <a:pPr marL="343080" indent="0" algn="just">
              <a:lnSpc>
                <a:spcPct val="86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e6e6ff"/>
                </a:solidFill>
                <a:latin typeface="Times New Roman"/>
              </a:rPr>
              <a:t>- курить, бросать горящие спички;</a:t>
            </a: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  <a:p>
            <a:pPr marL="343080" indent="0" algn="just">
              <a:lnSpc>
                <a:spcPct val="86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e6e6ff"/>
                </a:solidFill>
                <a:latin typeface="Times New Roman"/>
              </a:rPr>
              <a:t>- стрелять из оружия, использовать пиротехнику;</a:t>
            </a: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  <a:p>
            <a:pPr marL="343080" indent="0" algn="just">
              <a:lnSpc>
                <a:spcPct val="86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e6e6ff"/>
                </a:solidFill>
                <a:latin typeface="Times New Roman"/>
              </a:rPr>
              <a:t>-оставлять в лесу промасленный или пропитанный бензином или маслами материал;</a:t>
            </a: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  <a:p>
            <a:pPr marL="343080" indent="0" algn="just">
              <a:lnSpc>
                <a:spcPct val="86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e6e6ff"/>
                </a:solidFill>
                <a:latin typeface="Times New Roman"/>
              </a:rPr>
              <a:t>-оставлять на освещенной солнцем поляне бутылки, осколки стекла;</a:t>
            </a: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  <a:p>
            <a:pPr marL="343080" indent="0" algn="just">
              <a:lnSpc>
                <a:spcPct val="86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e6e6ff"/>
                </a:solidFill>
                <a:latin typeface="Times New Roman"/>
              </a:rPr>
              <a:t>- выжигать траву, а также стерню на полях.</a:t>
            </a: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  <a:p>
            <a:pPr marL="343080" indent="0" algn="just">
              <a:lnSpc>
                <a:spcPct val="86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e6e6ff"/>
                </a:solidFill>
                <a:latin typeface="Times New Roman"/>
              </a:rPr>
              <a:t>Виновные лица несут дисциплинарную, административную или уголовную ответственность.</a:t>
            </a: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7T06:24:39Z</dcterms:created>
  <dc:creator/>
  <dc:description>Предложение пути развития и альтернатив, рекомендации по использованию той или другой стратегии</dc:description>
  <dc:language>en-US</dc:language>
  <cp:lastModifiedBy/>
  <cp:revision>1</cp:revision>
  <dc:subject/>
  <dc:title>Предложение стратегии</dc:title>
</cp:coreProperties>
</file>