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DCB-0E88-4B74-A9C1-8885C39B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257-3FC1-4B3D-8466-F81EFFE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DD8-CBF6-492B-B52F-F023BDB3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CF6-4D73-42C4-8E72-086203E8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7033-CBEF-46D1-B335-B9929192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862E-F596-4E46-A758-C09042B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923-4CCF-4BB4-BFA2-14C17858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BCC6-FC32-4132-B02B-16F7DF60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1CA0-9DD6-4A43-A00B-519465E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24A8-489C-4776-BC7F-E504AB0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C689-D80E-48C7-BF14-ACF6535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7D4-DAD4-4C83-A682-D51BCAE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D1C-AE93-4683-B240-DD7048B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055C-3510-4047-8DE9-FC03597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8CBA-3DAB-4650-8096-1FEFE5B3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580A-7D83-4CFE-8253-6C772278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F86-59EB-4B03-94C4-EA4A750C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AD3-1773-4302-A4EF-A08D387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4FF-343B-4F04-9682-9F5CDE4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FD8-D1CB-4A3B-857E-466C168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9FA-87F7-49BE-8F3D-6EA0FED8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214-398D-48EC-8A3C-1D55DD9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F70-8935-4ABE-A607-CCDE4197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33A-8A9A-405C-909D-B214568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598-889D-4F44-99A0-60C26ABE3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2F4-7B8C-44D7-A069-A45F7FFE1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ЗАНЯТИЕ ПО ПД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320" y="1571760"/>
            <a:ext cx="7143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АВТОМОБИЛЬНОЕ КРЕ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ЛЯ ДЕТЕЙ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214960" y="45007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ршая группа «Конфет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чалкин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 зан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785960" y="2143080"/>
            <a:ext cx="692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714240"/>
            <a:ext cx="72864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когда я шла сегодня на работу, то увидела аварию. И виновник аварии оказывается, не знает правила дорожного движения.  А вы знаете правила дорожного движ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веты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сейчас и провер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ют людей, идущих по улиц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ешех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ая часть улицы предназначена для пешеход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Троту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означает красный сигнал светоф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то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й сигнал светофора разрешает движе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Зеле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управляет транспортным средств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Шофер, вод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ванием какого животного можно назвать пешеходный перех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еб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1357200" y="0"/>
            <a:ext cx="757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дцы, а сейчас проверим, как хорошо вы знаете  дорожные знаки. (Дети садятся на стульчи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должны  не только отгадать загадку, но и найти на нашем столе тот дорожный знак, о котором в этой загадке говор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Всем знакомые полоски,                   2. На машинах здесь друзья,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ют  дети, знает взрослый,               Ехать никому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у сторону ведет…                             Можно ехать, знайте д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ешеходный переход).                         Только на велосип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елосипедная дорож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1785960" y="2857680"/>
            <a:ext cx="60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 белом треугольнике, с окаемкой  кра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кам – школьн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без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т знак дорожный, знают все на с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осторожны, на дороге … (Де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Я знаток дорожных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машину здесь поста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тоянке у ограды, отдыхать ей тоже на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сто стоян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Красный круг, в нем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ый друг – велоси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 гласит : здесь и в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елосипедах проезда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 велосипеде езда запреще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1357200" y="285840"/>
            <a:ext cx="75009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вот сколько правил вы знаете! Ну, прям, настоящие шоферы. Я предлагаю вам провести физминутку :  «Мы шофе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ем, едем на машине (движение рул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имаем на педаль (ногу согнуть в колене, вытяну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з включаем, выключаем (рычаг повернуть к себе, от себ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м пристально мы в даль (ладонь ко лб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орники считают кап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раво, влево – чистота (дворни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сы ерошит ветер (пальцами взъерошит волос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шоферы хоть куда (большой палец правой руки ввер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357200" y="307188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многих из вас родители привозят в детский сад на автомобилях. А  детское автокресло в машине ест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веты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а работу езжу тоже на автомобиле и у меня тоже есть в машине автомобильное кресло. А как вы думаете для кого в моей машине автомобильное кресло, кто им пользует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веты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14720" y="785880"/>
            <a:ext cx="657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мы его рассмотрим и вспомним его назначение (ребенок рассказывает стихотворение о кресле и его назначени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осила Катя Све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такое автокрес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ет Света Кате – «Это значит безопасно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опасность – это важно! Сел в машину – пристегн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а если ты малютка, в автокреслеце садис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удобно, в нем комфортно, безопаснее вс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ерь можно прокат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одите вы ав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57200" y="357120"/>
            <a:ext cx="750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вот ребята, мы с вами и повторили для чего нужны автомобильные кресла. Ребята, у меня есть буклеты для ваших родителей, в которых написано, для чего нужны автомобильные кресла и как правильно перевозить детей в автомобильных креслах. Только буклеты  какие-то не цветные, скучные. А теперь давайте раскрасим наши буклеты и вечером подарим их нашим родител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428840" y="2071800"/>
            <a:ext cx="7358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дцы, вот какие красивые и яркие буклеты у нас получились. Мы вечером обязательно их вручим нашим родителям и расскажем им о том, что мы узнали про автомобильное крес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КЦИЯ «ПРИСТЕГНИ САМОЕ ДОРОГОЕ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частвовали дети группы «Конфетти» и ученики школы №9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Лена\Desktop\фото\Новая папка (2)\IMG-3dab34c5d86b76ef70df669ef1d2952f-V.jpg"/>
          <p:cNvPicPr/>
          <p:nvPr/>
        </p:nvPicPr>
        <p:blipFill>
          <a:blip r:embed="rId1"/>
          <a:stretch/>
        </p:blipFill>
        <p:spPr>
          <a:xfrm>
            <a:off x="5376960" y="3505320"/>
            <a:ext cx="24019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Лена</cp:lastModifiedBy>
  <dcterms:modified xsi:type="dcterms:W3CDTF">2020-08-11T15:02:16Z</dcterms:modified>
  <cp:revision>59</cp:revision>
  <dc:subject/>
  <dc:title>Слайд 1</dc:title>
</cp:coreProperties>
</file>