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431-E89D-4D39-A20F-223F5FD4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EFA-E757-4B69-A1D5-622DC59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F24-2824-48F1-8B40-481A62B3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82D-9884-4B4E-9256-4064ABDD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270-B978-4784-9126-33518DC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6A5-375A-4C4A-AD6C-5E2F361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124-341C-4196-967B-1C022A85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BA-198B-40E8-93D5-52458FA7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E7B-A879-4F25-A38B-96A97BDB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4DB-D9E6-480F-B7E3-6FE7B9B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306-503D-4BFD-97FB-CE5E197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173-7848-4D4D-8CB4-66B4974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F44-8E4E-4DC3-8DFF-CA6E36A4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384600">
            <a:off x="1042560" y="765000"/>
            <a:ext cx="698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люблю теб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92360" y="3141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з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5640" y="404640"/>
            <a:ext cx="7920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Физкультура и спор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720" y="2130480"/>
            <a:ext cx="829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 4.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ащиеся 7в класса и 7г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1 сентября  вместе пропус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болезн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414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ов. Известно, что уча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7 в класса пропустили на  70 уроков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м учащиеся 7г класса. Сколько уроков по боле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пустили учащиеся каждого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1600" y="2274480"/>
            <a:ext cx="8753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есцельны долгий отдых и 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излишествах нет пользы ни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ль человек недвижим, вредный 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полнит тело, и еда не вп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вице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8360" y="1268280"/>
            <a:ext cx="7920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ше пит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8440" y="1195920"/>
            <a:ext cx="7748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а 5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дно число на 5 больше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60% большего числа на 2,7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чем 70% меньшего числа. Найд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и числа и узнайте, ка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уточная потребность организм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железе и меди в миллиграм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68400" y="2132640"/>
            <a:ext cx="6945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нашем рационе : мясо, и ры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вощи и фрук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можно меньше : чипсы, к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астф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556280"/>
            <a:ext cx="784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дача 6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ведите многоч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2ав2·3а2в-4а+8в2-8а-7в2-1/3ав2·6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 стандартному виду и вычисл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его значение если  а=-1, в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езультат умножьте на 7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4880" y="2420280"/>
            <a:ext cx="863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шь столько, чтобы тела здань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е гибло от перееда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бн Си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21429600">
            <a:off x="452160" y="691920"/>
            <a:ext cx="748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олноценный сон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1363000">
            <a:off x="899640" y="2133720"/>
            <a:ext cx="6985080" cy="22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ажный источ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22520" y="3716280"/>
            <a:ext cx="3600720" cy="18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аших с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800" y="2275560"/>
            <a:ext cx="804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дача 7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Человек проводит во сне 1/3 сво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жизни, еще 50 лет он бодр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акова средняя продолжи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0830800">
            <a:off x="345960" y="201600"/>
            <a:ext cx="3414960" cy="254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836400">
            <a:off x="5940000" y="3429000"/>
            <a:ext cx="2656080" cy="284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87280" y="177336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редные привыч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1341360"/>
            <a:ext cx="7920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мните! Сон играет наиболее важную роль в восстановлении жизненных сил. Если человек крепко и глубоко спит, то он днём может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ать сложные задачи, напряженно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95280" y="549360"/>
            <a:ext cx="8748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амять необходимо тренирова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42520" y="541800"/>
            <a:ext cx="162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15 4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 1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 08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20 20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8 46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 4 20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08 33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20 2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 108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 1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4 50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20 20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14 100 0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 0 0 13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7 08 5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20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189000"/>
            <a:ext cx="3676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сёлый стиш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812400">
            <a:off x="5866920" y="5679720"/>
            <a:ext cx="26481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С.Пушки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51920" y="252900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8 17! 18 16!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15 13 3006!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90 17! 90 16!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40 110! 526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92360" y="765000"/>
            <a:ext cx="3166920" cy="18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689400">
            <a:off x="5003640" y="5300640"/>
            <a:ext cx="3076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.Маяковск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11280" y="1268280"/>
            <a:ext cx="7561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Шум-это вред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00" y="304920"/>
            <a:ext cx="7730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а 8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орма уровня шума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человека составляет 40д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ксимально допустимое звук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вление для наушников плеера (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вропейским нормам)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2,5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льше чем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норма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шума для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сколько  дб шум плеера ти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рога болевого шока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рог болевого шока 130д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310200">
            <a:off x="1098720" y="27000"/>
            <a:ext cx="706572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нципы ЗОЖ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9360" y="1772280"/>
            <a:ext cx="730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Жизнь без вредных привы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Занятия физкультурой и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Правиль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Сон не менее 8-9 часов в су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оветриваемом поме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ренировка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Жизнь в соответствии 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калой ш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8280" y="1951200"/>
            <a:ext cx="8767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дьте здоровы сегодня и завт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запланировано, и внезап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алистически и фантастичес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нообразно здоровы, фактически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0"/>
            <a:ext cx="7993080" cy="49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5080" y="1845000"/>
            <a:ext cx="72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дача 1.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Найдит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функции у=3450х+365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если значение аргум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авно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1341360"/>
            <a:ext cx="813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4000 человек  в год погибает в мире от курения. З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век курение убило 100 миллионов челов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2160"/>
            <a:ext cx="70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дача 2.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 России ежегодно умир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500000 мужчин среднего возраста. 42% из них умирают из-за болезней, связанных с кур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колько человек могли бы продолжать жить, если бы  своевременно бросили      кур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544040"/>
            <a:ext cx="8142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210тысяч 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Много это или ма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Численность жителей  города Липецка около 550тысяч человек. Получается, что за год умирает почти половина города. Страш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8880" y="970920"/>
            <a:ext cx="559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адача 3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ана функция у=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kx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Известно, 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очка А(-72;- 6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инадлежит графи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функции. Найдите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48040" y="1923120"/>
            <a:ext cx="963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12 лет жизни, в среднем, от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урение у курильщика. За это вре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жно получить три высших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Дождаться рождения своего вну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хо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 ним на первый звонок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3320" y="105120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5% тех, кто начал курить, станов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зависимыми от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0%  рака лёгких наблюд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курильщ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о 95% заболевших раком умир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течение 5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ждая выкуренная сигарета унос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мин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8:57:30Z</dcterms:created>
  <dc:creator>FuckYouBill</dc:creator>
  <dc:description/>
  <dc:language>en-US</dc:language>
  <cp:lastModifiedBy>FuckYouBill</cp:lastModifiedBy>
  <dcterms:modified xsi:type="dcterms:W3CDTF">2012-01-26T21:06:20Z</dcterms:modified>
  <cp:revision>5</cp:revision>
  <dc:subject/>
  <dc:title>Слайд 1</dc:title>
</cp:coreProperties>
</file>