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60FA-5B11-4D37-AA4D-EA6C5813C8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33D0-5AD1-49E4-B13F-AF25D5ED9D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B91-5241-43EB-9C75-36AFED4C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EAD-86A4-4626-BC19-505587B9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D69-DBA2-4FC8-B91E-5C1E0F98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FB9-7E64-4BDD-9375-4DC1A7C2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7FE3-A859-4D27-AF27-8936E39B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45F6-8ECF-4800-AB95-D62D85C4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F209-AC2B-4050-A0D2-11112305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BF86-ADDD-476B-9A4E-4BE7FB03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2B7D-DB97-433C-AA93-54B089BE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EAD8-09F1-43A8-8A3D-89087B75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1D28-E146-43DC-8427-3DE539C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BD4-EA7F-4013-865C-23D56CCC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01DD-A998-4476-9437-87176278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0DD0-9E75-4F53-BDD6-EFDB9AEF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5894-47AB-4DC3-97B5-1F25D8C4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57B3-1A22-4B13-8E9A-8BF2109A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8FC5-3C32-469B-BC8D-C710D211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83C-6799-4ABF-8657-B8D59E43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8A3-EA2C-49A2-A543-898A913E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268-A744-4BE9-BCCE-A129005D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1D8-3087-4480-A665-FF85481A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2DA-D1CE-41C8-A26C-A7569CA2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B66-63FE-4BFE-9D85-33F332C4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523-F573-48C0-B032-0426F346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CD92-C948-4EE0-82A4-479759BC00F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7910-E416-4BE8-989F-4A16F6D6645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521560" cy="203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частники: дети 2-3 ле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ставила воспитатель:М.В.Тимофее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412120" cy="1060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-360" y="1785600"/>
            <a:ext cx="8572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лачк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дошко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мметрично двумя рукам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ыпание песка из кулач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использование нескольких пальце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353880" y="1994040"/>
            <a:ext cx="8193240" cy="2912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Наш-Бойбэнд\Downloads\20191127_175123.jpg"/>
          <p:cNvPicPr/>
          <p:nvPr/>
        </p:nvPicPr>
        <p:blipFill>
          <a:blip r:embed="rId2"/>
          <a:stretch/>
        </p:blipFill>
        <p:spPr>
          <a:xfrm>
            <a:off x="1476360" y="1413000"/>
            <a:ext cx="5832360" cy="48243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1000080" y="428760"/>
            <a:ext cx="69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исуем ладош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8515440" cy="144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Наш-Бойбэнд\Downloads\20191129_181041 (1).jpg"/>
          <p:cNvPicPr/>
          <p:nvPr/>
        </p:nvPicPr>
        <p:blipFill>
          <a:blip r:embed="rId2"/>
          <a:stretch/>
        </p:blipFill>
        <p:spPr>
          <a:xfrm>
            <a:off x="1908000" y="1989000"/>
            <a:ext cx="5328000" cy="453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566640" y="281160"/>
            <a:ext cx="8650440" cy="144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Наш-Бойбэнд\Downloads\20191128_081936.jpg"/>
          <p:cNvPicPr/>
          <p:nvPr/>
        </p:nvPicPr>
        <p:blipFill>
          <a:blip r:embed="rId2"/>
          <a:stretch/>
        </p:blipFill>
        <p:spPr>
          <a:xfrm>
            <a:off x="1403280" y="1844640"/>
            <a:ext cx="619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Наш-Бойбэнд\Downloads\20191202_080730.jpg"/>
          <p:cNvPicPr/>
          <p:nvPr/>
        </p:nvPicPr>
        <p:blipFill>
          <a:blip r:embed="rId1"/>
          <a:stretch/>
        </p:blipFill>
        <p:spPr>
          <a:xfrm>
            <a:off x="971640" y="765000"/>
            <a:ext cx="7056360" cy="568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9717120" cy="1444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Наш-Бойбэнд\Downloads\20191209_192820.jpg"/>
          <p:cNvPicPr/>
          <p:nvPr/>
        </p:nvPicPr>
        <p:blipFill>
          <a:blip r:embed="rId2"/>
          <a:stretch/>
        </p:blipFill>
        <p:spPr>
          <a:xfrm>
            <a:off x="428760" y="2000160"/>
            <a:ext cx="4038480" cy="3845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Наш-Бойбэнд\Downloads\3b6377405a0891a02df8d241bbccc9ba.jpg"/>
          <p:cNvPicPr/>
          <p:nvPr/>
        </p:nvPicPr>
        <p:blipFill>
          <a:blip r:embed="rId3"/>
          <a:stretch/>
        </p:blipFill>
        <p:spPr>
          <a:xfrm>
            <a:off x="4714920" y="1928880"/>
            <a:ext cx="3930480" cy="3930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16:37:02Z</dcterms:created>
  <dc:creator>Наш-Бойбэнд</dc:creator>
  <dc:description/>
  <dc:language>en-US</dc:language>
  <cp:lastModifiedBy>Наш-Бойбэнд</cp:lastModifiedBy>
  <dcterms:modified xsi:type="dcterms:W3CDTF">2020-08-11T08:18:22Z</dcterms:modified>
  <cp:revision>8</cp:revision>
  <dc:subject/>
  <dc:title>Применение светового стола для детей раннего развития</dc:title>
</cp:coreProperties>
</file>