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wmf" ContentType="image/x-wmf"/>
  <Override PartName="/ppt/media/image14.wmf" ContentType="image/x-wmf"/>
  <Override PartName="/ppt/media/image12.wmf" ContentType="image/x-wmf"/>
  <Override PartName="/ppt/media/image15.wmf" ContentType="image/x-wmf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drumroll.wav" ContentType="audio/x-wav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chimes.wav" ContentType="audio/x-wav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5F3-4378-4816-80C0-527887D4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331-6F88-4D81-958C-C049CBC3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5BD-3A26-4BC3-9D36-1C482EDB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62E-D7E2-4B11-A894-F714BD8D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118-B4F7-4EC6-A42B-72287E4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BE8-EBDF-4EA4-A8E0-C6CB124B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676-80D7-4363-9171-1E50153B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E27-41F4-4FB9-9401-5AB2371B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17D-4F4D-4E8A-A1BC-B4C433DF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FF4-456A-4864-BA7F-D952F82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010-B830-46E3-9E40-8A66D72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92F-2C57-40A6-8BA4-DEA83B4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69E-B5B3-4B57-B936-DA97D39ED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25.png"/><Relationship Id="rId6" Type="http://schemas.openxmlformats.org/officeDocument/2006/relationships/image" Target="../media/image15.wmf"/><Relationship Id="rId7" Type="http://schemas.openxmlformats.org/officeDocument/2006/relationships/image" Target="../media/image20.png"/><Relationship Id="rId8" Type="http://schemas.openxmlformats.org/officeDocument/2006/relationships/image" Target="../media/image10.jpeg"/><Relationship Id="rId9" Type="http://schemas.openxmlformats.org/officeDocument/2006/relationships/image" Target="../media/image38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wmf"/><Relationship Id="rId3" Type="http://schemas.openxmlformats.org/officeDocument/2006/relationships/image" Target="../media/image20.png"/><Relationship Id="rId4" Type="http://schemas.openxmlformats.org/officeDocument/2006/relationships/image" Target="../media/image13.wmf"/><Relationship Id="rId5" Type="http://schemas.openxmlformats.org/officeDocument/2006/relationships/image" Target="../media/image21.png"/><Relationship Id="rId6" Type="http://schemas.openxmlformats.org/officeDocument/2006/relationships/image" Target="../media/image15.wmf"/><Relationship Id="rId7" Type="http://schemas.openxmlformats.org/officeDocument/2006/relationships/image" Target="../media/image14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Vikky\Desktop\Викуля)))))))\для меня\дети детки и детишки\Развиваем речь. ЛОГОПЕД на помощь\ЛОГОПЕДИЧЕСКАЯ ПАПКА\презентации\kotnapolem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04920" y="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Путешествие в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81480" y="525780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Индивидуальное за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а автоматизацию звука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одготовила учитель-логопед высшей квалификационной категории Курбан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112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«Детский сад № 15 г. Йошкар - Олы «Ёлочка»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Vikky\Desktop\Викуля)))))))\для меня\дети детки и детишки\Развиваем речь. ЛОГОПЕД на помощь\ЛОГОПЕДИЧЕСКАЯ ПАПКА\презентации\sh_ramka_det_prost0kvasha93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8229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0" y="-385920"/>
            <a:ext cx="4343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игра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«Назови ласк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4" descr="http://go2.imgsmail.ru/imgpreview?key=http%3A//www.fotosa.ru/stock_photo/Westend61_RF/p_1703046.jpg&amp;mb=imgdb_preview_218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724280" y="0"/>
            <a:ext cx="2264040" cy="139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go3.imgsmail.ru/imgpreview?key=http%3A//fotoramochki.com/predmety/1/tort.png&amp;mb=imgdb_preview_1964&amp;q=90&amp;w=105"/>
          <p:cNvPicPr/>
          <p:nvPr/>
        </p:nvPicPr>
        <p:blipFill>
          <a:blip r:embed="rId3"/>
          <a:stretch/>
        </p:blipFill>
        <p:spPr>
          <a:xfrm>
            <a:off x="7383600" y="457200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4"/>
          <a:stretch/>
        </p:blipFill>
        <p:spPr>
          <a:xfrm>
            <a:off x="5715000" y="4724280"/>
            <a:ext cx="1752480" cy="1683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6" descr=""/>
          <p:cNvPicPr/>
          <p:nvPr/>
        </p:nvPicPr>
        <p:blipFill>
          <a:blip r:embed="rId5"/>
          <a:stretch/>
        </p:blipFill>
        <p:spPr>
          <a:xfrm>
            <a:off x="6934320" y="0"/>
            <a:ext cx="2209680" cy="12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ведро"/>
          <p:cNvPicPr/>
          <p:nvPr/>
        </p:nvPicPr>
        <p:blipFill>
          <a:blip r:embed="rId6"/>
          <a:stretch/>
        </p:blipFill>
        <p:spPr>
          <a:xfrm>
            <a:off x="5486400" y="320040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6" descr="PINTA П"/>
          <p:cNvPicPr/>
          <p:nvPr/>
        </p:nvPicPr>
        <p:blipFill>
          <a:blip r:embed="rId7"/>
          <a:srcRect l="0" t="18040" r="0" b="10771"/>
          <a:stretch/>
        </p:blipFill>
        <p:spPr>
          <a:xfrm>
            <a:off x="4952880" y="1371600"/>
            <a:ext cx="2286000" cy="184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http://go4.imgsmail.ru/imgpreview?key=http%3A//hozyayka.org/uploads/taginator/Jul-2012/gribochek.jpg&amp;mb=imgdb_preview_1291"/>
          <p:cNvPicPr/>
          <p:nvPr/>
        </p:nvPicPr>
        <p:blipFill>
          <a:blip r:embed="rId8"/>
          <a:stretch/>
        </p:blipFill>
        <p:spPr>
          <a:xfrm>
            <a:off x="7467480" y="29718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go1.imgsmail.ru/imgpreview?key=http%3A//bluestar.ru/private/bluestar/shop_load/119/new.jpg&amp;mb=imgdb_preview_1634"/>
          <p:cNvPicPr/>
          <p:nvPr/>
        </p:nvPicPr>
        <p:blipFill>
          <a:blip r:embed="rId9"/>
          <a:stretch/>
        </p:blipFill>
        <p:spPr>
          <a:xfrm>
            <a:off x="7391520" y="1219320"/>
            <a:ext cx="1752480" cy="19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8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1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228600" y="380880"/>
            <a:ext cx="8915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ра уезжать из Простоквашино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грустите Шарик и Матроскин,не грусти Дядя Фёдор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666880" y="60958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ы еще верне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4.81481E-006 L -0.01667 -0.64444 E">
                                      <p:cBhvr>
                                        <p:cTn id="33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tatic.ogl.ru/i/00/04/71/78/1198183816.jpg"/>
          <p:cNvPicPr/>
          <p:nvPr/>
        </p:nvPicPr>
        <p:blipFill>
          <a:blip r:embed="rId1"/>
          <a:stretch/>
        </p:blipFill>
        <p:spPr>
          <a:xfrm>
            <a:off x="0" y="-15228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04920" y="0"/>
            <a:ext cx="8839080" cy="703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мотри! Нас встречает Дядя Фёдор! Давай с ним поздороваем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0" y="1447920"/>
            <a:ext cx="40384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  <a:ea typeface="Aharoni"/>
              </a:rPr>
              <a:t>Дядя Фёдор долго жд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  <a:ea typeface="Aharon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  <a:ea typeface="Aharoni"/>
              </a:rPr>
              <a:t>В гости нас с тобой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  <a:ea typeface="Aharoni"/>
              </a:rPr>
              <a:t>позв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724280" y="4724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haroni"/>
              </a:rPr>
              <a:t>Здравствуй,здравству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haroni"/>
              </a:rPr>
              <a:t>вот и мы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haroni"/>
              </a:rPr>
              <a:t>ВПростоквашино пришл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C:\Users\Vikky\Desktop\Викуля)))))))\для меня\дети детки и детишки\Развиваем речь. ЛОГОПЕД на помощь\ЛОГОПЕДИЧЕСКАЯ ПАПКА\презентации\navodnenie-v-prostokvashino-2887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попасть в деревню Простоквашино, тебе необходимо  завести моторчик на лодке и переплыть на тот берег. (Р-р-р-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533880" y="-360"/>
            <a:ext cx="9829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 Простоквашино все говорят красиво и правильно.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авай сделаем упражнения вместе с Шариком, чтобы у тебя получалось хорошо проговаривать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проба 020"/>
          <p:cNvPicPr/>
          <p:nvPr/>
        </p:nvPicPr>
        <p:blipFill>
          <a:blip r:embed="rId1"/>
          <a:stretch/>
        </p:blipFill>
        <p:spPr>
          <a:xfrm>
            <a:off x="-228600" y="1219320"/>
            <a:ext cx="3733920" cy="563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intehpro.ru/images/horse-view-1-big.jpg"/>
          <p:cNvPicPr/>
          <p:nvPr/>
        </p:nvPicPr>
        <p:blipFill>
          <a:blip r:embed="rId2"/>
          <a:stretch/>
        </p:blipFill>
        <p:spPr>
          <a:xfrm>
            <a:off x="4800600" y="1143000"/>
            <a:ext cx="190512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2819520" y="13716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ош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go4.imgsmail.ru/imgpreview?key=http%3A//www.watch-on-line.ru/published/publicdata/WATCHONLWA/attachments/SC/products_pictures/LAMER%2520GF001001_enl.jpg&amp;mb=imgdb_preview_78"/>
          <p:cNvPicPr/>
          <p:nvPr/>
        </p:nvPicPr>
        <p:blipFill>
          <a:blip r:embed="rId3"/>
          <a:stretch/>
        </p:blipFill>
        <p:spPr>
          <a:xfrm>
            <a:off x="3581280" y="2362320"/>
            <a:ext cx="19926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2"/>
          <p:cNvSpPr/>
          <p:nvPr/>
        </p:nvSpPr>
        <p:spPr>
          <a:xfrm>
            <a:off x="49528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а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ttp://go1.imgsmail.ru/imgpreview?key=http%3A//stat17.privet.ru/lr/091d8ca35811f8fc1bb29b394eee78b0&amp;mb=imgdb_preview_1527&amp;q=90&amp;w=173"/>
          <p:cNvPicPr/>
          <p:nvPr/>
        </p:nvPicPr>
        <p:blipFill>
          <a:blip r:embed="rId4"/>
          <a:stretch/>
        </p:blipFill>
        <p:spPr>
          <a:xfrm>
            <a:off x="7010280" y="1219320"/>
            <a:ext cx="194472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5"/>
          <p:cNvSpPr/>
          <p:nvPr/>
        </p:nvSpPr>
        <p:spPr>
          <a:xfrm>
            <a:off x="7010280" y="2819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кусное вар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ttp://go4.imgsmail.ru/imgpreview?key=http%3A//copypast.ru/uploads/posts/1296296484_3.jpg&amp;mb=imgdb_preview_139"/>
          <p:cNvPicPr/>
          <p:nvPr/>
        </p:nvPicPr>
        <p:blipFill>
          <a:blip r:embed="rId5"/>
          <a:stretch/>
        </p:blipFill>
        <p:spPr>
          <a:xfrm>
            <a:off x="7010280" y="3200400"/>
            <a:ext cx="1789200" cy="1600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7"/>
          <p:cNvSpPr/>
          <p:nvPr/>
        </p:nvSpPr>
        <p:spPr>
          <a:xfrm>
            <a:off x="59436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шечка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акает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http://go2.imgsmail.ru/imgpreview?key=http%3A//nastyha.ru/uploads/images/skazki/kacheli.jpg&amp;mb=imgdb_preview_1103"/>
          <p:cNvPicPr/>
          <p:nvPr/>
        </p:nvPicPr>
        <p:blipFill>
          <a:blip r:embed="rId6"/>
          <a:stretch/>
        </p:blipFill>
        <p:spPr>
          <a:xfrm>
            <a:off x="3657600" y="4267080"/>
            <a:ext cx="1600200" cy="2060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525780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ач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http://go4.imgsmail.ru/imgpreview?key=http%3A//hozyayka.org/uploads/taginator/Jul-2012/gribochek.jpg&amp;mb=imgdb_preview_1291"/>
          <p:cNvPicPr/>
          <p:nvPr/>
        </p:nvPicPr>
        <p:blipFill>
          <a:blip r:embed="rId7"/>
          <a:stretch/>
        </p:blipFill>
        <p:spPr>
          <a:xfrm>
            <a:off x="7010280" y="4915080"/>
            <a:ext cx="1905120" cy="1942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1"/>
          <p:cNvSpPr/>
          <p:nvPr/>
        </p:nvSpPr>
        <p:spPr>
          <a:xfrm>
            <a:off x="5791320" y="6172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риб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914400" y="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Мы будем разговар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И будем выговаривать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1911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Всё правильно и вн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Чтоб всем было пон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057400" y="144792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Ра-ра-ра - начинается игр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Ры-ры-ры – у ребят шар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Ро-ро-ро – у нас новое ведр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Ру-ру-ру – продолжаем мы игр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Ар-ар-ар – кипит наш самовар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Ор-ор-ор –созрел красный помидор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Ир-ир-ир – марширует команд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А теперь выберем подарки жителям деревни Простоквашино. </a:t>
            </a: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Выбирать подарки нужно только со звуком Р</a:t>
            </a: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смотри, какие картинки здесь лишние? 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андаши"/>
          <p:cNvPicPr/>
          <p:nvPr/>
        </p:nvPicPr>
        <p:blipFill>
          <a:blip r:embed="rId1"/>
          <a:stretch/>
        </p:blipFill>
        <p:spPr>
          <a:xfrm>
            <a:off x="2362320" y="129528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мороженое 3"/>
          <p:cNvPicPr/>
          <p:nvPr/>
        </p:nvPicPr>
        <p:blipFill>
          <a:blip r:embed="rId2"/>
          <a:stretch/>
        </p:blipFill>
        <p:spPr>
          <a:xfrm>
            <a:off x="4952880" y="1066680"/>
            <a:ext cx="838440" cy="194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шары"/>
          <p:cNvPicPr/>
          <p:nvPr/>
        </p:nvPicPr>
        <p:blipFill>
          <a:blip r:embed="rId3"/>
          <a:stretch/>
        </p:blipFill>
        <p:spPr>
          <a:xfrm>
            <a:off x="4191120" y="3200400"/>
            <a:ext cx="1371600" cy="1862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фотоаппарат"/>
          <p:cNvPicPr/>
          <p:nvPr/>
        </p:nvPicPr>
        <p:blipFill>
          <a:blip r:embed="rId4"/>
          <a:stretch/>
        </p:blipFill>
        <p:spPr>
          <a:xfrm>
            <a:off x="4535640" y="5334120"/>
            <a:ext cx="194616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ведро"/>
          <p:cNvPicPr/>
          <p:nvPr/>
        </p:nvPicPr>
        <p:blipFill>
          <a:blip r:embed="rId5"/>
          <a:stretch/>
        </p:blipFill>
        <p:spPr>
          <a:xfrm>
            <a:off x="304920" y="5105520"/>
            <a:ext cx="1419120" cy="1447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нига"/>
          <p:cNvPicPr/>
          <p:nvPr/>
        </p:nvPicPr>
        <p:blipFill>
          <a:blip r:embed="rId6"/>
          <a:stretch/>
        </p:blipFill>
        <p:spPr>
          <a:xfrm>
            <a:off x="2133720" y="5216400"/>
            <a:ext cx="1904760" cy="122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Documents and Settings\Кирилл\Рабочий стол\МАМА\детские презентации\Почемучка\b1c12472bde8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1143000"/>
            <a:ext cx="1752480" cy="1747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D:\Ксюша\инет\ПРЕЗЕНТАЦИИ\БУКВЫ ЧТЕНИЕ\АЛФАВИТ буква - рисунок\Развивающие карточки АЗБУКА\Фрукты и ягоды\[а] апельсин.JPG"/>
          <p:cNvPicPr/>
          <p:nvPr/>
        </p:nvPicPr>
        <p:blipFill>
          <a:blip r:embed="rId9"/>
          <a:stretch/>
        </p:blipFill>
        <p:spPr>
          <a:xfrm>
            <a:off x="0" y="1371600"/>
            <a:ext cx="204156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10">
            <a:lum contrast="10000"/>
          </a:blip>
          <a:stretch/>
        </p:blipFill>
        <p:spPr>
          <a:xfrm>
            <a:off x="6781680" y="4876920"/>
            <a:ext cx="210816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6" descr="PINTA П"/>
          <p:cNvPicPr/>
          <p:nvPr/>
        </p:nvPicPr>
        <p:blipFill>
          <a:blip r:embed="rId11"/>
          <a:srcRect l="0" t="18040" r="0" b="10771"/>
          <a:stretch/>
        </p:blipFill>
        <p:spPr>
          <a:xfrm>
            <a:off x="1066680" y="2819520"/>
            <a:ext cx="254808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D:\Каталог картинок\Р\Рыба\Разное\FISH495 п.gif"/>
          <p:cNvPicPr/>
          <p:nvPr/>
        </p:nvPicPr>
        <p:blipFill>
          <a:blip r:embed="rId12"/>
          <a:srcRect l="0" t="16390" r="0" b="22134"/>
          <a:stretch/>
        </p:blipFill>
        <p:spPr>
          <a:xfrm>
            <a:off x="6248520" y="3200400"/>
            <a:ext cx="24066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93889E-018 L -0.23333 0.27778 E">
                                      <p:cBhvr>
                                        <p:cTn id="13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0.36667 -0.13333 E">
                                      <p:cBhvr>
                                        <p:cTn id="13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79 -0.00694 C -0.13299 -0.05995 -0.14601 -0.11273 -0.16545 -0.1206 C -0.1849 -0.12847 -0.21667 -0.06481 -0.23611 -0.05394 C -0.25556 -0.04306 -0.2691 -0.03495 -0.2816 -0.05579 C -0.2941 -0.07662 -0.27483 -0.17917 -0.31111 -0.1794 C -0.34722 -0.17963 -0.46788 -0.07847 -0.49931 -0.05787 E">
                                      <p:cBhvr>
                                        <p:cTn id="14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55556E-006 C 0.00886 -0.07756 0.01771 -0.1551 0.03976 -0.15881 C 0.06181 -0.16251 0.11493 -0.00418 0.13229 -0.02177 C 0.14966 -0.03936 0.10556 -0.24816 0.1441 -0.26482 C 0.18264 -0.28149 0.32674 -0.14561 0.3632 -0.12177 E">
                                      <p:cBhvr>
                                        <p:cTn id="14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му и что мы привезли в подарок?</a:t>
            </a:r>
            <a:br>
              <a:rPr sz="20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Дяде Фёдору – картонный корабль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                        корове Мурке - красивое ведро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Шарику – чёрный  фотоаппарат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                  Матроскину – аквариум с рыбками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теленку Гаврюше – шарики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                      почтальону Печкину-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518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карандаши"/>
          <p:cNvPicPr/>
          <p:nvPr/>
        </p:nvPicPr>
        <p:blipFill>
          <a:blip r:embed="rId2"/>
          <a:stretch/>
        </p:blipFill>
        <p:spPr>
          <a:xfrm>
            <a:off x="-2514600" y="609480"/>
            <a:ext cx="1143000" cy="925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96" descr="PINTA П"/>
          <p:cNvPicPr/>
          <p:nvPr/>
        </p:nvPicPr>
        <p:blipFill>
          <a:blip r:embed="rId3"/>
          <a:srcRect l="0" t="18040" r="0" b="10771"/>
          <a:stretch/>
        </p:blipFill>
        <p:spPr>
          <a:xfrm>
            <a:off x="9524880" y="-228600"/>
            <a:ext cx="1295640" cy="10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шары"/>
          <p:cNvPicPr/>
          <p:nvPr/>
        </p:nvPicPr>
        <p:blipFill>
          <a:blip r:embed="rId4"/>
          <a:stretch/>
        </p:blipFill>
        <p:spPr>
          <a:xfrm>
            <a:off x="-1295280" y="0"/>
            <a:ext cx="1012680" cy="137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D:\Каталог картинок\Р\Рыба\Разное\FISH495 п.gif"/>
          <p:cNvPicPr/>
          <p:nvPr/>
        </p:nvPicPr>
        <p:blipFill>
          <a:blip r:embed="rId5"/>
          <a:srcRect l="0" t="16390" r="0" b="22134"/>
          <a:stretch/>
        </p:blipFill>
        <p:spPr>
          <a:xfrm>
            <a:off x="9448920" y="762120"/>
            <a:ext cx="1218960" cy="887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ведро"/>
          <p:cNvPicPr/>
          <p:nvPr/>
        </p:nvPicPr>
        <p:blipFill>
          <a:blip r:embed="rId6"/>
          <a:stretch/>
        </p:blipFill>
        <p:spPr>
          <a:xfrm>
            <a:off x="-1219320" y="1447920"/>
            <a:ext cx="849600" cy="86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фотоаппарат"/>
          <p:cNvPicPr/>
          <p:nvPr/>
        </p:nvPicPr>
        <p:blipFill>
          <a:blip r:embed="rId7"/>
          <a:stretch/>
        </p:blipFill>
        <p:spPr>
          <a:xfrm>
            <a:off x="9524880" y="1752480"/>
            <a:ext cx="1067040" cy="7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C -0.27726 -0.04699 -0.55434 -0.09398 -0.65434 0.01366 C -0.75434 0.1213 -0.60903 0.53982 -0.6 0.64514 E">
                                      <p:cBhvr>
                                        <p:cTn id="15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C -0.28941 -0.12362 -0.57865 -0.247 -0.65 -0.17246 C -0.72136 -0.09792 -0.57465 0.17453 -0.42795 0.44699 E">
                                      <p:cBhvr>
                                        <p:cTn id="15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2 0.07546 C 0.19496 0.06528 0.40381 0.05533 0.48472 0.18727 C 0.56562 0.31921 0.51857 0.59329 0.47152 0.86759 E">
                                      <p:cBhvr>
                                        <p:cTn id="160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C 0.3816 -0.12315 0.76319 -0.24607 0.87205 -0.2176 C 0.9809 -0.18912 0.81684 -0.00925999999999999 0.65295 0.1706 E">
                                      <p:cBhvr>
                                        <p:cTn id="16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51 -0.03634 C -0.21753 -0.06157 -0.4934 -0.0868 -0.5592 -0.02476 C -0.625 0.03727 -0.48038 0.18658 -0.33576 0.33612 E">
                                      <p:cBhvr>
                                        <p:cTn id="168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C 0.33889 0.00486 0.67795 0.00995 0.72778 0.10185 C 0.77743 0.19375 0.36997 0.47615 0.29844 0.55092 E">
                                      <p:cBhvr>
                                        <p:cTn id="17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Матроскин хочет поиграть с тобой в игру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Чего не стало». </a:t>
            </a:r>
            <a:br>
              <a:rPr sz="18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смотри на картинки, запомни их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закрой глаза, сейчас Матроскин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какую-то картинку уберет. Чего ни стало?</a:t>
            </a:r>
            <a:br>
              <a:rPr sz="2400"/>
            </a:b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(картинки исчезают по щелч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2057400" cy="1406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6" descr=""/>
          <p:cNvPicPr/>
          <p:nvPr/>
        </p:nvPicPr>
        <p:blipFill>
          <a:blip r:embed="rId3"/>
          <a:stretch/>
        </p:blipFill>
        <p:spPr>
          <a:xfrm>
            <a:off x="4572000" y="2895480"/>
            <a:ext cx="220968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9" descr="D:\Ксюша\инет\Развивающие книги\НАГЛЯДНО - ДИДАКТИЧЕСКИЕ ПОСОБИЯ\Наглядно-Дидактическое пособие МИР В КАРТИНКАХ\Цветы\Незабудка Ромашка.jpg"/>
          <p:cNvPicPr/>
          <p:nvPr/>
        </p:nvPicPr>
        <p:blipFill>
          <a:blip r:embed="rId4">
            <a:lum contrast="10000"/>
          </a:blip>
          <a:srcRect l="51828" t="5445" r="0" b="12911"/>
          <a:stretch/>
        </p:blipFill>
        <p:spPr>
          <a:xfrm>
            <a:off x="2514600" y="2057400"/>
            <a:ext cx="1979640" cy="2368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7010280" y="4952880"/>
            <a:ext cx="1676520" cy="1414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8" descr="рак"/>
          <p:cNvPicPr/>
          <p:nvPr/>
        </p:nvPicPr>
        <p:blipFill>
          <a:blip r:embed="rId6">
            <a:lum contrast="30000"/>
          </a:blip>
          <a:srcRect l="0" t="7701" r="0" b="2961"/>
          <a:stretch/>
        </p:blipFill>
        <p:spPr>
          <a:xfrm>
            <a:off x="6858000" y="2590920"/>
            <a:ext cx="2162160" cy="20444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7"/>
          <a:stretch/>
        </p:blipFill>
        <p:spPr>
          <a:xfrm>
            <a:off x="5181480" y="4724280"/>
            <a:ext cx="1671840" cy="1683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7" descr="D:\Ксюша\инет\ПРЕЗЕНТАЦИИ\ЧЕЛОВЕК И ЕГО ДЕЯТЕЛЬНОСТЬ\ПРЕДМЕТЫ ДОМАШНЕГО БЫТА\ПРЕДМЕТЫ ОБИХОДА\ТОПОР.JPG"/>
          <p:cNvPicPr/>
          <p:nvPr/>
        </p:nvPicPr>
        <p:blipFill>
          <a:blip r:embed="rId8"/>
          <a:stretch/>
        </p:blipFill>
        <p:spPr>
          <a:xfrm>
            <a:off x="2971800" y="4876920"/>
            <a:ext cx="1438200" cy="1428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0" descr="D:\Ксюша\инет\Развивающие книги\НАГЛЯДНО - ДИДАКТИЧЕСКИЕ ПОСОБИЯ\Информационно-деловое оснащение ДОУ\Картотека предметных картинок Транспорт Н.В. Нищева\12.jpg"/>
          <p:cNvPicPr/>
          <p:nvPr/>
        </p:nvPicPr>
        <p:blipFill>
          <a:blip r:embed="rId9">
            <a:lum contrast="10000"/>
          </a:blip>
          <a:stretch/>
        </p:blipFill>
        <p:spPr>
          <a:xfrm>
            <a:off x="380880" y="4572000"/>
            <a:ext cx="189252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0lik.ru/uploads/posts/2008-04/1209443573_0lik.ru_prostokvashino_-_tanzy.jpg"/>
          <p:cNvPicPr/>
          <p:nvPr/>
        </p:nvPicPr>
        <p:blipFill>
          <a:blip r:embed="rId1"/>
          <a:stretch/>
        </p:blipFill>
        <p:spPr>
          <a:xfrm>
            <a:off x="-1474920" y="0"/>
            <a:ext cx="10618920" cy="7162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-228600" y="0"/>
            <a:ext cx="937260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Корова Мурка тоже любит играть!</a:t>
            </a:r>
            <a:br>
              <a:rPr sz="2000"/>
            </a:b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Замени в словах первый звук на звук Р, чтобы получилось новое сл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5410080" y="1143000"/>
            <a:ext cx="1676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Р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5562720" y="762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5553720" y="1447920"/>
            <a:ext cx="12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641200" y="19810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5489640" y="259092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5410080" y="31240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ОБО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ly</dc:creator>
  <dc:description/>
  <dc:language>en-US</dc:language>
  <cp:lastModifiedBy>User</cp:lastModifiedBy>
  <dcterms:modified xsi:type="dcterms:W3CDTF">2020-08-11T09:14:59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