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gif" ContentType="image/gif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8AD-1BBD-473B-9BE8-7D145979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592-6F2A-4C2F-A7ED-99846E84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C1B-2B05-4FD9-85B5-1EFA5947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3F4C-881F-416A-864C-27881945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0649-12CC-43B9-BBE4-0C5FF857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352A-1974-464F-B8A3-1D78A0E5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DDDB-A3AB-413B-937A-AB08E721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9557-0A96-457A-BF49-57C29872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A3D7-572A-499A-ADAB-BDE1A91D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4C7E-07B5-4EFB-9291-A16D3054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F872-673D-463A-8EC4-0FDBC5DB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A66-157D-4EE8-BCA5-5A3AC2F8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E8A6-5F32-4F29-B08A-814E5115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9CB8-6F62-46DD-A4A3-692EF7DE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3026-4402-4391-9396-4F768FAD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D5E3-4076-4FFC-9E8A-F01E8C7E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C307-ACCC-47E7-B254-612B33D3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C5C02-C346-438F-B510-285EC5FB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9F80-0E8E-4A85-A96B-73FB3A62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C2B78-CA68-4BD1-9F77-290AC160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37EF7-85BC-43CA-94DF-B5616EF7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3B682-8033-431F-A229-9666667A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165-02E7-498D-9077-5B95D8E4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85444-0E2E-48A2-A0C5-810DED25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3E7EC-DC65-481B-95E3-7D945DB2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88405-A815-4DA3-8879-EE89D6A1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2EA45-92FA-47C0-9FE1-B0E8A44C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AC7F9-F0FB-460C-86EB-528081E7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F9EED-660A-4344-975C-74833B18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87E31-28EF-4720-90DA-E7DD7BB8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D5E8E-D66C-41D9-82D5-F3E271E3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0D12B-86D0-4308-94F0-AA3C6C76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A66FB-F343-40FF-A100-732AB3C9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4A0-6FF1-42B1-BF59-D362BA10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D6066-70F8-436C-91A2-463A0707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02A29-8476-4545-BCE0-4194BD5E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5B922-9DE7-422A-9399-5FD21370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8BB50-9CA3-4CF3-B379-6118BA10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7A992-BE9A-424D-9927-4EB1E790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7278B-8F61-498A-B033-B65BD2EC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2A83D-55AA-49EA-A6EE-A9D1A3F1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D77D1-37F3-42BF-8976-7F7CFC44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48A64-2911-42D4-9D96-4DED980D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40B1B-F96E-4ABC-B5E4-B26E6BE9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0CF-B72C-4738-B453-A5EFBEF5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F1C6E-B132-49CF-9F02-A494D69F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7E4CD-1DFB-4264-8643-CB345661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5F71A-45D6-4C08-BE68-69DC747C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D09AB-8B55-4F53-870B-1A766127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BF993-A6D5-4769-AD78-9B48A47A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4260C-DB0C-467E-AA92-C864C944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E49EB-B26F-4899-940F-7D8F5637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B5C9C-3F65-4D45-9DBC-68C9F642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0B715-8A7D-4634-8E91-61BE8459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0FADC-F53C-4C5F-AC65-089433A9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FFF-1D88-428D-B499-4ADB6FC8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B7B8F-F6D7-4BA5-ADD4-DA0EFF84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3AF87-BFB5-4BC1-82F2-1DA7454D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BDE5A-38E0-4A58-971B-EDC6A24A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86F2C-3265-42E6-9D96-21BE7699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E3C20-7634-4AD9-AC42-F50646BF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3F012-7764-4210-B804-E490A54D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E8239-0502-457D-893A-F26BE032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1D787-F213-446C-8BEB-9C7CB12D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C08D2-8CF3-40C0-B137-3A064AB4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1708A-4943-4F38-82E8-FF64ECE7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EE6-C7A1-4557-B40E-002EBDB3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CEF1D-D852-4CB7-AF3B-AE830BA6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1145E-BB83-4870-B8CB-BA2CE257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24D03-5046-4192-A069-D08DDA11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E30F6-ADB5-4AEC-972E-E5C80F94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7A134-F2FA-4DE3-A3EC-11918254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919A9-9EE0-4B72-AAF1-2615BD1A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D20C7-BF22-457A-BF0F-4F1EBA50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F1508-DC5D-4E98-9714-5ED3EF0E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10D8C-5FED-4CAB-B524-C5A35DF7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2C1B6-561B-408B-9EAA-EA054AFB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80F-3AF2-4E37-A49A-2ECA690D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9566C-0CD5-4FF2-B675-CC01E4F1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3E8AA-F0BB-4FA6-9500-25B8958C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3F82D-7368-4993-B4D4-5BCE6256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9B87D-8937-4E5A-947E-DF71E310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35879-F8C2-490F-B1C8-A6E7DE68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0A6-BB45-44CB-B7B2-527723A6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593C-F7AF-47D1-A579-4E2CFBD14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95D3-1F6D-4D89-9AE3-0EB682A2217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90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05C7-9C56-45BD-A948-664364ECCF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3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16D4-B8EC-447F-B487-B9173D03652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8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7FD9-E56D-4036-B966-1BA11D3275C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2591-3329-4ABA-B36C-0F3DE4CCFC1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8E60-96ED-477E-81CB-6413CEF8DCE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обрание </a:t>
            </a:r>
            <a:br>
              <a:rPr sz="4500"/>
            </a:b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Отметка. Оценка. Как к ней относиться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или 1ошибка и 2 ис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 (8-10 с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 (10 зада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Евгений</cp:lastModifiedBy>
  <dcterms:modified xsi:type="dcterms:W3CDTF">2014-09-10T01:47:40Z</dcterms:modified>
  <cp:revision>89</cp:revision>
  <dc:subject/>
  <dc:title>PowerPoint Template</dc:title>
</cp:coreProperties>
</file>