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5.png" ContentType="image/png"/>
  <Override PartName="/ppt/media/image46.png" ContentType="image/png"/>
  <Override PartName="/ppt/media/image6.wmf" ContentType="image/x-wmf"/>
  <Override PartName="/ppt/media/image48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2.png" ContentType="image/png"/>
  <Override PartName="/ppt/media/image31.png" ContentType="image/png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DC1E-C9DE-4E18-ADE3-FCB86D98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E43F-DE19-4733-953E-12B345AF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83DB-38B1-47C5-8565-ECA9B8E4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D763-1812-4BA5-B070-19E9329B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897C-B7C1-41B7-AA6C-8101146C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ED69-5DB6-469F-AED0-6F3C9B7B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30A6-6284-456E-BC5B-14982330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41C6-E166-4B4E-B66D-CA18BEE8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E913-D636-454C-882E-D352F568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08A0-7558-4746-9560-55BF9429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1E01-A945-4E04-BD10-B6873812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5CF1-ECC9-43E5-9597-D3A065ED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E643-F8C8-4577-BCB4-0E49F5B9C4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Титул_5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6.png"/><Relationship Id="rId20" Type="http://schemas.openxmlformats.org/officeDocument/2006/relationships/image" Target="../media/image48.png"/><Relationship Id="rId2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43080" y="2356920"/>
            <a:ext cx="6858000" cy="16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Текстовая информац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одзаголовок 2"/>
          <p:cNvSpPr/>
          <p:nvPr/>
        </p:nvSpPr>
        <p:spPr>
          <a:xfrm>
            <a:off x="1928880" y="4000680"/>
            <a:ext cx="700092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9e"/>
                </a:solidFill>
                <a:latin typeface="Calibri"/>
              </a:rPr>
              <a:t>Текст как форма представления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9e"/>
                </a:solidFill>
                <a:latin typeface="Calibri"/>
              </a:rPr>
              <a:t>Текстовые докум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9e"/>
                </a:solidFill>
                <a:latin typeface="Calibri"/>
              </a:rPr>
              <a:t>Компьютер – основной инструмент подготовки тек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9e"/>
                </a:solidFill>
                <a:latin typeface="Calibri"/>
              </a:rPr>
              <a:t>Ввод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9e"/>
                </a:solidFill>
                <a:latin typeface="Calibri"/>
              </a:rPr>
              <a:t>Редактирование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9e"/>
                </a:solidFill>
                <a:latin typeface="Calibri"/>
              </a:rPr>
              <a:t>Форматирование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9e"/>
                </a:solidFill>
                <a:latin typeface="Calibri"/>
              </a:rPr>
              <a:t>Это интерес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a9e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  <a:ea typeface="Arial"/>
              </a:rPr>
              <a:t>Этапы подготовки докумен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Схема 4" descr=""/>
          <p:cNvPicPr/>
          <p:nvPr/>
        </p:nvPicPr>
        <p:blipFill>
          <a:blip r:embed="rId1"/>
          <a:stretch/>
        </p:blipFill>
        <p:spPr>
          <a:xfrm>
            <a:off x="579600" y="1378080"/>
            <a:ext cx="8381880" cy="409572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5" descr=""/>
          <p:cNvPicPr/>
          <p:nvPr/>
        </p:nvPicPr>
        <p:blipFill>
          <a:blip r:embed="rId2"/>
          <a:stretch/>
        </p:blipFill>
        <p:spPr>
          <a:xfrm>
            <a:off x="762120" y="125568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6" descr=""/>
          <p:cNvPicPr/>
          <p:nvPr/>
        </p:nvPicPr>
        <p:blipFill>
          <a:blip r:embed="rId3"/>
          <a:stretch/>
        </p:blipFill>
        <p:spPr>
          <a:xfrm>
            <a:off x="2901960" y="125568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7" descr=""/>
          <p:cNvPicPr/>
          <p:nvPr/>
        </p:nvPicPr>
        <p:blipFill>
          <a:blip r:embed="rId4"/>
          <a:stretch/>
        </p:blipFill>
        <p:spPr>
          <a:xfrm>
            <a:off x="5187960" y="13287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8" descr=""/>
          <p:cNvPicPr/>
          <p:nvPr/>
        </p:nvPicPr>
        <p:blipFill>
          <a:blip r:embed="rId5"/>
          <a:stretch/>
        </p:blipFill>
        <p:spPr>
          <a:xfrm>
            <a:off x="7620120" y="1328760"/>
            <a:ext cx="1189080" cy="11034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9"/>
          <p:cNvSpPr/>
          <p:nvPr/>
        </p:nvSpPr>
        <p:spPr>
          <a:xfrm>
            <a:off x="1143000" y="5429160"/>
            <a:ext cx="7358040" cy="11912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Подготовка документа на компьютере состоит </a:t>
            </a:r>
            <a:br>
              <a:rPr sz="2400"/>
            </a:b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из нескольких этапов: </a:t>
            </a:r>
            <a:r>
              <a:rPr b="1" i="1" lang="ru-RU" sz="2400" spc="-1" strike="noStrike">
                <a:solidFill>
                  <a:srgbClr val="10253f"/>
                </a:solidFill>
                <a:latin typeface="Calibri"/>
              </a:rPr>
              <a:t>ввод</a:t>
            </a: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 (набор) </a:t>
            </a:r>
            <a:r>
              <a:rPr b="1" i="1" lang="ru-RU" sz="2400" spc="-1" strike="noStrike">
                <a:solidFill>
                  <a:srgbClr val="10253f"/>
                </a:solidFill>
                <a:latin typeface="Calibri"/>
              </a:rPr>
              <a:t>текста</a:t>
            </a: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, </a:t>
            </a:r>
            <a:r>
              <a:rPr b="1" i="1" lang="ru-RU" sz="2400" spc="-1" strike="noStrike">
                <a:solidFill>
                  <a:srgbClr val="10253f"/>
                </a:solidFill>
                <a:latin typeface="Calibri"/>
              </a:rPr>
              <a:t>редактирование</a:t>
            </a: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, </a:t>
            </a:r>
            <a:r>
              <a:rPr b="1" i="1" lang="ru-RU" sz="2400" spc="-1" strike="noStrike">
                <a:solidFill>
                  <a:srgbClr val="10253f"/>
                </a:solidFill>
                <a:latin typeface="Calibri"/>
              </a:rPr>
              <a:t>форматирование</a:t>
            </a: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 и </a:t>
            </a:r>
            <a:r>
              <a:rPr b="1" i="1" lang="ru-RU" sz="2400" spc="-1" strike="noStrike">
                <a:solidFill>
                  <a:srgbClr val="10253f"/>
                </a:solidFill>
                <a:latin typeface="Calibri"/>
              </a:rPr>
              <a:t>печать</a:t>
            </a: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Управляющая кнопка: домой 11">
            <a:hlinkClick r:id="" action="ppaction://hlinkshowjump?jump=firstslide"/>
          </p:cNvPr>
          <p:cNvSpPr/>
          <p:nvPr/>
        </p:nvSpPr>
        <p:spPr>
          <a:xfrm>
            <a:off x="8643960" y="6429240"/>
            <a:ext cx="428760" cy="35748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3" h="21600">
                <a:moveTo>
                  <a:pt x="12951" y="3837"/>
                </a:moveTo>
                <a:lnTo>
                  <a:pt x="15528" y="6448"/>
                </a:ln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lnTo>
                  <a:pt x="19914" y="10800"/>
                </a:lnTo>
                <a:lnTo>
                  <a:pt x="18261" y="10800"/>
                </a:lnTo>
                <a:lnTo>
                  <a:pt x="18261" y="17989"/>
                </a:lnTo>
                <a:lnTo>
                  <a:pt x="7642" y="17989"/>
                </a:lnTo>
                <a:lnTo>
                  <a:pt x="7642" y="10800"/>
                </a:lnTo>
                <a:lnTo>
                  <a:pt x="5988" y="10800"/>
                </a:lnTo>
                <a:close/>
              </a:path>
              <a:path fill="darkenLess" w="25903" h="21600">
                <a:moveTo>
                  <a:pt x="15528" y="6448"/>
                </a:move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close/>
              </a:path>
              <a:path fill="darkenLess" w="25903" h="21600">
                <a:moveTo>
                  <a:pt x="12029" y="14299"/>
                </a:moveTo>
                <a:lnTo>
                  <a:pt x="13874" y="14299"/>
                </a:lnTo>
                <a:lnTo>
                  <a:pt x="13874" y="17989"/>
                </a:lnTo>
                <a:lnTo>
                  <a:pt x="18261" y="17989"/>
                </a:lnTo>
                <a:lnTo>
                  <a:pt x="18261" y="10800"/>
                </a:lnTo>
                <a:lnTo>
                  <a:pt x="7642" y="10800"/>
                </a:lnTo>
                <a:lnTo>
                  <a:pt x="7642" y="17989"/>
                </a:lnTo>
                <a:lnTo>
                  <a:pt x="1202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500" autoRev="1" fill="hold"/>
                                        <p:tgtEl>
                                          <p:spTgt spid="2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500" autoRev="1" fill="hold"/>
                                        <p:tgtEl>
                                          <p:spTgt spid="2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500" autoRev="1" fill="hold"/>
                                        <p:tgtEl>
                                          <p:spTgt spid="2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500" autoRev="1" fill="hold"/>
                                        <p:tgtEl>
                                          <p:spTgt spid="2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357200" y="1000080"/>
            <a:ext cx="73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При вводе текста придерживайтесь следующих </a:t>
            </a:r>
            <a:r>
              <a:rPr b="1" lang="ru-RU" sz="2800" spc="-1" strike="noStrike">
                <a:solidFill>
                  <a:srgbClr val="10253f"/>
                </a:solidFill>
                <a:latin typeface="Calibri"/>
              </a:rPr>
              <a:t>правил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Ввод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Горизонтальный свиток 4"/>
          <p:cNvSpPr/>
          <p:nvPr/>
        </p:nvSpPr>
        <p:spPr>
          <a:xfrm>
            <a:off x="642960" y="1571760"/>
            <a:ext cx="8215200" cy="5072040"/>
          </a:xfrm>
          <a:prstGeom prst="horizontalScroll">
            <a:avLst>
              <a:gd name="adj" fmla="val 7925"/>
            </a:avLst>
          </a:prstGeom>
          <a:solidFill>
            <a:srgbClr val="4f81bd"/>
          </a:solidFill>
          <a:ln w="25560">
            <a:solidFill>
              <a:srgbClr val="1e477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м, где это нужно, используйте прописные бук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се знаки препинания, кроме тире, ставьте сразу же за последней буквой слова; после любого знака препинания нажимайте клавишу Пробел. Тире выделяйте пробелами с двух стор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збегайте ввода подряд двух и более пробелов; не используйте пробел для выравнивания границ абза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е следите за концом строки: как только он будет достигнут, курсор автоматически перейдёт на начало следующей стр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ля перехода к вводу нового абзаца, нажмите клавишу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nter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Управляющая кнопка: домой 6">
            <a:hlinkClick r:id="" action="ppaction://hlinkshowjump?jump=firstslide"/>
          </p:cNvPr>
          <p:cNvSpPr/>
          <p:nvPr/>
        </p:nvSpPr>
        <p:spPr>
          <a:xfrm>
            <a:off x="8643960" y="6429240"/>
            <a:ext cx="428760" cy="35748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3" h="21600">
                <a:moveTo>
                  <a:pt x="12951" y="3837"/>
                </a:moveTo>
                <a:lnTo>
                  <a:pt x="15528" y="6448"/>
                </a:ln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lnTo>
                  <a:pt x="19914" y="10800"/>
                </a:lnTo>
                <a:lnTo>
                  <a:pt x="18261" y="10800"/>
                </a:lnTo>
                <a:lnTo>
                  <a:pt x="18261" y="17989"/>
                </a:lnTo>
                <a:lnTo>
                  <a:pt x="7642" y="17989"/>
                </a:lnTo>
                <a:lnTo>
                  <a:pt x="7642" y="10800"/>
                </a:lnTo>
                <a:lnTo>
                  <a:pt x="5988" y="10800"/>
                </a:lnTo>
                <a:close/>
              </a:path>
              <a:path fill="darkenLess" w="25903" h="21600">
                <a:moveTo>
                  <a:pt x="15528" y="6448"/>
                </a:move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close/>
              </a:path>
              <a:path fill="darkenLess" w="25903" h="21600">
                <a:moveTo>
                  <a:pt x="12029" y="14299"/>
                </a:moveTo>
                <a:lnTo>
                  <a:pt x="13874" y="14299"/>
                </a:lnTo>
                <a:lnTo>
                  <a:pt x="13874" y="17989"/>
                </a:lnTo>
                <a:lnTo>
                  <a:pt x="18261" y="17989"/>
                </a:lnTo>
                <a:lnTo>
                  <a:pt x="18261" y="10800"/>
                </a:lnTo>
                <a:lnTo>
                  <a:pt x="7642" y="10800"/>
                </a:lnTo>
                <a:lnTo>
                  <a:pt x="7642" y="17989"/>
                </a:lnTo>
                <a:lnTo>
                  <a:pt x="1202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213920" y="1142640"/>
            <a:ext cx="76438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0253f"/>
                </a:solidFill>
                <a:latin typeface="Calibri"/>
              </a:rPr>
              <a:t>Редактирование</a:t>
            </a:r>
            <a:r>
              <a:rPr b="0" lang="ru-RU" sz="2600" spc="-1" strike="noStrike">
                <a:solidFill>
                  <a:srgbClr val="10253f"/>
                </a:solidFill>
                <a:latin typeface="Calibri"/>
              </a:rPr>
              <a:t> – это очередной этап подготовки документа, начинающийся вслед за вводом информации, в результате которого происходит проверка документа на его правильность и исправляются обнаруженные ошибки, а так же вносятся необходимые измен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Редактирование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Схема 5" descr=""/>
          <p:cNvPicPr/>
          <p:nvPr/>
        </p:nvPicPr>
        <p:blipFill>
          <a:blip r:embed="rId1"/>
          <a:stretch/>
        </p:blipFill>
        <p:spPr>
          <a:xfrm>
            <a:off x="573120" y="4498920"/>
            <a:ext cx="8345520" cy="1792440"/>
          </a:xfrm>
          <a:prstGeom prst="rect">
            <a:avLst/>
          </a:prstGeom>
          <a:ln w="0">
            <a:noFill/>
          </a:ln>
        </p:spPr>
      </p:pic>
      <p:sp>
        <p:nvSpPr>
          <p:cNvPr id="253" name="Скругленный прямоугольник 6"/>
          <p:cNvSpPr/>
          <p:nvPr/>
        </p:nvSpPr>
        <p:spPr>
          <a:xfrm>
            <a:off x="642960" y="3786120"/>
            <a:ext cx="8215200" cy="5716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сновные операции редакт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7" descr="http://mechatronica-pro.com/upload/devblog/rtf/957_Pic_27scheme.png"/>
          <p:cNvPicPr/>
          <p:nvPr/>
        </p:nvPicPr>
        <p:blipFill>
          <a:blip r:embed="rId2"/>
          <a:stretch/>
        </p:blipFill>
        <p:spPr>
          <a:xfrm>
            <a:off x="2706840" y="4705200"/>
            <a:ext cx="493560" cy="489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http://mechatronica-pro.com/upload/devblog/rtf/957_Pic_27scheme.png"/>
          <p:cNvPicPr/>
          <p:nvPr/>
        </p:nvPicPr>
        <p:blipFill>
          <a:blip r:embed="rId3"/>
          <a:stretch/>
        </p:blipFill>
        <p:spPr>
          <a:xfrm>
            <a:off x="8137440" y="4705200"/>
            <a:ext cx="433440" cy="427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http://mechatronica-pro.com/upload/devblog/rtf/957_Pic_27scheme.png"/>
          <p:cNvPicPr/>
          <p:nvPr/>
        </p:nvPicPr>
        <p:blipFill>
          <a:blip r:embed="rId4"/>
          <a:stretch/>
        </p:blipFill>
        <p:spPr>
          <a:xfrm>
            <a:off x="5353200" y="4705200"/>
            <a:ext cx="493560" cy="489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142640" y="1143000"/>
            <a:ext cx="75438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При редактировании важно уметь перемещаться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по всему документу, подводя курсор к любому символу. Для этого предназначены специальные клавиши или комбинации клавиш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Редактирование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Группа 24"/>
          <p:cNvGrpSpPr/>
          <p:nvPr/>
        </p:nvGrpSpPr>
        <p:grpSpPr>
          <a:xfrm>
            <a:off x="1000080" y="3780000"/>
            <a:ext cx="7358040" cy="1935000"/>
            <a:chOff x="1000080" y="3780000"/>
            <a:chExt cx="7358040" cy="1935000"/>
          </a:xfrm>
        </p:grpSpPr>
        <p:pic>
          <p:nvPicPr>
            <p:cNvPr id="260" name="Скругленный 1" descr=""/>
            <p:cNvPicPr/>
            <p:nvPr/>
          </p:nvPicPr>
          <p:blipFill>
            <a:blip r:embed="rId1"/>
            <a:stretch/>
          </p:blipFill>
          <p:spPr>
            <a:xfrm>
              <a:off x="3482640" y="3780000"/>
              <a:ext cx="1992240" cy="8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Скругленный 2" descr=""/>
            <p:cNvPicPr/>
            <p:nvPr/>
          </p:nvPicPr>
          <p:blipFill>
            <a:blip r:embed="rId2"/>
            <a:stretch/>
          </p:blipFill>
          <p:spPr>
            <a:xfrm>
              <a:off x="3482640" y="4906080"/>
              <a:ext cx="2040480" cy="80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Скругленный 3" descr=""/>
            <p:cNvPicPr/>
            <p:nvPr/>
          </p:nvPicPr>
          <p:blipFill>
            <a:blip r:embed="rId3"/>
            <a:stretch/>
          </p:blipFill>
          <p:spPr>
            <a:xfrm>
              <a:off x="1000080" y="3780000"/>
              <a:ext cx="1495440" cy="8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Скругленный 4" descr=""/>
            <p:cNvPicPr/>
            <p:nvPr/>
          </p:nvPicPr>
          <p:blipFill>
            <a:blip r:embed="rId4"/>
            <a:stretch/>
          </p:blipFill>
          <p:spPr>
            <a:xfrm>
              <a:off x="1000080" y="4906080"/>
              <a:ext cx="1495440" cy="808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4" name="Группа 5"/>
            <p:cNvGrpSpPr/>
            <p:nvPr/>
          </p:nvGrpSpPr>
          <p:grpSpPr>
            <a:xfrm>
              <a:off x="6278760" y="4029480"/>
              <a:ext cx="2079360" cy="1260360"/>
              <a:chOff x="6278760" y="4029480"/>
              <a:chExt cx="2079360" cy="1260360"/>
            </a:xfrm>
          </p:grpSpPr>
          <p:pic>
            <p:nvPicPr>
              <p:cNvPr id="265" name="Прямоугольник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6278760" y="4646880"/>
                <a:ext cx="726480" cy="64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" name="Прямоугольник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6966360" y="4646880"/>
                <a:ext cx="698760" cy="64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Прямоугольник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7631640" y="4641840"/>
                <a:ext cx="726480" cy="64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Прямоугольник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6966360" y="4029480"/>
                <a:ext cx="698760" cy="642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9" name="TextBox 23"/>
          <p:cNvSpPr/>
          <p:nvPr/>
        </p:nvSpPr>
        <p:spPr>
          <a:xfrm>
            <a:off x="571680" y="2824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5a9e"/>
                </a:solidFill>
                <a:latin typeface="Calibri"/>
              </a:rPr>
              <a:t>а) Вспомним назначение клавиш перемещения курс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5"/>
          <p:cNvSpPr/>
          <p:nvPr/>
        </p:nvSpPr>
        <p:spPr>
          <a:xfrm>
            <a:off x="571680" y="2824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5a9e"/>
                </a:solidFill>
                <a:latin typeface="Calibri"/>
              </a:rPr>
              <a:t>б) Запомним назначение комбинаций клавиш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Группа 57"/>
          <p:cNvGrpSpPr/>
          <p:nvPr/>
        </p:nvGrpSpPr>
        <p:grpSpPr>
          <a:xfrm>
            <a:off x="785880" y="3286080"/>
            <a:ext cx="4286160" cy="559080"/>
            <a:chOff x="785880" y="3286080"/>
            <a:chExt cx="4286160" cy="559080"/>
          </a:xfrm>
        </p:grpSpPr>
        <p:pic>
          <p:nvPicPr>
            <p:cNvPr id="272" name="Скругленный 6" descr=""/>
            <p:cNvPicPr/>
            <p:nvPr/>
          </p:nvPicPr>
          <p:blipFill>
            <a:blip r:embed="rId9"/>
            <a:stretch/>
          </p:blipFill>
          <p:spPr>
            <a:xfrm>
              <a:off x="785880" y="3286080"/>
              <a:ext cx="11332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Прямоугольник 32" descr=""/>
            <p:cNvPicPr/>
            <p:nvPr/>
          </p:nvPicPr>
          <p:blipFill>
            <a:blip r:embed="rId10"/>
            <a:stretch/>
          </p:blipFill>
          <p:spPr>
            <a:xfrm>
              <a:off x="2075760" y="3286080"/>
              <a:ext cx="78336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Box 46"/>
            <p:cNvSpPr/>
            <p:nvPr/>
          </p:nvSpPr>
          <p:spPr>
            <a:xfrm>
              <a:off x="1822320" y="3324600"/>
              <a:ext cx="42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5a9e"/>
                  </a:solidFill>
                  <a:latin typeface="Calibri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51"/>
            <p:cNvSpPr/>
            <p:nvPr/>
          </p:nvSpPr>
          <p:spPr>
            <a:xfrm>
              <a:off x="2740680" y="3324600"/>
              <a:ext cx="233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17375e"/>
                  </a:solidFill>
                  <a:latin typeface="Calibri"/>
                </a:rPr>
                <a:t>- на слово вправо;</a:t>
              </a:r>
              <a:r>
                <a:rPr b="1" lang="ru-RU" sz="2800" spc="-1" strike="noStrike">
                  <a:solidFill>
                    <a:srgbClr val="17375e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Группа 58"/>
          <p:cNvGrpSpPr/>
          <p:nvPr/>
        </p:nvGrpSpPr>
        <p:grpSpPr>
          <a:xfrm>
            <a:off x="5072040" y="3357720"/>
            <a:ext cx="4214880" cy="562320"/>
            <a:chOff x="5072040" y="3357720"/>
            <a:chExt cx="4214880" cy="562320"/>
          </a:xfrm>
        </p:grpSpPr>
        <p:pic>
          <p:nvPicPr>
            <p:cNvPr id="277" name="Скругленный 6" descr=""/>
            <p:cNvPicPr/>
            <p:nvPr/>
          </p:nvPicPr>
          <p:blipFill>
            <a:blip r:embed="rId11"/>
            <a:stretch/>
          </p:blipFill>
          <p:spPr>
            <a:xfrm>
              <a:off x="5072040" y="3362400"/>
              <a:ext cx="113292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Прямоугольник 36" descr=""/>
            <p:cNvPicPr/>
            <p:nvPr/>
          </p:nvPicPr>
          <p:blipFill>
            <a:blip r:embed="rId12"/>
            <a:stretch/>
          </p:blipFill>
          <p:spPr>
            <a:xfrm>
              <a:off x="6361560" y="3357720"/>
              <a:ext cx="78336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Box 45"/>
            <p:cNvSpPr/>
            <p:nvPr/>
          </p:nvSpPr>
          <p:spPr>
            <a:xfrm>
              <a:off x="6108840" y="3399480"/>
              <a:ext cx="42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5a9e"/>
                  </a:solidFill>
                  <a:latin typeface="Calibri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52"/>
            <p:cNvSpPr/>
            <p:nvPr/>
          </p:nvSpPr>
          <p:spPr>
            <a:xfrm>
              <a:off x="6956640" y="3399480"/>
              <a:ext cx="233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17375e"/>
                  </a:solidFill>
                  <a:latin typeface="Calibri"/>
                </a:rPr>
                <a:t>- на слово влево;</a:t>
              </a:r>
              <a:r>
                <a:rPr b="1" lang="ru-RU" sz="2800" spc="-1" strike="noStrike">
                  <a:solidFill>
                    <a:srgbClr val="17375e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Группа 59"/>
          <p:cNvGrpSpPr/>
          <p:nvPr/>
        </p:nvGrpSpPr>
        <p:grpSpPr>
          <a:xfrm>
            <a:off x="785880" y="4000680"/>
            <a:ext cx="6215040" cy="559800"/>
            <a:chOff x="785880" y="4000680"/>
            <a:chExt cx="6215040" cy="559800"/>
          </a:xfrm>
        </p:grpSpPr>
        <p:pic>
          <p:nvPicPr>
            <p:cNvPr id="282" name="Скругленный 6" descr=""/>
            <p:cNvPicPr/>
            <p:nvPr/>
          </p:nvPicPr>
          <p:blipFill>
            <a:blip r:embed="rId13"/>
            <a:stretch/>
          </p:blipFill>
          <p:spPr>
            <a:xfrm>
              <a:off x="785880" y="4000680"/>
              <a:ext cx="11372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Скругленный 1" descr=""/>
            <p:cNvPicPr/>
            <p:nvPr/>
          </p:nvPicPr>
          <p:blipFill>
            <a:blip r:embed="rId14"/>
            <a:stretch/>
          </p:blipFill>
          <p:spPr>
            <a:xfrm>
              <a:off x="2134800" y="4000680"/>
              <a:ext cx="198396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Box 47"/>
            <p:cNvSpPr/>
            <p:nvPr/>
          </p:nvSpPr>
          <p:spPr>
            <a:xfrm>
              <a:off x="1825920" y="4039920"/>
              <a:ext cx="42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5a9e"/>
                  </a:solidFill>
                  <a:latin typeface="Calibri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53"/>
            <p:cNvSpPr/>
            <p:nvPr/>
          </p:nvSpPr>
          <p:spPr>
            <a:xfrm>
              <a:off x="4023720" y="4039920"/>
              <a:ext cx="297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17375e"/>
                  </a:solidFill>
                  <a:latin typeface="Calibri"/>
                </a:rPr>
                <a:t>- на страницу вверх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Группа 60"/>
          <p:cNvGrpSpPr/>
          <p:nvPr/>
        </p:nvGrpSpPr>
        <p:grpSpPr>
          <a:xfrm>
            <a:off x="785880" y="4714920"/>
            <a:ext cx="6215040" cy="560880"/>
            <a:chOff x="785880" y="4714920"/>
            <a:chExt cx="6215040" cy="560880"/>
          </a:xfrm>
        </p:grpSpPr>
        <p:pic>
          <p:nvPicPr>
            <p:cNvPr id="287" name="Скругленный 6" descr=""/>
            <p:cNvPicPr/>
            <p:nvPr/>
          </p:nvPicPr>
          <p:blipFill>
            <a:blip r:embed="rId15"/>
            <a:stretch/>
          </p:blipFill>
          <p:spPr>
            <a:xfrm>
              <a:off x="785880" y="4714920"/>
              <a:ext cx="11372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Скругленный 2" descr=""/>
            <p:cNvPicPr/>
            <p:nvPr/>
          </p:nvPicPr>
          <p:blipFill>
            <a:blip r:embed="rId16"/>
            <a:stretch/>
          </p:blipFill>
          <p:spPr>
            <a:xfrm>
              <a:off x="2134800" y="4714920"/>
              <a:ext cx="203256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TextBox 48"/>
            <p:cNvSpPr/>
            <p:nvPr/>
          </p:nvSpPr>
          <p:spPr>
            <a:xfrm>
              <a:off x="1825920" y="4755240"/>
              <a:ext cx="42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5a9e"/>
                  </a:solidFill>
                  <a:latin typeface="Calibri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54"/>
            <p:cNvSpPr/>
            <p:nvPr/>
          </p:nvSpPr>
          <p:spPr>
            <a:xfrm>
              <a:off x="4023720" y="4811040"/>
              <a:ext cx="297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17375e"/>
                  </a:solidFill>
                  <a:latin typeface="Calibri"/>
                </a:rPr>
                <a:t>- на страницу вниз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Группа 61"/>
          <p:cNvGrpSpPr/>
          <p:nvPr/>
        </p:nvGrpSpPr>
        <p:grpSpPr>
          <a:xfrm>
            <a:off x="785880" y="5429160"/>
            <a:ext cx="5715000" cy="557280"/>
            <a:chOff x="785880" y="5429160"/>
            <a:chExt cx="5715000" cy="557280"/>
          </a:xfrm>
        </p:grpSpPr>
        <p:pic>
          <p:nvPicPr>
            <p:cNvPr id="292" name="Скругленный 6" descr=""/>
            <p:cNvPicPr/>
            <p:nvPr/>
          </p:nvPicPr>
          <p:blipFill>
            <a:blip r:embed="rId17"/>
            <a:stretch/>
          </p:blipFill>
          <p:spPr>
            <a:xfrm>
              <a:off x="785880" y="5429160"/>
              <a:ext cx="113652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Скругленный 3" descr=""/>
            <p:cNvPicPr/>
            <p:nvPr/>
          </p:nvPicPr>
          <p:blipFill>
            <a:blip r:embed="rId18"/>
            <a:stretch/>
          </p:blipFill>
          <p:spPr>
            <a:xfrm>
              <a:off x="2133720" y="5429160"/>
              <a:ext cx="1487160" cy="5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Box 49"/>
            <p:cNvSpPr/>
            <p:nvPr/>
          </p:nvSpPr>
          <p:spPr>
            <a:xfrm>
              <a:off x="1825200" y="5465880"/>
              <a:ext cx="42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5a9e"/>
                  </a:solidFill>
                  <a:latin typeface="Calibri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Box 55"/>
            <p:cNvSpPr/>
            <p:nvPr/>
          </p:nvSpPr>
          <p:spPr>
            <a:xfrm>
              <a:off x="3525480" y="5522400"/>
              <a:ext cx="297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17375e"/>
                  </a:solidFill>
                  <a:latin typeface="Calibri"/>
                </a:rPr>
                <a:t>- в начало текста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Группа 62"/>
          <p:cNvGrpSpPr/>
          <p:nvPr/>
        </p:nvGrpSpPr>
        <p:grpSpPr>
          <a:xfrm>
            <a:off x="785880" y="6143760"/>
            <a:ext cx="5715000" cy="558000"/>
            <a:chOff x="785880" y="6143760"/>
            <a:chExt cx="5715000" cy="558000"/>
          </a:xfrm>
        </p:grpSpPr>
        <p:pic>
          <p:nvPicPr>
            <p:cNvPr id="297" name="Скругленный 6" descr=""/>
            <p:cNvPicPr/>
            <p:nvPr/>
          </p:nvPicPr>
          <p:blipFill>
            <a:blip r:embed="rId19"/>
            <a:stretch/>
          </p:blipFill>
          <p:spPr>
            <a:xfrm>
              <a:off x="785880" y="6143760"/>
              <a:ext cx="113652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Скругленный 4" descr=""/>
            <p:cNvPicPr/>
            <p:nvPr/>
          </p:nvPicPr>
          <p:blipFill>
            <a:blip r:embed="rId20"/>
            <a:stretch/>
          </p:blipFill>
          <p:spPr>
            <a:xfrm>
              <a:off x="2133720" y="6143760"/>
              <a:ext cx="148716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Box 50"/>
            <p:cNvSpPr/>
            <p:nvPr/>
          </p:nvSpPr>
          <p:spPr>
            <a:xfrm>
              <a:off x="1825200" y="6181200"/>
              <a:ext cx="42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5a9e"/>
                  </a:solidFill>
                  <a:latin typeface="Calibri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56"/>
            <p:cNvSpPr/>
            <p:nvPr/>
          </p:nvSpPr>
          <p:spPr>
            <a:xfrm>
              <a:off x="3525480" y="6237720"/>
              <a:ext cx="297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17375e"/>
                  </a:solidFill>
                  <a:latin typeface="Calibri"/>
                </a:rPr>
                <a:t>- в конец текст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Управляющая кнопка: домой 46">
            <a:hlinkClick r:id="" action="ppaction://hlinkshowjump?jump=firstslide"/>
          </p:cNvPr>
          <p:cNvSpPr/>
          <p:nvPr/>
        </p:nvSpPr>
        <p:spPr>
          <a:xfrm>
            <a:off x="8643960" y="6429240"/>
            <a:ext cx="428760" cy="35748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3" h="21600">
                <a:moveTo>
                  <a:pt x="12951" y="3837"/>
                </a:moveTo>
                <a:lnTo>
                  <a:pt x="15528" y="6448"/>
                </a:ln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lnTo>
                  <a:pt x="19914" y="10800"/>
                </a:lnTo>
                <a:lnTo>
                  <a:pt x="18261" y="10800"/>
                </a:lnTo>
                <a:lnTo>
                  <a:pt x="18261" y="17989"/>
                </a:lnTo>
                <a:lnTo>
                  <a:pt x="7642" y="17989"/>
                </a:lnTo>
                <a:lnTo>
                  <a:pt x="7642" y="10800"/>
                </a:lnTo>
                <a:lnTo>
                  <a:pt x="5988" y="10800"/>
                </a:lnTo>
                <a:close/>
              </a:path>
              <a:path fill="darkenLess" w="25903" h="21600">
                <a:moveTo>
                  <a:pt x="15528" y="6448"/>
                </a:move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close/>
              </a:path>
              <a:path fill="darkenLess" w="25903" h="21600">
                <a:moveTo>
                  <a:pt x="12029" y="14299"/>
                </a:moveTo>
                <a:lnTo>
                  <a:pt x="13874" y="14299"/>
                </a:lnTo>
                <a:lnTo>
                  <a:pt x="13874" y="17989"/>
                </a:lnTo>
                <a:lnTo>
                  <a:pt x="18261" y="17989"/>
                </a:lnTo>
                <a:lnTo>
                  <a:pt x="18261" y="10800"/>
                </a:lnTo>
                <a:lnTo>
                  <a:pt x="7642" y="10800"/>
                </a:lnTo>
                <a:lnTo>
                  <a:pt x="7642" y="17989"/>
                </a:lnTo>
                <a:lnTo>
                  <a:pt x="1202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Форматирование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071720" y="1142640"/>
            <a:ext cx="78580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0253f"/>
                </a:solidFill>
                <a:latin typeface="Calibri"/>
              </a:rPr>
              <a:t>Форматирование</a:t>
            </a:r>
            <a:r>
              <a:rPr b="0" lang="ru-RU" sz="2600" spc="-1" strike="noStrike">
                <a:solidFill>
                  <a:srgbClr val="10253f"/>
                </a:solidFill>
                <a:latin typeface="Calibri"/>
              </a:rPr>
              <a:t> – это один из этапов подготовки документа, в ходе которого совершаются различные операции по оформлению докумен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Скругленный прямоугольник 5"/>
          <p:cNvSpPr/>
          <p:nvPr/>
        </p:nvSpPr>
        <p:spPr>
          <a:xfrm>
            <a:off x="642960" y="2571840"/>
            <a:ext cx="8215200" cy="571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перации формат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Схема 6" descr=""/>
          <p:cNvPicPr/>
          <p:nvPr/>
        </p:nvPicPr>
        <p:blipFill>
          <a:blip r:embed="rId1"/>
          <a:stretch/>
        </p:blipFill>
        <p:spPr>
          <a:xfrm>
            <a:off x="706320" y="3200400"/>
            <a:ext cx="8156520" cy="337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Выравнивание абзац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00040" y="1928880"/>
            <a:ext cx="2858040" cy="2847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Данный текст выровнен влево (по левому краю). При этом левая граница абзаца образует прямую ли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Содержимое 2"/>
          <p:cNvSpPr/>
          <p:nvPr/>
        </p:nvSpPr>
        <p:spPr>
          <a:xfrm>
            <a:off x="3500280" y="1928880"/>
            <a:ext cx="2571840" cy="4214880"/>
          </a:xfrm>
          <a:prstGeom prst="flowChartDocumen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Данный текст выровнен по центру. При этом с обеих сторон каждой строки ширина свободного пространства одинак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Содержимое 2"/>
          <p:cNvSpPr/>
          <p:nvPr/>
        </p:nvSpPr>
        <p:spPr>
          <a:xfrm>
            <a:off x="6215040" y="1928880"/>
            <a:ext cx="2857680" cy="3543120"/>
          </a:xfrm>
          <a:prstGeom prst="flowChartDocumen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Данный текст выровнен вправо (по правому краю). При этом правая граница абзаца образует прямую ли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http://www.bestreferat.ru/images/paper/12/28/5792812.png"/>
          <p:cNvPicPr/>
          <p:nvPr/>
        </p:nvPicPr>
        <p:blipFill>
          <a:blip r:embed="rId1"/>
          <a:stretch/>
        </p:blipFill>
        <p:spPr>
          <a:xfrm>
            <a:off x="2395440" y="5614920"/>
            <a:ext cx="798480" cy="828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http://www.bestreferat.ru/images/paper/12/28/5792812.png"/>
          <p:cNvPicPr/>
          <p:nvPr/>
        </p:nvPicPr>
        <p:blipFill>
          <a:blip r:embed="rId2"/>
          <a:stretch/>
        </p:blipFill>
        <p:spPr>
          <a:xfrm>
            <a:off x="5327640" y="5614920"/>
            <a:ext cx="787320" cy="828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http://www.bestreferat.ru/images/paper/12/28/5792812.png"/>
          <p:cNvPicPr/>
          <p:nvPr/>
        </p:nvPicPr>
        <p:blipFill>
          <a:blip r:embed="rId3"/>
          <a:stretch/>
        </p:blipFill>
        <p:spPr>
          <a:xfrm>
            <a:off x="8186760" y="5614920"/>
            <a:ext cx="785880" cy="828720"/>
          </a:xfrm>
          <a:prstGeom prst="rect">
            <a:avLst/>
          </a:prstGeom>
          <a:ln w="0">
            <a:noFill/>
          </a:ln>
        </p:spPr>
      </p:pic>
      <p:sp>
        <p:nvSpPr>
          <p:cNvPr id="313" name="Прямая соединительная линия 9"/>
          <p:cNvSpPr/>
          <p:nvPr/>
        </p:nvSpPr>
        <p:spPr>
          <a:xfrm flipH="1">
            <a:off x="498600" y="1714680"/>
            <a:ext cx="1440" cy="3857400"/>
          </a:xfrm>
          <a:prstGeom prst="line">
            <a:avLst/>
          </a:prstGeom>
          <a:ln w="28440">
            <a:solidFill>
              <a:srgbClr val="10253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ая соединительная линия 10"/>
          <p:cNvSpPr/>
          <p:nvPr/>
        </p:nvSpPr>
        <p:spPr>
          <a:xfrm flipH="1">
            <a:off x="4784760" y="1785960"/>
            <a:ext cx="1440" cy="3857760"/>
          </a:xfrm>
          <a:prstGeom prst="line">
            <a:avLst/>
          </a:prstGeom>
          <a:ln w="28440">
            <a:solidFill>
              <a:srgbClr val="10253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ая соединительная линия 11"/>
          <p:cNvSpPr/>
          <p:nvPr/>
        </p:nvSpPr>
        <p:spPr>
          <a:xfrm flipH="1">
            <a:off x="9040320" y="1701720"/>
            <a:ext cx="1800" cy="3857760"/>
          </a:xfrm>
          <a:prstGeom prst="line">
            <a:avLst/>
          </a:prstGeom>
          <a:ln w="28440">
            <a:solidFill>
              <a:srgbClr val="10253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7" dur="50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500" autoRev="1" fill="hold"/>
                                        <p:tgtEl>
                                          <p:spTgt spid="3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500" autoRev="1" fill="hold"/>
                                        <p:tgtEl>
                                          <p:spTgt spid="3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071720" y="1214280"/>
            <a:ext cx="7929360" cy="30434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10253f"/>
                </a:solidFill>
                <a:latin typeface="Calibri"/>
              </a:rPr>
              <a:t>Нормальный шрифт ничем не выделяется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Полужирный шрифт темнее, он хорошо замет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10253f"/>
                </a:solidFill>
                <a:latin typeface="Calibri"/>
              </a:rPr>
              <a:t>Курсивный шрифт имеет накл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10253f"/>
                </a:solidFill>
                <a:uFillTx/>
                <a:latin typeface="Calibri"/>
              </a:rPr>
              <a:t>А так выглядит подчёркнутый шриф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Начертание шриф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4"/>
          <p:cNvSpPr/>
          <p:nvPr/>
        </p:nvSpPr>
        <p:spPr>
          <a:xfrm>
            <a:off x="1071720" y="45720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ля изменения начертания шрифта имеются инструмен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Скругленный прямоугольник 7"/>
          <p:cNvSpPr/>
          <p:nvPr/>
        </p:nvSpPr>
        <p:spPr>
          <a:xfrm>
            <a:off x="3500280" y="5572080"/>
            <a:ext cx="7146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Скругленный прямоугольник 8"/>
          <p:cNvSpPr/>
          <p:nvPr/>
        </p:nvSpPr>
        <p:spPr>
          <a:xfrm>
            <a:off x="4572000" y="5572080"/>
            <a:ext cx="714240" cy="714600"/>
          </a:xfrm>
          <a:custGeom>
            <a:avLst/>
            <a:gdLst>
              <a:gd name="textAreaLeft" fmla="*/ 34560 w 714240"/>
              <a:gd name="textAreaRight" fmla="*/ 679680 w 714240"/>
              <a:gd name="textAreaTop" fmla="*/ 34560 h 714600"/>
              <a:gd name="textAreaBottom" fmla="*/ 680040 h 71460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Скругленный прямоугольник 9"/>
          <p:cNvSpPr/>
          <p:nvPr/>
        </p:nvSpPr>
        <p:spPr>
          <a:xfrm>
            <a:off x="5643720" y="5572080"/>
            <a:ext cx="714240" cy="714600"/>
          </a:xfrm>
          <a:custGeom>
            <a:avLst/>
            <a:gdLst>
              <a:gd name="textAreaLeft" fmla="*/ 34560 w 714240"/>
              <a:gd name="textAreaRight" fmla="*/ 679680 w 714240"/>
              <a:gd name="textAreaTop" fmla="*/ 34560 h 714600"/>
              <a:gd name="textAreaBottom" fmla="*/ 680040 h 71460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142640" y="5029200"/>
            <a:ext cx="7729560" cy="14716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Для вывода документа на бумагу </a:t>
            </a:r>
            <a:br>
              <a:rPr sz="3000"/>
            </a:b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к компьютеру подключается печатающее устройство – </a:t>
            </a:r>
            <a:r>
              <a:rPr b="1" i="1" lang="ru-RU" sz="3000" spc="-1" strike="noStrike">
                <a:solidFill>
                  <a:srgbClr val="10253f"/>
                </a:solidFill>
                <a:latin typeface="Calibri"/>
              </a:rPr>
              <a:t>принте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ечать докумен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Схема 8" descr=""/>
          <p:cNvPicPr/>
          <p:nvPr/>
        </p:nvPicPr>
        <p:blipFill>
          <a:blip r:embed="rId1"/>
          <a:stretch/>
        </p:blipFill>
        <p:spPr>
          <a:xfrm>
            <a:off x="987480" y="1139760"/>
            <a:ext cx="7308720" cy="34387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3" descr="http://www.allshops.ro/files/clients/75/479/p/54/konica-minolta---promotie-imprimanta-pagepro-1350w--cadou-628981.jpeg"/>
          <p:cNvPicPr/>
          <p:nvPr/>
        </p:nvPicPr>
        <p:blipFill>
          <a:blip r:embed="rId2"/>
          <a:stretch/>
        </p:blipFill>
        <p:spPr>
          <a:xfrm>
            <a:off x="6854760" y="1285920"/>
            <a:ext cx="1908360" cy="1643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42960" y="1052280"/>
            <a:ext cx="80438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екст — это любое словесное высказывание, напечатанное, написанное или существующее в устной форме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нформация, представленная в форме письменного текста, называется текстовой информацие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ля обработки текстовой информации предназначены специальные программы — текстовые редакторы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Любой текст, созданный с помощью текстового редактора, вместе с включёнными в него нетекстовыми материалами называют документо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дготовка документа на компьютере состоит из таких этапов,  как ввод (набор), редактирование и форматировани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Управляющая кнопка: домой 6">
            <a:hlinkClick r:id="" action="ppaction://hlinkshowjump?jump=firstslide"/>
          </p:cNvPr>
          <p:cNvSpPr/>
          <p:nvPr/>
        </p:nvSpPr>
        <p:spPr>
          <a:xfrm>
            <a:off x="8643960" y="6429240"/>
            <a:ext cx="428760" cy="35748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3" h="21600">
                <a:moveTo>
                  <a:pt x="12951" y="3837"/>
                </a:moveTo>
                <a:lnTo>
                  <a:pt x="15528" y="6448"/>
                </a:ln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lnTo>
                  <a:pt x="19914" y="10800"/>
                </a:lnTo>
                <a:lnTo>
                  <a:pt x="18261" y="10800"/>
                </a:lnTo>
                <a:lnTo>
                  <a:pt x="18261" y="17989"/>
                </a:lnTo>
                <a:lnTo>
                  <a:pt x="7642" y="17989"/>
                </a:lnTo>
                <a:lnTo>
                  <a:pt x="7642" y="10800"/>
                </a:lnTo>
                <a:lnTo>
                  <a:pt x="5988" y="10800"/>
                </a:lnTo>
                <a:close/>
              </a:path>
              <a:path fill="darkenLess" w="25903" h="21600">
                <a:moveTo>
                  <a:pt x="15528" y="6448"/>
                </a:move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close/>
              </a:path>
              <a:path fill="darkenLess" w="25903" h="21600">
                <a:moveTo>
                  <a:pt x="12029" y="14299"/>
                </a:moveTo>
                <a:lnTo>
                  <a:pt x="13874" y="14299"/>
                </a:lnTo>
                <a:lnTo>
                  <a:pt x="13874" y="17989"/>
                </a:lnTo>
                <a:lnTo>
                  <a:pt x="18261" y="17989"/>
                </a:lnTo>
                <a:lnTo>
                  <a:pt x="18261" y="10800"/>
                </a:lnTo>
                <a:lnTo>
                  <a:pt x="7642" y="10800"/>
                </a:lnTo>
                <a:lnTo>
                  <a:pt x="7642" y="17989"/>
                </a:lnTo>
                <a:lnTo>
                  <a:pt x="1202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Содержимое 2"/>
          <p:cNvSpPr/>
          <p:nvPr/>
        </p:nvSpPr>
        <p:spPr>
          <a:xfrm>
            <a:off x="1143000" y="1000080"/>
            <a:ext cx="77295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1. Превратите одно слово в другое, всякий раз заменяя по одной букве так, чтобы новое слово было существительным в именительном падеже, используя подсказ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523960" y="2714760"/>
          <a:ext cx="1833840" cy="2315880"/>
        </p:xfrm>
        <a:graphic>
          <a:graphicData uri="http://schemas.openxmlformats.org/drawingml/2006/table">
            <a:tbl>
              <a:tblPr/>
              <a:tblGrid>
                <a:gridCol w="183384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КАР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КОЗ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Прямоугольник 8"/>
          <p:cNvSpPr/>
          <p:nvPr/>
        </p:nvSpPr>
        <p:spPr>
          <a:xfrm>
            <a:off x="945000" y="2714760"/>
            <a:ext cx="4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9"/>
          <p:cNvSpPr/>
          <p:nvPr/>
        </p:nvSpPr>
        <p:spPr>
          <a:xfrm>
            <a:off x="1016280" y="342900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1. Наказ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10"/>
          <p:cNvSpPr/>
          <p:nvPr/>
        </p:nvSpPr>
        <p:spPr>
          <a:xfrm>
            <a:off x="1031400" y="398772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2. Древес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11"/>
          <p:cNvSpPr/>
          <p:nvPr/>
        </p:nvSpPr>
        <p:spPr>
          <a:xfrm>
            <a:off x="5301360" y="271476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12"/>
          <p:cNvSpPr/>
          <p:nvPr/>
        </p:nvSpPr>
        <p:spPr>
          <a:xfrm>
            <a:off x="5344560" y="34290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1. 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13"/>
          <p:cNvSpPr/>
          <p:nvPr/>
        </p:nvSpPr>
        <p:spPr>
          <a:xfrm>
            <a:off x="5286240" y="40719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2. Домашнее живо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6929280" y="2714760"/>
          <a:ext cx="1833840" cy="2315880"/>
        </p:xfrm>
        <a:graphic>
          <a:graphicData uri="http://schemas.openxmlformats.org/drawingml/2006/table">
            <a:tbl>
              <a:tblPr/>
              <a:tblGrid>
                <a:gridCol w="183384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ВО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КИ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0" name="Picture 38" descr="http://www.orel-region.ru/kadastr/images/14.jpg"/>
          <p:cNvPicPr/>
          <p:nvPr/>
        </p:nvPicPr>
        <p:blipFill>
          <a:blip r:embed="rId1"/>
          <a:stretch/>
        </p:blipFill>
        <p:spPr>
          <a:xfrm>
            <a:off x="1285920" y="4929120"/>
            <a:ext cx="2217600" cy="13176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6" descr="http://www.lenagold.ru/fon/clipart/k/koza/kozel01.png"/>
          <p:cNvPicPr/>
          <p:nvPr/>
        </p:nvPicPr>
        <p:blipFill>
          <a:blip r:embed="rId2"/>
          <a:stretch/>
        </p:blipFill>
        <p:spPr>
          <a:xfrm>
            <a:off x="3429000" y="4695840"/>
            <a:ext cx="1481040" cy="18050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8" descr="http://www.patriotfiles.com/archive/319thbombgroup/images/Bull1.jpg"/>
          <p:cNvPicPr/>
          <p:nvPr/>
        </p:nvPicPr>
        <p:blipFill>
          <a:blip r:embed="rId3"/>
          <a:stretch/>
        </p:blipFill>
        <p:spPr>
          <a:xfrm>
            <a:off x="5357880" y="4572000"/>
            <a:ext cx="1785960" cy="18064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2" descr="http://cdn.dailyclipart.net/wp-content/uploads/small/clipart0053.jpg"/>
          <p:cNvPicPr/>
          <p:nvPr/>
        </p:nvPicPr>
        <p:blipFill>
          <a:blip r:embed="rId4"/>
          <a:stretch/>
        </p:blipFill>
        <p:spPr>
          <a:xfrm>
            <a:off x="6572160" y="5000760"/>
            <a:ext cx="2381400" cy="14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ек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екстовый докуме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екстовый редакт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авила ввода тек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едакт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ормат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9720" y="-36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Текст как форма 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едставления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43000" y="3928680"/>
            <a:ext cx="7586640" cy="142884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Информация, представленная в форме письменного текста, называется </a:t>
            </a: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текстовой информаци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Содержимое 5"/>
          <p:cNvSpPr/>
          <p:nvPr/>
        </p:nvSpPr>
        <p:spPr>
          <a:xfrm>
            <a:off x="1643040" y="1671480"/>
            <a:ext cx="7215120" cy="19004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Текст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– это любое словесное высказывание напечатанное, написанное или существующее в устной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63360" y="-136440"/>
            <a:ext cx="5181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1" descr="http://afrus.ru/samara/sites/afrus.ru.samara/files/fichiers/images/2010/otzyvy.jpg"/>
          <p:cNvPicPr/>
          <p:nvPr/>
        </p:nvPicPr>
        <p:blipFill>
          <a:blip r:embed="rId1"/>
          <a:stretch/>
        </p:blipFill>
        <p:spPr>
          <a:xfrm>
            <a:off x="5857920" y="45720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68" name="Овал 7"/>
          <p:cNvSpPr/>
          <p:nvPr/>
        </p:nvSpPr>
        <p:spPr>
          <a:xfrm>
            <a:off x="500040" y="20718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213920" y="1356840"/>
            <a:ext cx="7472520" cy="1685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пуск, замена или перестановка хотя бы одного символа в тексте подчас изменяет его смыс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Удивительный фа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Прямоугольник 4" descr=""/>
          <p:cNvPicPr/>
          <p:nvPr/>
        </p:nvPicPr>
        <p:blipFill>
          <a:blip r:embed="rId1"/>
          <a:stretch/>
        </p:blipFill>
        <p:spPr>
          <a:xfrm>
            <a:off x="1158840" y="3402000"/>
            <a:ext cx="7461360" cy="1243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C:\Documents and Settings\Елена\Local Settings\Temporary Internet Files\Content.IE5\TV3VPPCE\MC900434411[1].wmf"/>
          <p:cNvPicPr/>
          <p:nvPr/>
        </p:nvPicPr>
        <p:blipFill>
          <a:blip r:embed="rId2"/>
          <a:stretch/>
        </p:blipFill>
        <p:spPr>
          <a:xfrm>
            <a:off x="3660840" y="4600440"/>
            <a:ext cx="1625400" cy="182880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6" descr=""/>
          <p:cNvPicPr/>
          <p:nvPr/>
        </p:nvPicPr>
        <p:blipFill>
          <a:blip r:embed="rId3"/>
          <a:stretch/>
        </p:blipFill>
        <p:spPr>
          <a:xfrm>
            <a:off x="1170000" y="3382920"/>
            <a:ext cx="7242120" cy="1262160"/>
          </a:xfrm>
          <a:prstGeom prst="rect">
            <a:avLst/>
          </a:prstGeom>
          <a:ln w="0">
            <a:noFill/>
          </a:ln>
        </p:spPr>
      </p:pic>
      <p:grpSp>
        <p:nvGrpSpPr>
          <p:cNvPr id="174" name="Группа 8"/>
          <p:cNvGrpSpPr/>
          <p:nvPr/>
        </p:nvGrpSpPr>
        <p:grpSpPr>
          <a:xfrm>
            <a:off x="3071880" y="3692520"/>
            <a:ext cx="3071880" cy="2451240"/>
            <a:chOff x="3071880" y="3692520"/>
            <a:chExt cx="3071880" cy="2451240"/>
          </a:xfrm>
        </p:grpSpPr>
        <p:sp>
          <p:nvSpPr>
            <p:cNvPr id="175" name="Овал 7"/>
            <p:cNvSpPr/>
            <p:nvPr/>
          </p:nvSpPr>
          <p:spPr>
            <a:xfrm>
              <a:off x="4000680" y="4786200"/>
              <a:ext cx="1143000" cy="1000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Picture 5" descr="http://rudocs.exdat.com/pars_docs/tw_refs/527/526099/526099_html_1c2d40d4.jpg"/>
            <p:cNvPicPr/>
            <p:nvPr/>
          </p:nvPicPr>
          <p:blipFill>
            <a:blip r:embed="rId4"/>
            <a:stretch/>
          </p:blipFill>
          <p:spPr>
            <a:xfrm>
              <a:off x="3071880" y="3692520"/>
              <a:ext cx="3071880" cy="2451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071720" y="5429160"/>
            <a:ext cx="7657920" cy="11145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На протяжении тысячелетий 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люди записывали информац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Носители текстовой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9" descr="http://mysavior.info/media/image_files/articles/archaeology-nt/stone-inscription.png"/>
          <p:cNvPicPr/>
          <p:nvPr/>
        </p:nvPicPr>
        <p:blipFill>
          <a:blip r:embed="rId1"/>
          <a:stretch/>
        </p:blipFill>
        <p:spPr>
          <a:xfrm>
            <a:off x="571680" y="3000240"/>
            <a:ext cx="1500120" cy="2167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http://www.sati.archaeology.nsc.ru/sibirica/img/news/01008600"/>
          <p:cNvPicPr/>
          <p:nvPr/>
        </p:nvPicPr>
        <p:blipFill>
          <a:blip r:embed="rId2"/>
          <a:stretch/>
        </p:blipFill>
        <p:spPr>
          <a:xfrm>
            <a:off x="523800" y="1214280"/>
            <a:ext cx="2476440" cy="18576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9"/>
          <p:cNvSpPr/>
          <p:nvPr/>
        </p:nvSpPr>
        <p:spPr>
          <a:xfrm>
            <a:off x="7358040" y="1357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</a:rPr>
              <a:t>Кам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7358040" y="178596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Г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2"/>
          <p:cNvSpPr/>
          <p:nvPr/>
        </p:nvSpPr>
        <p:spPr>
          <a:xfrm>
            <a:off x="7358040" y="217656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</a:rPr>
              <a:t>Дер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3"/>
          <p:cNvSpPr/>
          <p:nvPr/>
        </p:nvSpPr>
        <p:spPr>
          <a:xfrm>
            <a:off x="7358040" y="300024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</a:rPr>
              <a:t>Папир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4"/>
          <p:cNvSpPr/>
          <p:nvPr/>
        </p:nvSpPr>
        <p:spPr>
          <a:xfrm>
            <a:off x="7358040" y="342900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Перг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5"/>
          <p:cNvSpPr/>
          <p:nvPr/>
        </p:nvSpPr>
        <p:spPr>
          <a:xfrm>
            <a:off x="7358040" y="385776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</a:rPr>
              <a:t>Бума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D:\Личные_документы\Елена\Школа_информатика\Школа_3\материал по темам\носители информации\картинки\папирус3.jpg"/>
          <p:cNvPicPr/>
          <p:nvPr/>
        </p:nvPicPr>
        <p:blipFill>
          <a:blip r:embed="rId3"/>
          <a:stretch/>
        </p:blipFill>
        <p:spPr>
          <a:xfrm>
            <a:off x="2662200" y="1566720"/>
            <a:ext cx="2481480" cy="1881360"/>
          </a:xfrm>
          <a:prstGeom prst="rect">
            <a:avLst/>
          </a:prstGeom>
          <a:ln w="9360">
            <a:solidFill>
              <a:srgbClr val="c4bd9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88" name="Picture 2" descr="D:\Личные_документы\Елена\Школа_информатика\Школа_3\материал по темам\носители информации\картинки\китайская бумага.jpg"/>
          <p:cNvPicPr/>
          <p:nvPr/>
        </p:nvPicPr>
        <p:blipFill>
          <a:blip r:embed="rId4"/>
          <a:stretch/>
        </p:blipFill>
        <p:spPr>
          <a:xfrm>
            <a:off x="5000760" y="3618000"/>
            <a:ext cx="2239920" cy="162864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24" descr=""/>
          <p:cNvPicPr/>
          <p:nvPr/>
        </p:nvPicPr>
        <p:blipFill>
          <a:blip r:embed="rId5"/>
          <a:stretch/>
        </p:blipFill>
        <p:spPr>
          <a:xfrm>
            <a:off x="6943680" y="3676680"/>
            <a:ext cx="2316240" cy="2035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D:\Личные_документы\Елена\Школа_информатика\Школа_3\материал по темам\носители информации\картинки\пергамент 919 год.jpg"/>
          <p:cNvPicPr/>
          <p:nvPr/>
        </p:nvPicPr>
        <p:blipFill>
          <a:blip r:embed="rId6">
            <a:lum contrast="20000"/>
          </a:blip>
          <a:stretch/>
        </p:blipFill>
        <p:spPr>
          <a:xfrm>
            <a:off x="4962600" y="1301760"/>
            <a:ext cx="2395440" cy="2055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7" descr="http://www.graycell.ru/picture/big/gramota.jpg"/>
          <p:cNvPicPr/>
          <p:nvPr/>
        </p:nvPicPr>
        <p:blipFill>
          <a:blip r:embed="rId7"/>
          <a:stretch/>
        </p:blipFill>
        <p:spPr>
          <a:xfrm>
            <a:off x="2000160" y="3571920"/>
            <a:ext cx="3000600" cy="157176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7"/>
          <p:cNvSpPr/>
          <p:nvPr/>
        </p:nvSpPr>
        <p:spPr>
          <a:xfrm>
            <a:off x="7358040" y="260496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Бер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Управляющая кнопка: домой 17">
            <a:hlinkClick r:id="" action="ppaction://hlinkshowjump?jump=firstslide"/>
          </p:cNvPr>
          <p:cNvSpPr/>
          <p:nvPr/>
        </p:nvSpPr>
        <p:spPr>
          <a:xfrm>
            <a:off x="8643960" y="6429240"/>
            <a:ext cx="428760" cy="35748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3" h="21600">
                <a:moveTo>
                  <a:pt x="12951" y="3837"/>
                </a:moveTo>
                <a:lnTo>
                  <a:pt x="15528" y="6448"/>
                </a:ln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lnTo>
                  <a:pt x="19914" y="10800"/>
                </a:lnTo>
                <a:lnTo>
                  <a:pt x="18261" y="10800"/>
                </a:lnTo>
                <a:lnTo>
                  <a:pt x="18261" y="17989"/>
                </a:lnTo>
                <a:lnTo>
                  <a:pt x="7642" y="17989"/>
                </a:lnTo>
                <a:lnTo>
                  <a:pt x="7642" y="10800"/>
                </a:lnTo>
                <a:lnTo>
                  <a:pt x="5988" y="10800"/>
                </a:lnTo>
                <a:close/>
              </a:path>
              <a:path fill="darkenLess" w="25903" h="21600">
                <a:moveTo>
                  <a:pt x="15528" y="6448"/>
                </a:move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close/>
              </a:path>
              <a:path fill="darkenLess" w="25903" h="21600">
                <a:moveTo>
                  <a:pt x="12029" y="14299"/>
                </a:moveTo>
                <a:lnTo>
                  <a:pt x="13874" y="14299"/>
                </a:lnTo>
                <a:lnTo>
                  <a:pt x="13874" y="17989"/>
                </a:lnTo>
                <a:lnTo>
                  <a:pt x="18261" y="17989"/>
                </a:lnTo>
                <a:lnTo>
                  <a:pt x="18261" y="10800"/>
                </a:lnTo>
                <a:lnTo>
                  <a:pt x="7642" y="10800"/>
                </a:lnTo>
                <a:lnTo>
                  <a:pt x="7642" y="17989"/>
                </a:lnTo>
                <a:lnTo>
                  <a:pt x="1202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4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500" autoRev="1" fill="hold"/>
                                        <p:tgtEl>
                                          <p:spTgt spid="1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285920" y="1285920"/>
            <a:ext cx="7500960" cy="19000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 u="sng">
                <a:solidFill>
                  <a:srgbClr val="17375e"/>
                </a:solidFill>
                <a:uFillTx/>
                <a:latin typeface="Calibri"/>
              </a:rPr>
              <a:t>Документ 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– любой текст, созданный с помощью текстового редактора, вместе с включёнными в него нетекстовыми материал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Текстовые докумен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Скругленный прямоугольник 7"/>
          <p:cNvGrpSpPr/>
          <p:nvPr/>
        </p:nvGrpSpPr>
        <p:grpSpPr>
          <a:xfrm>
            <a:off x="2584440" y="3249720"/>
            <a:ext cx="4114800" cy="755640"/>
            <a:chOff x="2584440" y="3249720"/>
            <a:chExt cx="4114800" cy="755640"/>
          </a:xfrm>
        </p:grpSpPr>
        <p:pic>
          <p:nvPicPr>
            <p:cNvPr id="197" name="Скругленный 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2584440" y="3249720"/>
              <a:ext cx="41148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4"/>
            <p:cNvSpPr/>
            <p:nvPr/>
          </p:nvSpPr>
          <p:spPr>
            <a:xfrm>
              <a:off x="2674800" y="3317760"/>
              <a:ext cx="3936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Текстовый докумен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Скругленный прямоугольник 8"/>
          <p:cNvSpPr/>
          <p:nvPr/>
        </p:nvSpPr>
        <p:spPr>
          <a:xfrm>
            <a:off x="500040" y="4071960"/>
            <a:ext cx="2143080" cy="6429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Стат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кругленный прямоугольник 9"/>
          <p:cNvSpPr/>
          <p:nvPr/>
        </p:nvSpPr>
        <p:spPr>
          <a:xfrm>
            <a:off x="1000080" y="5000760"/>
            <a:ext cx="2143080" cy="6429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Докл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кругленный прямоугольник 10"/>
          <p:cNvSpPr/>
          <p:nvPr/>
        </p:nvSpPr>
        <p:spPr>
          <a:xfrm>
            <a:off x="2214720" y="5786280"/>
            <a:ext cx="2143080" cy="6429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Расск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11"/>
          <p:cNvSpPr/>
          <p:nvPr/>
        </p:nvSpPr>
        <p:spPr>
          <a:xfrm>
            <a:off x="4786200" y="5786280"/>
            <a:ext cx="2214720" cy="6429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Стихотвор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кругленный прямоугольник 12"/>
          <p:cNvSpPr/>
          <p:nvPr/>
        </p:nvSpPr>
        <p:spPr>
          <a:xfrm>
            <a:off x="6643800" y="4071960"/>
            <a:ext cx="2143080" cy="6429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Пригла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13"/>
          <p:cNvSpPr/>
          <p:nvPr/>
        </p:nvSpPr>
        <p:spPr>
          <a:xfrm>
            <a:off x="6143760" y="4929120"/>
            <a:ext cx="2143080" cy="6429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Объя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Прямая со стрелкой 16"/>
          <p:cNvCxnSpPr>
            <a:endCxn id="201" idx="0"/>
          </p:cNvCxnSpPr>
          <p:nvPr/>
        </p:nvCxnSpPr>
        <p:spPr>
          <a:xfrm flipH="1">
            <a:off x="3285720" y="3928680"/>
            <a:ext cx="1357920" cy="1857960"/>
          </a:xfrm>
          <a:prstGeom prst="straightConnector1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</p:cxnSp>
      <p:cxnSp>
        <p:nvCxnSpPr>
          <p:cNvPr id="206" name="Прямая со стрелкой 18"/>
          <p:cNvCxnSpPr>
            <a:endCxn id="200" idx="3"/>
          </p:cNvCxnSpPr>
          <p:nvPr/>
        </p:nvCxnSpPr>
        <p:spPr>
          <a:xfrm flipH="1">
            <a:off x="3142440" y="3929040"/>
            <a:ext cx="1500840" cy="1394640"/>
          </a:xfrm>
          <a:prstGeom prst="straightConnector1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</p:cxnSp>
      <p:cxnSp>
        <p:nvCxnSpPr>
          <p:cNvPr id="207" name="Прямая со стрелкой 20"/>
          <p:cNvCxnSpPr>
            <a:endCxn id="199" idx="3"/>
          </p:cNvCxnSpPr>
          <p:nvPr/>
        </p:nvCxnSpPr>
        <p:spPr>
          <a:xfrm flipH="1">
            <a:off x="2642760" y="3929040"/>
            <a:ext cx="2000880" cy="465840"/>
          </a:xfrm>
          <a:prstGeom prst="straightConnector1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</p:cxnSp>
      <p:cxnSp>
        <p:nvCxnSpPr>
          <p:cNvPr id="208" name="Прямая со стрелкой 22"/>
          <p:cNvCxnSpPr>
            <a:endCxn id="202" idx="0"/>
          </p:cNvCxnSpPr>
          <p:nvPr/>
        </p:nvCxnSpPr>
        <p:spPr>
          <a:xfrm>
            <a:off x="4642200" y="3928680"/>
            <a:ext cx="1251720" cy="1857960"/>
          </a:xfrm>
          <a:prstGeom prst="straightConnector1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</p:cxnSp>
      <p:cxnSp>
        <p:nvCxnSpPr>
          <p:cNvPr id="209" name="Прямая со стрелкой 24"/>
          <p:cNvCxnSpPr>
            <a:endCxn id="204" idx="1"/>
          </p:cNvCxnSpPr>
          <p:nvPr/>
        </p:nvCxnSpPr>
        <p:spPr>
          <a:xfrm>
            <a:off x="4643280" y="3928680"/>
            <a:ext cx="1501200" cy="1321200"/>
          </a:xfrm>
          <a:prstGeom prst="straightConnector1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</p:cxnSp>
      <p:cxnSp>
        <p:nvCxnSpPr>
          <p:cNvPr id="210" name="Прямая со стрелкой 26"/>
          <p:cNvCxnSpPr>
            <a:endCxn id="203" idx="1"/>
          </p:cNvCxnSpPr>
          <p:nvPr/>
        </p:nvCxnSpPr>
        <p:spPr>
          <a:xfrm>
            <a:off x="4642200" y="3929040"/>
            <a:ext cx="2001240" cy="464400"/>
          </a:xfrm>
          <a:prstGeom prst="straightConnector1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</p:cxnSp>
    </p:spTree>
  </p:cSld>
  <p:transition spd="med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Объекты текстового докумен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85560" y="1571760"/>
            <a:ext cx="371484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сновными объектами текстового документа являются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2159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имво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лов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2159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тро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бза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траниц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фрагмен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D:\Личные_документы\Елена\КАРТИНКИ\пк и книги.jpg"/>
          <p:cNvPicPr/>
          <p:nvPr/>
        </p:nvPicPr>
        <p:blipFill>
          <a:blip r:embed="rId1"/>
          <a:stretch/>
        </p:blipFill>
        <p:spPr>
          <a:xfrm>
            <a:off x="5214960" y="1714680"/>
            <a:ext cx="3595680" cy="4429080"/>
          </a:xfrm>
          <a:prstGeom prst="rect">
            <a:avLst/>
          </a:prstGeom>
          <a:ln w="0">
            <a:noFill/>
          </a:ln>
        </p:spPr>
      </p:pic>
      <p:sp>
        <p:nvSpPr>
          <p:cNvPr id="214" name="Управляющая кнопка: домой 6">
            <a:hlinkClick r:id="" action="ppaction://hlinkshowjump?jump=firstslide"/>
          </p:cNvPr>
          <p:cNvSpPr/>
          <p:nvPr/>
        </p:nvSpPr>
        <p:spPr>
          <a:xfrm>
            <a:off x="8643960" y="6429240"/>
            <a:ext cx="428760" cy="35748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3" h="21600">
                <a:moveTo>
                  <a:pt x="12951" y="3837"/>
                </a:moveTo>
                <a:lnTo>
                  <a:pt x="15528" y="6448"/>
                </a:ln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lnTo>
                  <a:pt x="19914" y="10800"/>
                </a:lnTo>
                <a:lnTo>
                  <a:pt x="18261" y="10800"/>
                </a:lnTo>
                <a:lnTo>
                  <a:pt x="18261" y="17989"/>
                </a:lnTo>
                <a:lnTo>
                  <a:pt x="7642" y="17989"/>
                </a:lnTo>
                <a:lnTo>
                  <a:pt x="7642" y="10800"/>
                </a:lnTo>
                <a:lnTo>
                  <a:pt x="5988" y="10800"/>
                </a:lnTo>
                <a:close/>
              </a:path>
              <a:path fill="darkenLess" w="25903" h="21600">
                <a:moveTo>
                  <a:pt x="15528" y="6448"/>
                </a:move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close/>
              </a:path>
              <a:path fill="darkenLess" w="25903" h="21600">
                <a:moveTo>
                  <a:pt x="12029" y="14299"/>
                </a:moveTo>
                <a:lnTo>
                  <a:pt x="13874" y="14299"/>
                </a:lnTo>
                <a:lnTo>
                  <a:pt x="13874" y="17989"/>
                </a:lnTo>
                <a:lnTo>
                  <a:pt x="18261" y="17989"/>
                </a:lnTo>
                <a:lnTo>
                  <a:pt x="18261" y="10800"/>
                </a:lnTo>
                <a:lnTo>
                  <a:pt x="7642" y="10800"/>
                </a:lnTo>
                <a:lnTo>
                  <a:pt x="7642" y="17989"/>
                </a:lnTo>
                <a:lnTo>
                  <a:pt x="1202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Современный помощ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928800" y="1785960"/>
            <a:ext cx="3643200" cy="2876400"/>
          </a:xfrm>
          <a:prstGeom prst="rect">
            <a:avLst/>
          </a:prstGeom>
          <a:ln w="0">
            <a:noFill/>
          </a:ln>
        </p:spPr>
      </p:pic>
      <p:pic>
        <p:nvPicPr>
          <p:cNvPr id="217" name="Схема 8" descr=""/>
          <p:cNvPicPr/>
          <p:nvPr/>
        </p:nvPicPr>
        <p:blipFill>
          <a:blip r:embed="rId2"/>
          <a:stretch/>
        </p:blipFill>
        <p:spPr>
          <a:xfrm>
            <a:off x="3754440" y="1603440"/>
            <a:ext cx="6108840" cy="47736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1213920" y="4786200"/>
            <a:ext cx="3286440" cy="15004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Calibri"/>
              </a:rPr>
              <a:t>Возможности компьютера </a:t>
            </a:r>
            <a:br>
              <a:rPr sz="2600"/>
            </a:br>
            <a:r>
              <a:rPr b="0" lang="ru-RU" sz="2600" spc="-1" strike="noStrike">
                <a:solidFill>
                  <a:srgbClr val="17375e"/>
                </a:solidFill>
                <a:latin typeface="Calibri"/>
              </a:rPr>
              <a:t>при работе с текст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214280" y="5314680"/>
            <a:ext cx="7715520" cy="13287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0253f"/>
                </a:solidFill>
                <a:latin typeface="Calibri"/>
              </a:rPr>
              <a:t>На любом компьютере установлены специальные  программы, предназначенные для создания текстов, - </a:t>
            </a:r>
            <a:r>
              <a:rPr b="1" i="1" lang="ru-RU" sz="2600" spc="-1" strike="noStrike">
                <a:solidFill>
                  <a:srgbClr val="10253f"/>
                </a:solidFill>
                <a:latin typeface="Calibri"/>
              </a:rPr>
              <a:t>текстовые редакторы</a:t>
            </a:r>
            <a:r>
              <a:rPr b="0" lang="ru-RU" sz="2600" spc="-1" strike="noStrike">
                <a:solidFill>
                  <a:srgbClr val="10253f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85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  <a:ea typeface="Arial"/>
              </a:rPr>
              <a:t>Компьютер – основной инструмент подготовки текс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2214720" y="2000160"/>
            <a:ext cx="4705200" cy="30718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22" name="TextBox 6"/>
          <p:cNvSpPr/>
          <p:nvPr/>
        </p:nvSpPr>
        <p:spPr>
          <a:xfrm>
            <a:off x="500040" y="165744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Кнопка основного меню </a:t>
            </a:r>
            <a:r>
              <a:rPr b="1" i="1" lang="en-US" sz="1800" spc="-1" strike="noStrike">
                <a:solidFill>
                  <a:srgbClr val="10253f"/>
                </a:solidFill>
                <a:latin typeface="Calibri"/>
              </a:rPr>
              <a:t>Word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3286080" y="1285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Строка загол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6929280" y="1285920"/>
            <a:ext cx="21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Панели  с инструмен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9"/>
          <p:cNvSpPr/>
          <p:nvPr/>
        </p:nvSpPr>
        <p:spPr>
          <a:xfrm>
            <a:off x="7286760" y="264312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Лин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0"/>
          <p:cNvSpPr/>
          <p:nvPr/>
        </p:nvSpPr>
        <p:spPr>
          <a:xfrm>
            <a:off x="7215120" y="435780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Полосы прокру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1"/>
          <p:cNvSpPr/>
          <p:nvPr/>
        </p:nvSpPr>
        <p:spPr>
          <a:xfrm>
            <a:off x="500040" y="357192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Рабоч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2"/>
          <p:cNvSpPr/>
          <p:nvPr/>
        </p:nvSpPr>
        <p:spPr>
          <a:xfrm>
            <a:off x="500040" y="435780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Строка 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4"/>
          <p:cNvSpPr/>
          <p:nvPr/>
        </p:nvSpPr>
        <p:spPr>
          <a:xfrm flipH="1">
            <a:off x="4428720" y="1642320"/>
            <a:ext cx="785880" cy="50004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17"/>
          <p:cNvSpPr/>
          <p:nvPr/>
        </p:nvSpPr>
        <p:spPr>
          <a:xfrm flipH="1">
            <a:off x="5715000" y="1932120"/>
            <a:ext cx="2286000" cy="78264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19"/>
          <p:cNvSpPr/>
          <p:nvPr/>
        </p:nvSpPr>
        <p:spPr>
          <a:xfrm flipH="1">
            <a:off x="6072120" y="1932120"/>
            <a:ext cx="1928880" cy="106812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23"/>
          <p:cNvSpPr/>
          <p:nvPr/>
        </p:nvSpPr>
        <p:spPr>
          <a:xfrm flipH="1">
            <a:off x="6643440" y="2999520"/>
            <a:ext cx="1143000" cy="42876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25"/>
          <p:cNvSpPr/>
          <p:nvPr/>
        </p:nvSpPr>
        <p:spPr>
          <a:xfrm flipH="1" flipV="1">
            <a:off x="6714720" y="4000320"/>
            <a:ext cx="500040" cy="68076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29"/>
          <p:cNvSpPr/>
          <p:nvPr/>
        </p:nvSpPr>
        <p:spPr>
          <a:xfrm flipH="1">
            <a:off x="5714640" y="4680720"/>
            <a:ext cx="1500120" cy="3348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32"/>
          <p:cNvSpPr/>
          <p:nvPr/>
        </p:nvSpPr>
        <p:spPr>
          <a:xfrm flipH="1">
            <a:off x="1714680" y="2214720"/>
            <a:ext cx="714240" cy="42840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34"/>
          <p:cNvSpPr/>
          <p:nvPr/>
        </p:nvSpPr>
        <p:spPr>
          <a:xfrm flipH="1">
            <a:off x="1714320" y="3714840"/>
            <a:ext cx="857160" cy="28584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36"/>
          <p:cNvSpPr/>
          <p:nvPr/>
        </p:nvSpPr>
        <p:spPr>
          <a:xfrm flipH="1" flipV="1">
            <a:off x="2000160" y="4857840"/>
            <a:ext cx="928800" cy="7128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Андрей</cp:lastModifiedBy>
  <dcterms:modified xsi:type="dcterms:W3CDTF">2020-04-05T10:45:30Z</dcterms:modified>
  <cp:revision>19</cp:revision>
  <dc:subject/>
  <dc:title>Презентация PowerPoint</dc:title>
</cp:coreProperties>
</file>