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944-9A85-4417-9BE5-34A57650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819-5506-47FD-840A-3467ECC1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A10-7E95-41B0-832A-EE43EF80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4ED-3E1E-4CBD-82F8-CCF88381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081-D5A2-49E3-A41E-BE71BA26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FD9-4428-4F86-9C6C-D41DDC38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BDF-AF35-46DA-A0DD-2B711E38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40F-BAD4-48F0-8DE0-DEF37FE3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772-12F9-4A76-9ED7-AFCEA888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F22-E493-4652-ACBA-C5C2A27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C84-3D47-4529-8ED8-BECC585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69F-32D6-4E3B-911C-CA5DC206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12E9D-B910-4000-A359-F2035BE397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7920" y="140652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Урок математики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 2 класс 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УМК Школа 21 века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52840" y="48988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ropisi"/>
              </a:rPr>
              <a:t>Учитель: Коростелева М.В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ropisi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04560" y="0"/>
            <a:ext cx="788652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Propisi"/>
              </a:rPr>
              <a:t>Определение  целей урока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04920" y="1906200"/>
            <a:ext cx="83707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Propisi"/>
              </a:rPr>
              <a:t>Определите цели урока, используя опорные слова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Propisi"/>
              </a:rPr>
              <a:t>Мы познакомимся с 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Propisi"/>
              </a:rPr>
              <a:t>Мы узнаем 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Propisi"/>
              </a:rPr>
              <a:t>Мы вспомним 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Propisi"/>
              </a:rPr>
              <a:t>Мы будем уметь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videoplayback" descr=""/>
          <p:cNvPicPr/>
          <p:nvPr/>
        </p:nvPicPr>
        <p:blipFill>
          <a:blip r:embed="rId1"/>
          <a:stretch/>
        </p:blipFill>
        <p:spPr>
          <a:xfrm>
            <a:off x="0" y="0"/>
            <a:ext cx="923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876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9640" y="318600"/>
            <a:ext cx="77724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1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.)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43000" y="270648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2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3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30400" y="285264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Propisi"/>
              </a:rPr>
              <a:t>Если разделить число на 3, то можно найти его часть – треть числа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26146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Чтобы найти треть  какого – нибудь числа, надо это число разделить на 3.</a:t>
            </a:r>
            <a:br>
              <a:rPr sz="54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7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83920" y="0"/>
            <a:ext cx="8674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Propisi"/>
              </a:rPr>
              <a:t>РЕБУСЫ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Рисунок 49" descr=""/>
          <p:cNvPicPr/>
          <p:nvPr/>
        </p:nvPicPr>
        <p:blipFill>
          <a:blip r:embed="rId2"/>
          <a:srcRect l="46270" t="32520" r="29177" b="53455"/>
          <a:stretch/>
        </p:blipFill>
        <p:spPr>
          <a:xfrm>
            <a:off x="2500200" y="1325520"/>
            <a:ext cx="5342040" cy="23065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2154240" y="4017960"/>
            <a:ext cx="5280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600" spc="-1" strike="noStrike">
                <a:solidFill>
                  <a:srgbClr val="5b9bd5"/>
                </a:solidFill>
                <a:latin typeface="Propisi"/>
              </a:rPr>
              <a:t>Трио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0" descr=""/>
          <p:cNvPicPr/>
          <p:nvPr/>
        </p:nvPicPr>
        <p:blipFill>
          <a:blip r:embed="rId2"/>
          <a:srcRect l="17038" t="54793" r="47721" b="33853"/>
          <a:stretch/>
        </p:blipFill>
        <p:spPr>
          <a:xfrm>
            <a:off x="2338560" y="320760"/>
            <a:ext cx="5329080" cy="1305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"/>
          <p:cNvSpPr/>
          <p:nvPr/>
        </p:nvSpPr>
        <p:spPr>
          <a:xfrm>
            <a:off x="2160000" y="1625760"/>
            <a:ext cx="489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800" spc="-1" strike="noStrike">
                <a:solidFill>
                  <a:srgbClr val="5b9bd5"/>
                </a:solidFill>
                <a:latin typeface="Propisi"/>
              </a:rPr>
              <a:t>Витрин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6" descr=""/>
          <p:cNvPicPr/>
          <p:nvPr/>
        </p:nvPicPr>
        <p:blipFill>
          <a:blip r:embed="rId3"/>
          <a:srcRect l="52619" t="54793" r="18152" b="34523"/>
          <a:stretch/>
        </p:blipFill>
        <p:spPr>
          <a:xfrm>
            <a:off x="2587680" y="3476520"/>
            <a:ext cx="4937040" cy="1336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2430360" y="5218200"/>
            <a:ext cx="4730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500" spc="-1" strike="noStrike">
                <a:solidFill>
                  <a:srgbClr val="5b9bd5"/>
                </a:solidFill>
                <a:latin typeface="Propisi"/>
              </a:rPr>
              <a:t>Стриж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Propisi"/>
              </a:rPr>
              <a:t>Домашнее задание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14520" y="22795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Propisi"/>
              </a:rPr>
              <a:t>Выучить таблицу умножения и деления на 3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0000" y="10584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Итог. Рефлексия.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85640" y="15364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Propisi"/>
              </a:rPr>
              <a:t>- Что нового узнали на урок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Propisi"/>
              </a:rPr>
              <a:t>- Какое задание понравилось больш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Propisi"/>
              </a:rPr>
              <a:t>- Что показалось трудным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638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Propisi"/>
                <a:ea typeface="Times New Roman"/>
              </a:rPr>
              <a:t>11 декабря.</a:t>
            </a:r>
            <a:br>
              <a:rPr sz="5000"/>
            </a:br>
            <a:r>
              <a:rPr b="1" lang="ru-RU" sz="5000" spc="-1" strike="noStrike">
                <a:solidFill>
                  <a:srgbClr val="000000"/>
                </a:solidFill>
                <a:latin typeface="Propisi"/>
                <a:ea typeface="Times New Roman"/>
              </a:rPr>
              <a:t>Классная работа.</a:t>
            </a:r>
            <a:endParaRPr b="0" lang="en-US" sz="5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пишем с.р. (2)" descr=""/>
          <p:cNvPicPr/>
          <p:nvPr/>
        </p:nvPicPr>
        <p:blipFill>
          <a:blip r:embed="rId2"/>
          <a:stretch/>
        </p:blipFill>
        <p:spPr>
          <a:xfrm>
            <a:off x="7689960" y="5707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Propisi"/>
              </a:rPr>
              <a:t>Отгадай из какой сказки эти строки.</a:t>
            </a:r>
            <a:br>
              <a:rPr sz="7200"/>
            </a:br>
            <a:br>
              <a:rPr sz="4300"/>
            </a:br>
            <a:r>
              <a:rPr b="1" lang="ru-RU" sz="5400" spc="-1" strike="noStrike">
                <a:solidFill>
                  <a:srgbClr val="000000"/>
                </a:solidFill>
                <a:latin typeface="Propisi"/>
              </a:rPr>
              <a:t>«Три девицы под окном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Propisi"/>
              </a:rPr>
              <a:t>Пряли поздно вечерком…..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6160" y="5578200"/>
            <a:ext cx="78865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ropisi"/>
              </a:rPr>
              <a:t>А.С. Пушкин «Сказка о царе Салтан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5480" y="2533680"/>
            <a:ext cx="788652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ropisi"/>
              </a:rPr>
              <a:t>От горшка три вершка </a:t>
            </a:r>
            <a:r>
              <a:rPr b="1" lang="ru-RU" sz="4400" spc="-1" strike="noStrike">
                <a:solidFill>
                  <a:srgbClr val="000000"/>
                </a:solidFill>
                <a:latin typeface="Propis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Propisi"/>
              </a:rPr>
              <a:t>очень низкий, низкого роста, маленький.</a:t>
            </a: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Propisi"/>
              </a:rPr>
              <a:t>С три короба </a:t>
            </a:r>
            <a:r>
              <a:rPr b="1" lang="ru-RU" sz="4400" spc="-1" strike="noStrike">
                <a:solidFill>
                  <a:srgbClr val="000000"/>
                </a:solidFill>
                <a:latin typeface="Propisi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Propisi"/>
              </a:rPr>
              <a:t> очень много (наговорить, наобещать, наврать и т. п.).</a:t>
            </a: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Propisi"/>
              </a:rPr>
              <a:t>Плакать в три ручья – </a:t>
            </a:r>
            <a:r>
              <a:rPr b="0" lang="ru-RU" sz="4400" spc="-1" strike="noStrike">
                <a:solidFill>
                  <a:srgbClr val="000000"/>
                </a:solidFill>
                <a:latin typeface="Propisi"/>
              </a:rPr>
              <a:t>то есть очень громко плакать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Propisi"/>
                <a:ea typeface="Times New Roman"/>
              </a:rPr>
              <a:t>11 декабря.</a:t>
            </a:r>
            <a:br>
              <a:rPr sz="5000"/>
            </a:br>
            <a:r>
              <a:rPr b="1" lang="ru-RU" sz="5000" spc="-1" strike="noStrike">
                <a:solidFill>
                  <a:srgbClr val="000000"/>
                </a:solidFill>
                <a:latin typeface="Propisi"/>
                <a:ea typeface="Times New Roman"/>
              </a:rPr>
              <a:t>Классная работа.</a:t>
            </a:r>
            <a:endParaRPr b="0" lang="en-US" sz="5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пишем с.р. (2)" descr=""/>
          <p:cNvPicPr/>
          <p:nvPr/>
        </p:nvPicPr>
        <p:blipFill>
          <a:blip r:embed="rId2"/>
          <a:stretch/>
        </p:blipFill>
        <p:spPr>
          <a:xfrm>
            <a:off x="7689960" y="57070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36440" y="1535040"/>
            <a:ext cx="24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5b9bd5"/>
                </a:solidFill>
                <a:latin typeface="Calibri"/>
              </a:rPr>
              <a:t>3    33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5320" y="1711440"/>
            <a:ext cx="82310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Propisi"/>
              </a:rPr>
              <a:t>Тема урока: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Propisi"/>
              </a:rPr>
              <a:t>«Умножение и деление числа 3»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0T18:35:40Z</dcterms:created>
  <dc:creator>Мария</dc:creator>
  <dc:description/>
  <dc:language>en-US</dc:language>
  <cp:lastModifiedBy>Мария</cp:lastModifiedBy>
  <dcterms:modified xsi:type="dcterms:W3CDTF">2019-12-11T01:25:45Z</dcterms:modified>
  <cp:revision>10</cp:revision>
  <dc:subject/>
  <dc:title>Урок математики   2 класс  Школа 21 века</dc:title>
</cp:coreProperties>
</file>