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507-0BEC-4CB8-BEEE-11DF4D64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B3F-DA87-447F-9EF9-3F0D8C3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C1F9-7FF7-44EC-A70B-BDCAABE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7283-BEED-4ACC-B5BF-034E32E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5779C-6992-4F4B-B97C-59F86E80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6AB8-A369-4DBB-A0EF-5CB568D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035D9-1D1A-4999-9DF4-80CF3FB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4479E-ABE6-45A3-8DCD-7F0411A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C08D4-E360-483B-9A8F-C10F8D5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4F46-593A-4E08-95F7-184F9579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07A0E-2043-47E2-9106-1C57C3EB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3884C-5132-44DD-B1FD-33D3AEB0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092-749A-4721-BE6B-F3C7E85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E366E-B6EC-4D8B-8AE8-754681B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634B8-C2BE-43BD-B3FE-4ADE0F0A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B718B-7AAE-41C2-A5E3-64E15937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92216-25A5-4400-9D83-458EE0DF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19632-9295-4BB9-9CBE-243BB98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1BE37-F699-496F-B2F5-B4A54E7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4289-CEFD-41F9-89DF-43DA263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92B4F-F272-40FC-BF52-35BE7CE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6E60-7988-485B-85C2-3A2C8C91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7AA1B-F29C-479D-A5FA-DCF51873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477-AE28-4FBA-AFCB-C0D23893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9CAFF-4C82-4284-ACB4-9D608F29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85CBF-0492-4083-A9EA-6DB4BF2E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C0512-7D3F-4818-8F16-E9704EF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E3541-D998-4418-B2B8-1A630EF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F3868-DE2D-40D8-8C28-0F6133A5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21165-4AD5-4A0F-98BE-5AB91F8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AE36-2970-4963-B4C4-012C3762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07772-794D-4996-9DFB-C98F700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91E5-62BE-415A-8E31-327B8266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46896-C982-4B3A-B9AF-5639B177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5676-EA0F-4430-AE26-17FD0C00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CA44-4AA0-4D5C-B72B-092250D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586F-B003-4F9A-9D9F-BDEF4672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A229D-4C85-4C88-9D9B-0CBA4A25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D8FF-09BB-46C1-98C7-BDB2372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FCBCD-A6D0-42BB-80DE-999BF0FF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9A76-73B9-4AAD-9161-58398499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51278-CBCA-466D-A84B-540AE8B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BBCA5-BC76-45E8-830C-F9E89C1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ECEC4-6F59-4DA9-9CA4-B832498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C1A2C-4BEC-4943-A3E8-3C540AA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B5F5-373F-40D9-BB42-DD22731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4D9AA-59CF-4784-9666-F09618B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63D5-AD2E-4BAE-8CBE-8D75E51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16C28-93E6-4B59-815D-34B717A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175E7-D783-44DD-96A3-4909EBA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282A6-5D26-41F6-88C9-57D6863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07D-074C-4141-B1EA-AA02A8B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A9F0-4B75-42C2-A527-28C7068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D38-BF97-4E59-97DA-39A5D54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15AF-B094-4995-B435-0F08D5F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72DB-70E7-45F5-97D7-2273171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092-4B64-47CE-8E35-A84F9E1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225-4B25-4969-9471-C053691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57DB-F46A-49B7-B645-D9C3AA8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014-FD38-4FEE-8C84-2C037C1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930-A2DE-4C8B-830A-B796E53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CCDB-2058-4BBB-99D5-2A6F7462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04B2-09DB-4362-AE45-83EC0CB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C24B-AAE7-4796-9815-F1162E0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BBE1-3CF3-4C63-8D6D-C00817B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4FBC-9D70-4D12-B2D1-23FDE82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2674-6BE5-44A8-86FE-E4360EBF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2BD-5075-417E-9B02-A7A6336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EF13-0481-4972-A025-330DE06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7F23-3C08-4B99-A370-B4EDFCF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68AF-3DE8-4DD3-A41D-FB1DCAB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B1A6-47C9-4036-BDEF-D5D2516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746C-D878-4C3C-AC8B-C26947A5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5BAF-369B-4629-993F-59B90206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7336-95F8-4B4F-BDE6-3F5E4DE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D32E-5245-4F78-8F7C-22FB20C3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A7DD-AEF9-4A9B-8613-AC27E8F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A006-0ECD-4684-89C8-B96E1FF6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D14-7193-4249-8C74-2F4DD213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FE26-ED47-44C6-BBE4-044CE12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B937-9E21-42ED-8D74-50910DB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AD5E-C4BA-458B-9785-E44B111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E2D7-7138-42A4-BD06-897F77D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2C46-2E51-4B85-A75C-0D4E8D9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4899-E599-49A7-90FC-D528DAA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E29A-D81F-48D6-A690-B4B984C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4977-FF30-487A-AED1-BDFEB567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CB5A-014B-444B-8936-31C22FCE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42FE-D111-4400-849B-40E1849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96B-7655-4840-A615-A57EEF2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DE8F-59D4-4017-90C1-ED037447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8EAC-6D98-45AC-861D-51AA756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B64C-C3FF-48F3-A8BB-8D806976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F8B4-1AA1-46D9-9C61-9FFF589E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51F0-ADF8-45EB-893D-9EC0E48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03A7-7F0E-4D69-A199-417E470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2CCF-8DA9-40F9-A92D-B0A5EFE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20BC-7B63-4C06-84CD-B192D0B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9D6B-7664-4934-8813-0CDDF7B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9C5E-10F6-4CA3-BC0E-76957B7B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82A-1EE5-4347-AE65-82D5537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761D-8672-403E-BDD1-377D4F01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BC54-05A9-4DD1-A7AD-3ECB21A2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CD86-FF55-4FEF-8E39-CE38337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AEB4-4308-495B-9411-B72556AC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5B1E-EC21-441A-8B8C-2F3443A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9DAC-7763-4905-94DD-67D7B6D6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9FC3-2BA4-49E9-B541-7C8C5FE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99BC-D7EF-4DE6-B7A1-FC9B958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A003-2AFE-40CA-9B46-AC23FDB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733A-39B2-45E6-A5EA-9529CC0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65E-F3F0-44FA-ABC0-E0E66E4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09C4-2C51-4100-99DC-5CEC6AFA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06F0-DF07-498A-88DE-D8B1804B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8E0A-F76A-4AF9-B662-895FD6DA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EF1F4-04DB-405B-937A-544212A1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EEA8-8BD1-43B6-8628-CBA1866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0EFA-63B7-4CAF-B283-DB9A448A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BF78-8CF9-4CA4-811B-A1B73AA3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20266-3A85-4EC7-8460-96D6972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D692-5F6A-430E-89F8-EEFD0D5E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17F1-FB3D-4034-A423-F315696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EEB-DF89-4D38-961D-9F05D6F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45E3-E821-4F73-90A5-7877983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2E8F-7A60-4E11-BBE8-C92E5FC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94286-E792-42CC-8BDB-E516F96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51DA7-9221-4DCF-A8C2-F2E1E339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E0C8-E270-4E15-8282-06A95AB3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2DB6-FEB1-457B-A5B2-95CD7E9E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9F39-2469-498E-ACAD-123F427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5F50-A793-435B-8516-141DECB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0633-500F-4C05-9357-991F11D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59C8-842D-45FB-BA08-8BA7E68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3BE-3EA4-4D09-9D9F-1B5D1FB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F6949-4B1A-4A04-A651-FAC2EEF0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8F41F-13C5-4F25-A862-A24BC5F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0B339-875E-4D87-A6C1-1D4BE0E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490ED-4F58-493D-AF86-4EE7AA9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B8F6-E108-4D66-A1A2-6E745BB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DCE8-4001-4EC9-B961-4BAA9223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6CB0-E2E6-4E44-B4B1-8F52CCC5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5D27-3BAB-45B8-9BF6-4DD2C2B5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2AF83-C77A-4F08-90CC-5F15E09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7270-A726-4CC1-B4B3-093A6DD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A1D7-281F-423D-AA25-B57799A82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9386-783B-47E9-BD9F-27187C5F6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6EA-6120-4A26-AA9D-64F02D0BA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D322-5EA4-4636-8F2C-8F2484129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824D-C664-4E9D-AD10-F29F15CB81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54DF-F909-4E93-9343-42FB491D3E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4910-B41C-4CBE-B55D-02F9CCACC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84E-4C76-453B-8D15-BA1CADA01B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E37-A0C5-46A8-9260-9385FD54F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22B-D096-4869-9C92-9AA255E8A1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2AC-4DA2-4A91-A0B1-83EAC5C408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CB7-606B-4D84-9F33-F44A3CF8C4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3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/>
          <p:cNvSpPr/>
          <p:nvPr/>
        </p:nvSpPr>
        <p:spPr>
          <a:xfrm>
            <a:off x="4549680" y="200160"/>
            <a:ext cx="4538880" cy="6602400"/>
          </a:xfrm>
          <a:custGeom>
            <a:avLst/>
            <a:gdLst>
              <a:gd name="textAreaLeft" fmla="*/ 0 w 4538880"/>
              <a:gd name="textAreaRight" fmla="*/ 4539240 w 4538880"/>
              <a:gd name="textAreaTop" fmla="*/ 354240 h 6602400"/>
              <a:gd name="textAreaBottom" fmla="*/ 6248160 h 66024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4565520" y="266760"/>
            <a:ext cx="4505400" cy="6530760"/>
          </a:xfrm>
          <a:custGeom>
            <a:avLst/>
            <a:gdLst>
              <a:gd name="textAreaLeft" fmla="*/ 0 w 4505400"/>
              <a:gd name="textAreaRight" fmla="*/ 4505760 w 4505400"/>
              <a:gd name="textAreaTop" fmla="*/ 350640 h 6530760"/>
              <a:gd name="textAreaBottom" fmla="*/ 6180120 h 65307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4673520" y="176040"/>
            <a:ext cx="4470480" cy="6491520"/>
          </a:xfrm>
          <a:custGeom>
            <a:avLst/>
            <a:gdLst>
              <a:gd name="textAreaLeft" fmla="*/ 0 w 4470480"/>
              <a:gd name="textAreaRight" fmla="*/ 4470840 w 4470480"/>
              <a:gd name="textAreaTop" fmla="*/ 348480 h 6491520"/>
              <a:gd name="textAreaBottom" fmla="*/ 6143040 h 64915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 flipH="1">
            <a:off x="171360" y="38880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9" descr="скрепки"/>
          <p:cNvPicPr/>
          <p:nvPr/>
        </p:nvPicPr>
        <p:blipFill>
          <a:blip r:embed="rId6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9"/>
          <p:cNvGrpSpPr/>
          <p:nvPr/>
        </p:nvGrpSpPr>
        <p:grpSpPr>
          <a:xfrm>
            <a:off x="4722840" y="446040"/>
            <a:ext cx="4421160" cy="6165720"/>
            <a:chOff x="4722840" y="446040"/>
            <a:chExt cx="4421160" cy="6165720"/>
          </a:xfrm>
        </p:grpSpPr>
        <p:sp>
          <p:nvSpPr>
            <p:cNvPr id="500" name="AutoShape 12"/>
            <p:cNvSpPr/>
            <p:nvPr/>
          </p:nvSpPr>
          <p:spPr>
            <a:xfrm>
              <a:off x="4722840" y="446040"/>
              <a:ext cx="4421160" cy="6165720"/>
            </a:xfrm>
            <a:custGeom>
              <a:avLst/>
              <a:gdLst>
                <a:gd name="textAreaLeft" fmla="*/ 0 w 4421160"/>
                <a:gd name="textAreaRight" fmla="*/ 4421160 w 4421160"/>
                <a:gd name="textAreaTop" fmla="*/ 330840 h 6165720"/>
                <a:gd name="textAreaBottom" fmla="*/ 5834880 h 616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WordArt 14"/>
            <p:cNvSpPr txBox="1"/>
            <p:nvPr/>
          </p:nvSpPr>
          <p:spPr>
            <a:xfrm>
              <a:off x="5328360" y="1093320"/>
              <a:ext cx="3206520" cy="6152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Courier New"/>
                </a:rPr>
                <a:t> </a:t>
              </a:r>
              <a:endParaRPr b="1" lang="en-US" sz="32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Courier New"/>
                <a:ea typeface="Courier New"/>
              </a:endParaRPr>
            </a:p>
          </p:txBody>
        </p:sp>
      </p:grpSp>
      <p:grpSp>
        <p:nvGrpSpPr>
          <p:cNvPr id="502" name="Группа 4"/>
          <p:cNvGrpSpPr/>
          <p:nvPr/>
        </p:nvGrpSpPr>
        <p:grpSpPr>
          <a:xfrm>
            <a:off x="4956120" y="446040"/>
            <a:ext cx="4132080" cy="6221520"/>
            <a:chOff x="4956120" y="446040"/>
            <a:chExt cx="4132080" cy="6221520"/>
          </a:xfrm>
        </p:grpSpPr>
        <p:grpSp>
          <p:nvGrpSpPr>
            <p:cNvPr id="503" name="Group 62"/>
            <p:cNvGrpSpPr/>
            <p:nvPr/>
          </p:nvGrpSpPr>
          <p:grpSpPr>
            <a:xfrm>
              <a:off x="4956120" y="446040"/>
              <a:ext cx="4132080" cy="6221520"/>
              <a:chOff x="4956120" y="446040"/>
              <a:chExt cx="4132080" cy="6221520"/>
            </a:xfrm>
          </p:grpSpPr>
          <p:sp>
            <p:nvSpPr>
              <p:cNvPr id="504" name="AutoShape 44"/>
              <p:cNvSpPr/>
              <p:nvPr/>
            </p:nvSpPr>
            <p:spPr>
              <a:xfrm>
                <a:off x="4956120" y="446040"/>
                <a:ext cx="4083120" cy="6221520"/>
              </a:xfrm>
              <a:custGeom>
                <a:avLst/>
                <a:gdLst>
                  <a:gd name="textAreaLeft" fmla="*/ 0 w 4083120"/>
                  <a:gd name="textAreaRight" fmla="*/ 4083480 w 4083120"/>
                  <a:gd name="textAreaTop" fmla="*/ 334080 h 6221520"/>
                  <a:gd name="textAreaBottom" fmla="*/ 5887440 h 622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80"/>
                    </a:moveTo>
                    <a:cubicBezTo>
                      <a:pt x="7200" y="-1475"/>
                      <a:pt x="14400" y="2635"/>
                      <a:pt x="21600" y="580"/>
                    </a:cubicBezTo>
                    <a:lnTo>
                      <a:pt x="21600" y="21020"/>
                    </a:lnTo>
                    <a:cubicBezTo>
                      <a:pt x="14400" y="23075"/>
                      <a:pt x="7200" y="18965"/>
                      <a:pt x="0" y="2102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WordArt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10160" y="810360"/>
                <a:ext cx="3578040" cy="3126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6" name="WordArt 61" descr=""/>
            <p:cNvPicPr/>
            <p:nvPr/>
          </p:nvPicPr>
          <p:blipFill>
            <a:blip r:embed="rId12"/>
            <a:stretch/>
          </p:blipFill>
          <p:spPr>
            <a:xfrm>
              <a:off x="5583960" y="4340520"/>
              <a:ext cx="33897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AutoShape 37"/>
          <p:cNvSpPr/>
          <p:nvPr/>
        </p:nvSpPr>
        <p:spPr>
          <a:xfrm flipH="1">
            <a:off x="192960" y="352440"/>
            <a:ext cx="4344840" cy="6340320"/>
          </a:xfrm>
          <a:custGeom>
            <a:avLst/>
            <a:gdLst>
              <a:gd name="textAreaLeft" fmla="*/ -360 w 4344840"/>
              <a:gd name="textAreaRight" fmla="*/ 4344840 w 4344840"/>
              <a:gd name="textAreaTop" fmla="*/ 340200 h 6340320"/>
              <a:gd name="textAreaBottom" fmla="*/ 6000120 h 63403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ушать пода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нашей тарелк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0"/>
          <p:cNvSpPr/>
          <p:nvPr/>
        </p:nvSpPr>
        <p:spPr>
          <a:xfrm>
            <a:off x="-5518080" y="-3952800"/>
            <a:ext cx="37576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"/>
          <p:cNvSpPr/>
          <p:nvPr/>
        </p:nvSpPr>
        <p:spPr>
          <a:xfrm>
            <a:off x="5375160" y="860400"/>
            <a:ext cx="34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179280" y="303120"/>
            <a:ext cx="4021200" cy="6340680"/>
            <a:chOff x="179280" y="303120"/>
            <a:chExt cx="4021200" cy="6340680"/>
          </a:xfrm>
        </p:grpSpPr>
        <p:sp>
          <p:nvSpPr>
            <p:cNvPr id="514" name="AutoShape 10"/>
            <p:cNvSpPr/>
            <p:nvPr/>
          </p:nvSpPr>
          <p:spPr>
            <a:xfrm flipH="1">
              <a:off x="179280" y="303120"/>
              <a:ext cx="4021200" cy="6340680"/>
            </a:xfrm>
            <a:custGeom>
              <a:avLst/>
              <a:gdLst>
                <a:gd name="textAreaLeft" fmla="*/ 0 w 4021200"/>
                <a:gd name="textAreaRight" fmla="*/ 4021200 w 4021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423000" y="1373040"/>
              <a:ext cx="347724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AutoShape 28"/>
          <p:cNvSpPr/>
          <p:nvPr/>
        </p:nvSpPr>
        <p:spPr>
          <a:xfrm>
            <a:off x="4898880" y="446040"/>
            <a:ext cx="4059360" cy="6201000"/>
          </a:xfrm>
          <a:custGeom>
            <a:avLst/>
            <a:gdLst>
              <a:gd name="textAreaLeft" fmla="*/ 0 w 4059360"/>
              <a:gd name="textAreaRight" fmla="*/ 4059720 w 4059360"/>
              <a:gd name="textAreaTop" fmla="*/ 333000 h 6201000"/>
              <a:gd name="textAreaBottom" fmla="*/ 5868000 h 62010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а и пить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житьё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1" descr="скрепки"/>
          <p:cNvPicPr/>
          <p:nvPr/>
        </p:nvPicPr>
        <p:blipFill>
          <a:blip r:embed="rId5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8" descr="http://usadba59.ru/upload_modules/news/full/0c6b881203c8bfbf1828904adc26219e.jpg"/>
          <p:cNvPicPr/>
          <p:nvPr/>
        </p:nvPicPr>
        <p:blipFill>
          <a:blip r:embed="rId6"/>
          <a:stretch/>
        </p:blipFill>
        <p:spPr>
          <a:xfrm rot="20404800">
            <a:off x="522360" y="3387600"/>
            <a:ext cx="3303360" cy="2776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http://img1.liveinternet.ru/images/attach/b/4/104/301/104301395_large_4437240_140.jpg"/>
          <p:cNvPicPr/>
          <p:nvPr/>
        </p:nvPicPr>
        <p:blipFill>
          <a:blip r:embed="rId7"/>
          <a:stretch/>
        </p:blipFill>
        <p:spPr>
          <a:xfrm>
            <a:off x="318960" y="644400"/>
            <a:ext cx="374184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9"/>
          <p:cNvGrpSpPr/>
          <p:nvPr/>
        </p:nvGrpSpPr>
        <p:grpSpPr>
          <a:xfrm>
            <a:off x="179280" y="303120"/>
            <a:ext cx="4345200" cy="6340680"/>
            <a:chOff x="179280" y="303120"/>
            <a:chExt cx="4345200" cy="6340680"/>
          </a:xfrm>
        </p:grpSpPr>
        <p:sp>
          <p:nvSpPr>
            <p:cNvPr id="524" name="AutoShape 10"/>
            <p:cNvSpPr/>
            <p:nvPr/>
          </p:nvSpPr>
          <p:spPr>
            <a:xfrm flipH="1">
              <a:off x="179280" y="30312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На страницах могут быть размещен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текст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списки, гиперссылки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графические изображени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видео и зву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59920" y="347760"/>
            <a:ext cx="4259160" cy="6234120"/>
            <a:chOff x="259920" y="347760"/>
            <a:chExt cx="4259160" cy="6234120"/>
          </a:xfrm>
        </p:grpSpPr>
        <p:sp>
          <p:nvSpPr>
            <p:cNvPr id="527" name="AutoShape 19"/>
            <p:cNvSpPr/>
            <p:nvPr/>
          </p:nvSpPr>
          <p:spPr>
            <a:xfrm flipH="1">
              <a:off x="259560" y="347760"/>
              <a:ext cx="4259160" cy="6234120"/>
            </a:xfrm>
            <a:custGeom>
              <a:avLst/>
              <a:gdLst>
                <a:gd name="textAreaLeft" fmla="*/ -360 w 4259160"/>
                <a:gd name="textAreaRight" fmla="*/ 4259160 w 4259160"/>
                <a:gd name="textAreaTop" fmla="*/ 334800 h 6234120"/>
                <a:gd name="textAreaBottom" fmla="*/ 5899320 h 62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0"/>
            <p:cNvSpPr/>
            <p:nvPr/>
          </p:nvSpPr>
          <p:spPr>
            <a:xfrm>
              <a:off x="518400" y="1399680"/>
              <a:ext cx="3683160" cy="19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AutoShape 28"/>
          <p:cNvSpPr/>
          <p:nvPr/>
        </p:nvSpPr>
        <p:spPr>
          <a:xfrm>
            <a:off x="4562640" y="241200"/>
            <a:ext cx="4441680" cy="643896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960"/>
              <a:gd name="textAreaBottom" fmla="*/ 6093360 h 64389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1" descr="скрепки"/>
          <p:cNvPicPr/>
          <p:nvPr/>
        </p:nvPicPr>
        <p:blipFill>
          <a:blip r:embed="rId6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28"/>
          <p:cNvSpPr/>
          <p:nvPr/>
        </p:nvSpPr>
        <p:spPr>
          <a:xfrm>
            <a:off x="4521240" y="225360"/>
            <a:ext cx="4441680" cy="643896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960"/>
              <a:gd name="textAreaBottom" fmla="*/ 6093360 h 64389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Какие послов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 еде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5"/>
          <p:cNvSpPr/>
          <p:nvPr/>
        </p:nvSpPr>
        <p:spPr>
          <a:xfrm>
            <a:off x="284040" y="111276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стор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адиции наших пред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7" descr=" (700x419, 148Kb)"/>
          <p:cNvPicPr/>
          <p:nvPr/>
        </p:nvPicPr>
        <p:blipFill>
          <a:blip r:embed="rId8"/>
          <a:stretch/>
        </p:blipFill>
        <p:spPr>
          <a:xfrm>
            <a:off x="284040" y="2398680"/>
            <a:ext cx="3880080" cy="3855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9" descr="Древнерусская еда"/>
          <p:cNvPicPr/>
          <p:nvPr/>
        </p:nvPicPr>
        <p:blipFill>
          <a:blip r:embed="rId9"/>
          <a:stretch/>
        </p:blipFill>
        <p:spPr>
          <a:xfrm>
            <a:off x="4645080" y="668160"/>
            <a:ext cx="4317840" cy="293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532400" y="185760"/>
            <a:ext cx="4538520" cy="6602400"/>
          </a:xfrm>
          <a:custGeom>
            <a:avLst/>
            <a:gdLst>
              <a:gd name="textAreaLeft" fmla="*/ 0 w 4538520"/>
              <a:gd name="textAreaRight" fmla="*/ 4538880 w 4538520"/>
              <a:gd name="textAreaTop" fmla="*/ 354240 h 6602400"/>
              <a:gd name="textAreaBottom" fmla="*/ 6248160 h 66024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4530600" y="209520"/>
            <a:ext cx="4505400" cy="6531120"/>
          </a:xfrm>
          <a:custGeom>
            <a:avLst/>
            <a:gdLst>
              <a:gd name="textAreaLeft" fmla="*/ 0 w 4505400"/>
              <a:gd name="textAreaRight" fmla="*/ 4505760 w 4505400"/>
              <a:gd name="textAreaTop" fmla="*/ 350640 h 6531120"/>
              <a:gd name="textAreaBottom" fmla="*/ 6180480 h 65311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4532400" y="209520"/>
            <a:ext cx="4470480" cy="6491160"/>
          </a:xfrm>
          <a:custGeom>
            <a:avLst/>
            <a:gdLst>
              <a:gd name="textAreaLeft" fmla="*/ 0 w 4470480"/>
              <a:gd name="textAreaRight" fmla="*/ 4470840 w 4470480"/>
              <a:gd name="textAreaTop" fmla="*/ 348480 h 6491160"/>
              <a:gd name="textAreaBottom" fmla="*/ 6142680 h 64911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4532400" y="227160"/>
            <a:ext cx="4435560" cy="6419880"/>
          </a:xfrm>
          <a:custGeom>
            <a:avLst/>
            <a:gdLst>
              <a:gd name="textAreaLeft" fmla="*/ 0 w 4435560"/>
              <a:gd name="textAreaRight" fmla="*/ 4435920 w 4435560"/>
              <a:gd name="textAreaTop" fmla="*/ 344520 h 6419880"/>
              <a:gd name="textAreaBottom" fmla="*/ 6075360 h 64198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9"/>
          <p:cNvGrpSpPr/>
          <p:nvPr/>
        </p:nvGrpSpPr>
        <p:grpSpPr>
          <a:xfrm>
            <a:off x="179280" y="303120"/>
            <a:ext cx="4345200" cy="6340680"/>
            <a:chOff x="179280" y="303120"/>
            <a:chExt cx="4345200" cy="6340680"/>
          </a:xfrm>
        </p:grpSpPr>
        <p:sp>
          <p:nvSpPr>
            <p:cNvPr id="543" name="AutoShape 10"/>
            <p:cNvSpPr/>
            <p:nvPr/>
          </p:nvSpPr>
          <p:spPr>
            <a:xfrm flipH="1">
              <a:off x="179280" y="30312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На страницах могут быть размещен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текст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списки, гиперссылки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графические изображени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видео и зву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AutoShape 52"/>
          <p:cNvSpPr/>
          <p:nvPr/>
        </p:nvSpPr>
        <p:spPr>
          <a:xfrm>
            <a:off x="4548240" y="272880"/>
            <a:ext cx="4421160" cy="6364440"/>
          </a:xfrm>
          <a:custGeom>
            <a:avLst/>
            <a:gdLst>
              <a:gd name="textAreaLeft" fmla="*/ 0 w 4421160"/>
              <a:gd name="textAreaRight" fmla="*/ 4421160 w 4421160"/>
              <a:gd name="textAreaTop" fmla="*/ 341640 h 6364440"/>
              <a:gd name="textAreaBottom" fmla="*/ 6022800 h 63644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4562640" y="241200"/>
            <a:ext cx="4421160" cy="6364440"/>
          </a:xfrm>
          <a:custGeom>
            <a:avLst/>
            <a:gdLst>
              <a:gd name="textAreaLeft" fmla="*/ 0 w 4421160"/>
              <a:gd name="textAreaRight" fmla="*/ 4421160 w 4421160"/>
              <a:gd name="textAreaTop" fmla="*/ 341640 h 6364440"/>
              <a:gd name="textAreaBottom" fmla="*/ 6022800 h 63644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9"/>
          <p:cNvSpPr/>
          <p:nvPr/>
        </p:nvSpPr>
        <p:spPr>
          <a:xfrm flipH="1">
            <a:off x="295200" y="320760"/>
            <a:ext cx="4030560" cy="6234120"/>
          </a:xfrm>
          <a:custGeom>
            <a:avLst/>
            <a:gdLst>
              <a:gd name="textAreaLeft" fmla="*/ 0 w 4030560"/>
              <a:gd name="textAreaRight" fmla="*/ 4030560 w 4030560"/>
              <a:gd name="textAreaTop" fmla="*/ 334800 h 6234120"/>
              <a:gd name="textAreaBottom" fmla="*/ 5899320 h 62341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«Медом» называли специ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изготовленные напи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Готовили мед для пиров в боль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боч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сортов его было великое множе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вишне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смородин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можжевел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кра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Calibri"/>
              </a:rPr>
              <a:t>малиновый, черемух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скрепки"/>
          <p:cNvPicPr/>
          <p:nvPr/>
        </p:nvPicPr>
        <p:blipFill>
          <a:blip r:embed="rId11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5" descr="http://ic.pics.livejournal.com/mary_hr5/71694442/658014/658014_600.jpg"/>
          <p:cNvPicPr/>
          <p:nvPr/>
        </p:nvPicPr>
        <p:blipFill>
          <a:blip r:embed="rId12"/>
          <a:stretch/>
        </p:blipFill>
        <p:spPr>
          <a:xfrm>
            <a:off x="4653000" y="285912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3" descr="http://opa.kg/uploads/posts/2010-05/1273507135_21561410_img_0007.jpg"/>
          <p:cNvPicPr/>
          <p:nvPr/>
        </p:nvPicPr>
        <p:blipFill>
          <a:blip r:embed="rId13"/>
          <a:stretch/>
        </p:blipFill>
        <p:spPr>
          <a:xfrm rot="20225400">
            <a:off x="5157720" y="1079280"/>
            <a:ext cx="3467160" cy="271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179280" y="303120"/>
            <a:ext cx="4345200" cy="6340680"/>
            <a:chOff x="179280" y="303120"/>
            <a:chExt cx="4345200" cy="6340680"/>
          </a:xfrm>
        </p:grpSpPr>
        <p:sp>
          <p:nvSpPr>
            <p:cNvPr id="555" name="AutoShape 10"/>
            <p:cNvSpPr/>
            <p:nvPr/>
          </p:nvSpPr>
          <p:spPr>
            <a:xfrm flipH="1">
              <a:off x="179280" y="30312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9"/>
          <p:cNvSpPr/>
          <p:nvPr/>
        </p:nvSpPr>
        <p:spPr>
          <a:xfrm flipH="1">
            <a:off x="2698200" y="1353960"/>
            <a:ext cx="1749240" cy="3538800"/>
          </a:xfrm>
          <a:custGeom>
            <a:avLst/>
            <a:gdLst>
              <a:gd name="textAreaLeft" fmla="*/ -360 w 1749240"/>
              <a:gd name="textAreaRight" fmla="*/ 1749240 w 1749240"/>
              <a:gd name="textAreaTop" fmla="*/ 189720 h 3538800"/>
              <a:gd name="textAreaBottom" fmla="*/ 3349080 h 35388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8"/>
          <p:cNvSpPr/>
          <p:nvPr/>
        </p:nvSpPr>
        <p:spPr>
          <a:xfrm>
            <a:off x="4562640" y="241200"/>
            <a:ext cx="4441680" cy="643896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960"/>
              <a:gd name="textAreaBottom" fmla="*/ 6093360 h 64389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1" descr="скрепки"/>
          <p:cNvPicPr/>
          <p:nvPr/>
        </p:nvPicPr>
        <p:blipFill>
          <a:blip r:embed="rId6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28"/>
          <p:cNvSpPr/>
          <p:nvPr/>
        </p:nvSpPr>
        <p:spPr>
          <a:xfrm>
            <a:off x="4562640" y="281160"/>
            <a:ext cx="4441680" cy="643860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600"/>
              <a:gd name="textAreaBottom" fmla="*/ 6093000 h 64386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Какой хлеб был на сто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ден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*Почему «белый хлеб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и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аздничные д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5" descr="Древнерусская еда"/>
          <p:cNvPicPr/>
          <p:nvPr/>
        </p:nvPicPr>
        <p:blipFill>
          <a:blip r:embed="rId8"/>
          <a:stretch/>
        </p:blipFill>
        <p:spPr>
          <a:xfrm>
            <a:off x="287280" y="2933640"/>
            <a:ext cx="3876840" cy="3360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7" descr="Древнерусская еда"/>
          <p:cNvPicPr/>
          <p:nvPr/>
        </p:nvPicPr>
        <p:blipFill>
          <a:blip r:embed="rId9"/>
          <a:stretch/>
        </p:blipFill>
        <p:spPr>
          <a:xfrm>
            <a:off x="4948200" y="763560"/>
            <a:ext cx="3827520" cy="217008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2"/>
          <p:cNvSpPr/>
          <p:nvPr/>
        </p:nvSpPr>
        <p:spPr>
          <a:xfrm>
            <a:off x="442800" y="763560"/>
            <a:ext cx="3721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Руси хлеб – всему голова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9"/>
          <p:cNvGrpSpPr/>
          <p:nvPr/>
        </p:nvGrpSpPr>
        <p:grpSpPr>
          <a:xfrm>
            <a:off x="179280" y="303120"/>
            <a:ext cx="4345200" cy="6340680"/>
            <a:chOff x="179280" y="303120"/>
            <a:chExt cx="4345200" cy="6340680"/>
          </a:xfrm>
        </p:grpSpPr>
        <p:sp>
          <p:nvSpPr>
            <p:cNvPr id="568" name="AutoShape 10"/>
            <p:cNvSpPr/>
            <p:nvPr/>
          </p:nvSpPr>
          <p:spPr>
            <a:xfrm flipH="1">
              <a:off x="179280" y="30312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На страницах могут быть размещен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текст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списки, гиперссылки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графические изображени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видео и зву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AutoShape 19"/>
          <p:cNvSpPr/>
          <p:nvPr/>
        </p:nvSpPr>
        <p:spPr>
          <a:xfrm flipH="1">
            <a:off x="179280" y="347760"/>
            <a:ext cx="4340160" cy="6234120"/>
          </a:xfrm>
          <a:custGeom>
            <a:avLst/>
            <a:gdLst>
              <a:gd name="textAreaLeft" fmla="*/ 360 w 4340160"/>
              <a:gd name="textAreaRight" fmla="*/ 4340880 w 4340160"/>
              <a:gd name="textAreaTop" fmla="*/ 334800 h 6234120"/>
              <a:gd name="textAreaBottom" fmla="*/ 5899320 h 62341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на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т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ts val="165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суп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8"/>
          <p:cNvSpPr/>
          <p:nvPr/>
        </p:nvSpPr>
        <p:spPr>
          <a:xfrm>
            <a:off x="4562640" y="241200"/>
            <a:ext cx="4441680" cy="643896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960"/>
              <a:gd name="textAreaBottom" fmla="*/ 6093360 h 64389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1" descr="скрепки"/>
          <p:cNvPicPr/>
          <p:nvPr/>
        </p:nvPicPr>
        <p:blipFill>
          <a:blip r:embed="rId6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28"/>
          <p:cNvSpPr/>
          <p:nvPr/>
        </p:nvSpPr>
        <p:spPr>
          <a:xfrm>
            <a:off x="4645080" y="208080"/>
            <a:ext cx="4359240" cy="2890800"/>
          </a:xfrm>
          <a:custGeom>
            <a:avLst/>
            <a:gdLst>
              <a:gd name="textAreaLeft" fmla="*/ 0 w 4359240"/>
              <a:gd name="textAreaRight" fmla="*/ 4359600 w 4359240"/>
              <a:gd name="textAreaTop" fmla="*/ 155160 h 2890800"/>
              <a:gd name="textAreaBottom" fmla="*/ 2735640 h 28908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охлеб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хлебов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щи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затирух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6" descr="Древнерусская еда"/>
          <p:cNvPicPr/>
          <p:nvPr/>
        </p:nvPicPr>
        <p:blipFill>
          <a:blip r:embed="rId8"/>
          <a:stretch/>
        </p:blipFill>
        <p:spPr>
          <a:xfrm>
            <a:off x="477720" y="743040"/>
            <a:ext cx="3649680" cy="2355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Древнерусская еда еда, история, факты"/>
          <p:cNvPicPr/>
          <p:nvPr/>
        </p:nvPicPr>
        <p:blipFill>
          <a:blip r:embed="rId9"/>
          <a:stretch/>
        </p:blipFill>
        <p:spPr>
          <a:xfrm rot="20749200">
            <a:off x="5206680" y="3624120"/>
            <a:ext cx="357804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9"/>
          <p:cNvGrpSpPr/>
          <p:nvPr/>
        </p:nvGrpSpPr>
        <p:grpSpPr>
          <a:xfrm>
            <a:off x="179280" y="303120"/>
            <a:ext cx="4345200" cy="6340680"/>
            <a:chOff x="179280" y="303120"/>
            <a:chExt cx="4345200" cy="6340680"/>
          </a:xfrm>
        </p:grpSpPr>
        <p:sp>
          <p:nvSpPr>
            <p:cNvPr id="580" name="AutoShape 10"/>
            <p:cNvSpPr/>
            <p:nvPr/>
          </p:nvSpPr>
          <p:spPr>
            <a:xfrm flipH="1">
              <a:off x="179280" y="30312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На страницах могут быть размещен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текст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списки, гиперссылки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графические изображени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видео и зву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8"/>
          <p:cNvGrpSpPr/>
          <p:nvPr/>
        </p:nvGrpSpPr>
        <p:grpSpPr>
          <a:xfrm>
            <a:off x="259920" y="347760"/>
            <a:ext cx="4259160" cy="6234120"/>
            <a:chOff x="259920" y="347760"/>
            <a:chExt cx="4259160" cy="6234120"/>
          </a:xfrm>
        </p:grpSpPr>
        <p:sp>
          <p:nvSpPr>
            <p:cNvPr id="583" name="AutoShape 19"/>
            <p:cNvSpPr/>
            <p:nvPr/>
          </p:nvSpPr>
          <p:spPr>
            <a:xfrm flipH="1">
              <a:off x="259560" y="347760"/>
              <a:ext cx="4259160" cy="6234120"/>
            </a:xfrm>
            <a:custGeom>
              <a:avLst/>
              <a:gdLst>
                <a:gd name="textAreaLeft" fmla="*/ -360 w 4259160"/>
                <a:gd name="textAreaRight" fmla="*/ 4259160 w 4259160"/>
                <a:gd name="textAreaTop" fmla="*/ 334800 h 6234120"/>
                <a:gd name="textAreaBottom" fmla="*/ 5899320 h 62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20"/>
            <p:cNvSpPr/>
            <p:nvPr/>
          </p:nvSpPr>
          <p:spPr>
            <a:xfrm>
              <a:off x="518400" y="1399680"/>
              <a:ext cx="3683160" cy="19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И так далее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AutoShape 23"/>
          <p:cNvSpPr/>
          <p:nvPr/>
        </p:nvSpPr>
        <p:spPr>
          <a:xfrm flipH="1">
            <a:off x="212760" y="2085840"/>
            <a:ext cx="4392720" cy="4496040"/>
          </a:xfrm>
          <a:custGeom>
            <a:avLst/>
            <a:gdLst>
              <a:gd name="textAreaLeft" fmla="*/ 360 w 4392720"/>
              <a:gd name="textAreaRight" fmla="*/ 4393440 w 4392720"/>
              <a:gd name="textAreaTop" fmla="*/ 241200 h 4496040"/>
              <a:gd name="textAreaBottom" fmla="*/ 4254840 h 44960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8"/>
          <p:cNvSpPr/>
          <p:nvPr/>
        </p:nvSpPr>
        <p:spPr>
          <a:xfrm>
            <a:off x="4562640" y="241200"/>
            <a:ext cx="4441680" cy="6438960"/>
          </a:xfrm>
          <a:custGeom>
            <a:avLst/>
            <a:gdLst>
              <a:gd name="textAreaLeft" fmla="*/ 0 w 4441680"/>
              <a:gd name="textAreaRight" fmla="*/ 4442040 w 4441680"/>
              <a:gd name="textAreaTop" fmla="*/ 345600 h 6438960"/>
              <a:gd name="textAreaBottom" fmla="*/ 6093360 h 64389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  не прос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рич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живший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т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 сист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о­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1" descr="скрепки"/>
          <p:cNvPicPr/>
          <p:nvPr/>
        </p:nvPicPr>
        <p:blipFill>
          <a:blip r:embed="rId7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0" descr="http://cikav0.in.ua/wp-content/uploads/2017/03/original-1-11.jpg"/>
          <p:cNvPicPr/>
          <p:nvPr/>
        </p:nvPicPr>
        <p:blipFill>
          <a:blip r:embed="rId8"/>
          <a:stretch/>
        </p:blipFill>
        <p:spPr>
          <a:xfrm>
            <a:off x="333360" y="912960"/>
            <a:ext cx="4113360" cy="2347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2" descr="https://avatars.mds.yandex.net/get-pdb/202366/5e00478e-c15c-4046-8a20-e8dd39231063/s1200?webp=false"/>
          <p:cNvPicPr/>
          <p:nvPr/>
        </p:nvPicPr>
        <p:blipFill>
          <a:blip r:embed="rId9"/>
          <a:stretch/>
        </p:blipFill>
        <p:spPr>
          <a:xfrm rot="20091600">
            <a:off x="587520" y="3396960"/>
            <a:ext cx="334008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9"/>
          <p:cNvGrpSpPr/>
          <p:nvPr/>
        </p:nvGrpSpPr>
        <p:grpSpPr>
          <a:xfrm>
            <a:off x="160200" y="176040"/>
            <a:ext cx="4345200" cy="6340680"/>
            <a:chOff x="160200" y="176040"/>
            <a:chExt cx="4345200" cy="6340680"/>
          </a:xfrm>
        </p:grpSpPr>
        <p:sp>
          <p:nvSpPr>
            <p:cNvPr id="594" name="AutoShape 10"/>
            <p:cNvSpPr/>
            <p:nvPr/>
          </p:nvSpPr>
          <p:spPr>
            <a:xfrm flipH="1">
              <a:off x="160200" y="176040"/>
              <a:ext cx="4345200" cy="6340680"/>
            </a:xfrm>
            <a:custGeom>
              <a:avLst/>
              <a:gdLst>
                <a:gd name="textAreaLeft" fmla="*/ 360 w 4345200"/>
                <a:gd name="textAreaRight" fmla="*/ 4345920 w 434520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1"/>
            <p:cNvSpPr/>
            <p:nvPr/>
          </p:nvSpPr>
          <p:spPr>
            <a:xfrm>
              <a:off x="423720" y="4093920"/>
              <a:ext cx="4081680" cy="19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8"/>
          <p:cNvGrpSpPr/>
          <p:nvPr/>
        </p:nvGrpSpPr>
        <p:grpSpPr>
          <a:xfrm>
            <a:off x="442800" y="3441600"/>
            <a:ext cx="4076640" cy="2855880"/>
            <a:chOff x="442800" y="3441600"/>
            <a:chExt cx="4076640" cy="2855880"/>
          </a:xfrm>
        </p:grpSpPr>
        <p:sp>
          <p:nvSpPr>
            <p:cNvPr id="597" name="AutoShape 19"/>
            <p:cNvSpPr/>
            <p:nvPr/>
          </p:nvSpPr>
          <p:spPr>
            <a:xfrm flipH="1">
              <a:off x="442800" y="3441600"/>
              <a:ext cx="4076640" cy="2855880"/>
            </a:xfrm>
            <a:custGeom>
              <a:avLst/>
              <a:gdLst>
                <a:gd name="textAreaLeft" fmla="*/ 360 w 4076640"/>
                <a:gd name="textAreaRight" fmla="*/ 4077360 w 4076640"/>
                <a:gd name="textAreaTop" fmla="*/ 153360 h 2855880"/>
                <a:gd name="textAreaBottom" fmla="*/ 2702520 h 28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689760" y="3923280"/>
              <a:ext cx="35251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AutoShape 28"/>
          <p:cNvSpPr/>
          <p:nvPr/>
        </p:nvSpPr>
        <p:spPr>
          <a:xfrm>
            <a:off x="4532400" y="241200"/>
            <a:ext cx="4425840" cy="6402600"/>
          </a:xfrm>
          <a:custGeom>
            <a:avLst/>
            <a:gdLst>
              <a:gd name="textAreaLeft" fmla="*/ 0 w 4425840"/>
              <a:gd name="textAreaRight" fmla="*/ 4426200 w 4425840"/>
              <a:gd name="textAreaTop" fmla="*/ 343800 h 6402600"/>
              <a:gd name="textAreaBottom" fmla="*/ 6058800 h 64026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1" descr="скрепки"/>
          <p:cNvPicPr/>
          <p:nvPr/>
        </p:nvPicPr>
        <p:blipFill>
          <a:blip r:embed="rId6"/>
          <a:stretch/>
        </p:blipFill>
        <p:spPr>
          <a:xfrm>
            <a:off x="4164120" y="446040"/>
            <a:ext cx="961920" cy="59626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1"/>
          <p:cNvSpPr/>
          <p:nvPr/>
        </p:nvSpPr>
        <p:spPr>
          <a:xfrm>
            <a:off x="690480" y="708120"/>
            <a:ext cx="299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л россиянина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"/>
          <p:cNvSpPr/>
          <p:nvPr/>
        </p:nvSpPr>
        <p:spPr>
          <a:xfrm>
            <a:off x="5227560" y="3382920"/>
            <a:ext cx="373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годня пища «цивилизованного» человека   превра­щается из дара природы в продукт промышлен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6" descr="http://reeana.ru/wp-content/uploads/2015/07/%D1%81.jpg"/>
          <p:cNvPicPr/>
          <p:nvPr/>
        </p:nvPicPr>
        <p:blipFill>
          <a:blip r:embed="rId7"/>
          <a:stretch/>
        </p:blipFill>
        <p:spPr>
          <a:xfrm>
            <a:off x="326880" y="2646360"/>
            <a:ext cx="3837240" cy="3386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8" descr="http://www.nasepraha10.cz/data/USR_099_DEFAULT/1/aaa(1247).jpg"/>
          <p:cNvPicPr/>
          <p:nvPr/>
        </p:nvPicPr>
        <p:blipFill>
          <a:blip r:embed="rId8"/>
          <a:stretch/>
        </p:blipFill>
        <p:spPr>
          <a:xfrm>
            <a:off x="5599080" y="635040"/>
            <a:ext cx="298764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1373040"/>
            <a:ext cx="460548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urier New"/>
              </a:rPr>
              <a:t>Эффект перелистывающейся книги</a:t>
            </a: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Автор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тель информати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МОУ Лицей №6 Попова С.Г.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993300"/>
                </a:solidFill>
                <a:latin typeface="Courier New"/>
              </a:rPr>
              <a:t>Начало: по щелчку</a:t>
            </a:r>
            <a:r>
              <a:rPr b="1" lang="ru-RU" sz="3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4532400" y="176040"/>
            <a:ext cx="4573440" cy="6648480"/>
          </a:xfrm>
          <a:custGeom>
            <a:avLst/>
            <a:gdLst>
              <a:gd name="textAreaLeft" fmla="*/ 0 w 4573440"/>
              <a:gd name="textAreaRight" fmla="*/ 4573800 w 4573440"/>
              <a:gd name="textAreaTop" fmla="*/ 356760 h 6648480"/>
              <a:gd name="textAreaBottom" fmla="*/ 6291720 h 66484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4532400" y="185760"/>
            <a:ext cx="4538520" cy="6602400"/>
          </a:xfrm>
          <a:custGeom>
            <a:avLst/>
            <a:gdLst>
              <a:gd name="textAreaLeft" fmla="*/ 0 w 4538520"/>
              <a:gd name="textAreaRight" fmla="*/ 4538880 w 4538520"/>
              <a:gd name="textAreaTop" fmla="*/ 354240 h 6602400"/>
              <a:gd name="textAreaBottom" fmla="*/ 6248160 h 660240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4530600" y="209520"/>
            <a:ext cx="4505400" cy="6531120"/>
          </a:xfrm>
          <a:custGeom>
            <a:avLst/>
            <a:gdLst>
              <a:gd name="textAreaLeft" fmla="*/ 0 w 4505400"/>
              <a:gd name="textAreaRight" fmla="*/ 4505760 w 4505400"/>
              <a:gd name="textAreaTop" fmla="*/ 350640 h 6531120"/>
              <a:gd name="textAreaBottom" fmla="*/ 6180480 h 65311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4532400" y="209520"/>
            <a:ext cx="4470480" cy="6491160"/>
          </a:xfrm>
          <a:custGeom>
            <a:avLst/>
            <a:gdLst>
              <a:gd name="textAreaLeft" fmla="*/ 0 w 4470480"/>
              <a:gd name="textAreaRight" fmla="*/ 4470840 w 4470480"/>
              <a:gd name="textAreaTop" fmla="*/ 348480 h 6491160"/>
              <a:gd name="textAreaBottom" fmla="*/ 6142680 h 649116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532400" y="227160"/>
            <a:ext cx="4435560" cy="6419880"/>
          </a:xfrm>
          <a:custGeom>
            <a:avLst/>
            <a:gdLst>
              <a:gd name="textAreaLeft" fmla="*/ 0 w 4435560"/>
              <a:gd name="textAreaRight" fmla="*/ 4435920 w 4435560"/>
              <a:gd name="textAreaTop" fmla="*/ 344520 h 6419880"/>
              <a:gd name="textAreaBottom" fmla="*/ 6075360 h 641988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"/>
          <p:cNvSpPr/>
          <p:nvPr/>
        </p:nvSpPr>
        <p:spPr>
          <a:xfrm flipH="1">
            <a:off x="122400" y="262080"/>
            <a:ext cx="4394160" cy="6435720"/>
          </a:xfrm>
          <a:custGeom>
            <a:avLst/>
            <a:gdLst>
              <a:gd name="textAreaLeft" fmla="*/ 360 w 4394160"/>
              <a:gd name="textAreaRight" fmla="*/ 4394880 w 4394160"/>
              <a:gd name="textAreaTop" fmla="*/ 345600 h 6435720"/>
              <a:gd name="textAreaBottom" fmla="*/ 6090120 h 643572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9"/>
          <p:cNvGrpSpPr/>
          <p:nvPr/>
        </p:nvGrpSpPr>
        <p:grpSpPr>
          <a:xfrm>
            <a:off x="-360" y="272880"/>
            <a:ext cx="4344840" cy="6340680"/>
            <a:chOff x="-360" y="272880"/>
            <a:chExt cx="4344840" cy="6340680"/>
          </a:xfrm>
        </p:grpSpPr>
        <p:sp>
          <p:nvSpPr>
            <p:cNvPr id="613" name="AutoShape 10"/>
            <p:cNvSpPr/>
            <p:nvPr/>
          </p:nvSpPr>
          <p:spPr>
            <a:xfrm flipH="1">
              <a:off x="-720" y="272880"/>
              <a:ext cx="4344840" cy="6340680"/>
            </a:xfrm>
            <a:custGeom>
              <a:avLst/>
              <a:gdLst>
                <a:gd name="textAreaLeft" fmla="*/ -360 w 4344840"/>
                <a:gd name="textAreaRight" fmla="*/ 4344840 w 4344840"/>
                <a:gd name="textAreaTop" fmla="*/ 340200 h 6340680"/>
                <a:gd name="textAreaBottom" fmla="*/ 6000480 h 634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80"/>
                  </a:moveTo>
                  <a:cubicBezTo>
                    <a:pt x="7200" y="-1475"/>
                    <a:pt x="14400" y="2635"/>
                    <a:pt x="21600" y="580"/>
                  </a:cubicBezTo>
                  <a:lnTo>
                    <a:pt x="21600" y="21020"/>
                  </a:lnTo>
                  <a:cubicBezTo>
                    <a:pt x="14400" y="23075"/>
                    <a:pt x="7200" y="18965"/>
                    <a:pt x="0" y="210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442800" y="1373040"/>
              <a:ext cx="3757680" cy="20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AutoShape 52"/>
          <p:cNvSpPr/>
          <p:nvPr/>
        </p:nvSpPr>
        <p:spPr>
          <a:xfrm>
            <a:off x="4548240" y="272880"/>
            <a:ext cx="4421160" cy="6364440"/>
          </a:xfrm>
          <a:custGeom>
            <a:avLst/>
            <a:gdLst>
              <a:gd name="textAreaLeft" fmla="*/ 0 w 4421160"/>
              <a:gd name="textAreaRight" fmla="*/ 4421160 w 4421160"/>
              <a:gd name="textAreaTop" fmla="*/ 341640 h 6364440"/>
              <a:gd name="textAreaBottom" fmla="*/ 6022800 h 63644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2"/>
          <p:cNvSpPr/>
          <p:nvPr/>
        </p:nvSpPr>
        <p:spPr>
          <a:xfrm>
            <a:off x="4562640" y="241200"/>
            <a:ext cx="4421160" cy="6364440"/>
          </a:xfrm>
          <a:custGeom>
            <a:avLst/>
            <a:gdLst>
              <a:gd name="textAreaLeft" fmla="*/ 0 w 4421160"/>
              <a:gd name="textAreaRight" fmla="*/ 4421160 w 4421160"/>
              <a:gd name="textAreaTop" fmla="*/ 341640 h 6364440"/>
              <a:gd name="textAreaBottom" fmla="*/ 6022800 h 63644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49"/>
          <p:cNvSpPr/>
          <p:nvPr/>
        </p:nvSpPr>
        <p:spPr>
          <a:xfrm flipH="1">
            <a:off x="442080" y="446040"/>
            <a:ext cx="8169480" cy="6135840"/>
          </a:xfrm>
          <a:custGeom>
            <a:avLst/>
            <a:gdLst>
              <a:gd name="textAreaLeft" fmla="*/ -360 w 8169480"/>
              <a:gd name="textAreaRight" fmla="*/ 8169480 w 8169480"/>
              <a:gd name="textAreaTop" fmla="*/ 329400 h 6135840"/>
              <a:gd name="textAreaBottom" fmla="*/ 5806440 h 6135840"/>
            </a:gdLst>
            <a:ahLst/>
            <a:rect l="textAreaLeft" t="textAreaTop" r="textAreaRight" b="textAreaBottom"/>
            <a:pathLst>
              <a:path w="21600" h="21600">
                <a:moveTo>
                  <a:pt x="0" y="580"/>
                </a:moveTo>
                <a:cubicBezTo>
                  <a:pt x="7200" y="-1475"/>
                  <a:pt x="14400" y="2635"/>
                  <a:pt x="21600" y="580"/>
                </a:cubicBezTo>
                <a:lnTo>
                  <a:pt x="21600" y="21020"/>
                </a:lnTo>
                <a:cubicBezTo>
                  <a:pt x="14400" y="23075"/>
                  <a:pt x="7200" y="18965"/>
                  <a:pt x="0" y="21020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ahoma"/>
                <a:ea typeface="Tahoma"/>
              </a:rPr>
              <a:t>Здоровье близко: ищи его в ми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Здоровое пита­ние 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это пища родного до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основанная на рецепта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передава­емых от бабуш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к дочери и внучк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на семейных традиц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  <a:ea typeface="Calibri"/>
              </a:rPr>
              <a:t>на традициях народа.</a:t>
            </a: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User</cp:lastModifiedBy>
  <dcterms:modified xsi:type="dcterms:W3CDTF">2020-08-11T20:44:09Z</dcterms:modified>
  <cp:revision>235</cp:revision>
  <dc:subject/>
  <dc:title>Эффект перелистывающейся книги Автор: учитель информатики МОУ Лицей №6 Попова С.Г. Начало: по щелч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