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93CC-A2E9-459C-80FC-2B043CCC9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8BF9-A7CD-453C-8B62-FF5E170BB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32D7-FBF1-4C02-A524-7FB2D7F99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18AA-F2A3-4097-95B8-095213229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D362-6EFF-4CE6-B10B-7987380571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6363-77CB-4B17-80A2-B7630C3A5C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5A47-140D-435C-98F4-BA9144BED2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D446-AC0C-42CF-866F-592DCE7444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7FA7C-7F34-49CA-B473-95D042DBEB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7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04B5-54B1-4874-BE36-C286B16A92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8D972-6AD6-4098-BD34-FA99B7625F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81A3-289C-4631-90D2-9809257A1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3C31-E6E2-49B6-9FB7-1699829F75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44E7-B31F-48BA-A429-02E45D0DBA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218F-3DDD-420B-BD74-100A59463C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F0F5-FDA9-4F56-80AD-77AA448688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3779-2AA7-42A4-A6D6-28D2F37A8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91DE-FDD4-4008-9D8F-E0B64363B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95D2-1CFC-45C4-8DEC-2423E39E9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8762-833A-4C4F-94FD-82B9E1835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7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0992-468A-419A-ACD9-2D1253B58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BC86-B7AB-4504-90E1-64F6D1E90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03A5-4255-4B43-B5E4-930FB29A4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AED1-DA5C-406B-B911-C43415B1D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3840" cy="6307200"/>
              <a:chOff x="7848720" y="1440"/>
              <a:chExt cx="1293840" cy="63072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0680" cy="2268720"/>
                <a:chOff x="8381880" y="1440"/>
                <a:chExt cx="760680" cy="22687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7560" cy="274680"/>
                  <a:chOff x="8704440" y="1440"/>
                  <a:chExt cx="277560" cy="2746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7560" cy="274680"/>
                    <a:chOff x="8704440" y="1440"/>
                    <a:chExt cx="277560" cy="2746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2960" y="-37080"/>
                      <a:ext cx="200160" cy="2775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3960" y="128880"/>
                    <a:ext cx="2700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5560" y="71640"/>
                    <a:ext cx="41400" cy="554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000" y="59400"/>
                    <a:ext cx="63360" cy="367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09440"/>
                    <a:ext cx="22320" cy="60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0680" y="166320"/>
                    <a:ext cx="36720" cy="399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9080" cy="19382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7520" cy="19987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0480" cy="403560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8120" cy="21830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2600" cy="50468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8280" cy="30700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4920" cy="33512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8440" cy="33512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3520" cy="6174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5400" y="3316320"/>
              <a:ext cx="6856560" cy="2239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652888-29C9-4308-878C-6EC539D448D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0"/>
              <a:ext cx="1293840" cy="6308640"/>
              <a:chOff x="7848720" y="0"/>
              <a:chExt cx="1293840" cy="630864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0"/>
                <a:ext cx="760680" cy="2270160"/>
                <a:chOff x="8381880" y="0"/>
                <a:chExt cx="76068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7320" y="0"/>
                  <a:ext cx="277920" cy="274680"/>
                  <a:chOff x="8707320" y="0"/>
                  <a:chExt cx="277920" cy="2746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7320" y="0"/>
                    <a:ext cx="277920" cy="274680"/>
                    <a:chOff x="8707320" y="0"/>
                    <a:chExt cx="277920" cy="2746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6200" y="-38880"/>
                      <a:ext cx="200160" cy="2779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5560" y="92880"/>
                      <a:ext cx="139680" cy="2235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7200" y="128880"/>
                    <a:ext cx="27000" cy="255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8800" y="71640"/>
                    <a:ext cx="41400" cy="554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31880" y="59400"/>
                    <a:ext cx="63360" cy="36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901000" y="109440"/>
                    <a:ext cx="22320" cy="604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7200" y="191160"/>
                    <a:ext cx="61920" cy="255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3920" y="166680"/>
                    <a:ext cx="36720" cy="396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9080" cy="19382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7520" cy="19987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0480" cy="403560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8120" cy="21830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2600" cy="50468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8280" cy="30700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4920" cy="33512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8440" cy="33512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3520" cy="6174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5400" y="3316320"/>
              <a:ext cx="6856560" cy="2239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42651A-F1B1-49D2-AFBB-FD61A8D3D1E3}" type="slidenum">
              <a:rPr b="0" lang="ru-RU" sz="1000" spc="-1" strike="noStrike">
                <a:solidFill>
                  <a:srgbClr val="2f1311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966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Знакомтесь - юбк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3886200"/>
            <a:ext cx="3803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743280" y="1368360"/>
            <a:ext cx="3457800" cy="5040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8920" y="1655640"/>
            <a:ext cx="33670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24360" y="836640"/>
            <a:ext cx="361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середине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XIX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века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появляются вновь юбки с кринолинами, изготовленными из китового уса или  проволоки. Юбки украшаются воланами, кружевом, узорными лента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324504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907920"/>
            <a:ext cx="36162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Во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второй половине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XIX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века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на смену кринолину приходят нижняя юбка с оборками и подушка </a:t>
            </a:r>
            <a:r>
              <a:rPr b="0" i="1" lang="ru-RU" sz="2800" spc="-1" strike="noStrike">
                <a:solidFill>
                  <a:srgbClr val="2f1311"/>
                </a:solidFill>
                <a:latin typeface="Book Antiqua"/>
              </a:rPr>
              <a:t>турнюр.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На ней драпируются ткань в несколько слое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000240" cy="6210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404640"/>
            <a:ext cx="43214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конце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XIX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века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женщины затягиваются в </a:t>
            </a:r>
            <a:r>
              <a:rPr b="0" i="1" lang="ru-RU" sz="2800" spc="-1" strike="noStrike">
                <a:solidFill>
                  <a:srgbClr val="2f1311"/>
                </a:solidFill>
                <a:latin typeface="Book Antiqua"/>
              </a:rPr>
              <a:t>корсет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до бедер, юбка переходит в драпировку, напоминающую русалочий хвост, часть юбки при этом лежит на полу. Юбка становится и самостоятельным поясным изделие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68760" y="620640"/>
            <a:ext cx="3095640" cy="5475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63520" y="1598760"/>
            <a:ext cx="394812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XX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век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приносит силуэт «модерн».Юбка расклешенная с удлиненным перед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780000" y="1413000"/>
            <a:ext cx="356544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780000" y="3141720"/>
            <a:ext cx="3355920" cy="3355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87280" y="687240"/>
            <a:ext cx="39592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20-х год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XX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века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в моду входят юбки расширяющиеся от бедер, а длина их заметно сокращаетс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508720" y="260280"/>
            <a:ext cx="3111480" cy="3111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508720" y="260280"/>
            <a:ext cx="3095640" cy="3097440"/>
          </a:xfrm>
          <a:prstGeom prst="rect">
            <a:avLst/>
          </a:prstGeom>
          <a:noFill/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50920" y="981000"/>
            <a:ext cx="36162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40-е годы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XX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века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юбки поднимаются до колена. Современная жизнь раскрепостила моду, сделала её свободной, удобной, практич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40360" y="907920"/>
            <a:ext cx="3147840" cy="4497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79280" y="1268280"/>
            <a:ext cx="380376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В </a:t>
            </a:r>
            <a:r>
              <a:rPr b="0" lang="ru-RU" sz="2800" spc="-1" strike="noStrike">
                <a:solidFill>
                  <a:srgbClr val="c9211e"/>
                </a:solidFill>
                <a:latin typeface="Book Antiqua"/>
              </a:rPr>
              <a:t>50-е годы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женщины - сама скромность.  Платья и пальто  длиной до середины икры.  Актуальны узкие остроносые туфли на невысоком каблук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3265560" cy="4535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067280" y="1268280"/>
            <a:ext cx="3313080" cy="4537080"/>
          </a:xfrm>
          <a:prstGeom prst="rect">
            <a:avLst/>
          </a:prstGeom>
          <a:noFill/>
          <a:ln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63520" y="1598760"/>
            <a:ext cx="4092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Book Antiqua"/>
              </a:rPr>
              <a:t>В </a:t>
            </a:r>
            <a:r>
              <a:rPr b="0" lang="ru-RU" sz="3200" spc="-1" strike="noStrike">
                <a:solidFill>
                  <a:srgbClr val="c9211e"/>
                </a:solidFill>
                <a:latin typeface="Book Antiqua"/>
              </a:rPr>
              <a:t>60-е годы</a:t>
            </a:r>
            <a:r>
              <a:rPr b="0" lang="ru-RU" sz="3200" spc="-1" strike="noStrike">
                <a:solidFill>
                  <a:srgbClr val="2f1311"/>
                </a:solidFill>
                <a:latin typeface="Book Antiqua"/>
              </a:rPr>
              <a:t> появляются первые хиппи, бросающие вызов обществу.  Зарождается мода на мини-юбки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808360" y="1440000"/>
            <a:ext cx="4619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Какие юбки, какая отделка, какие ткани!  Очень хочется примерить все это на себ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778040" cy="4092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дин из элементов одежды — юбка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Book Antiqua"/>
                <a:ea typeface="Noto Sans CJK SC"/>
              </a:rPr>
              <a:t>Юбка- когда появилась  и какой была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Book Antiqua"/>
                <a:ea typeface="Noto Sans CJK SC"/>
              </a:rPr>
              <a:t>К</a:t>
            </a:r>
            <a:r>
              <a:rPr b="0" lang="ru-RU" sz="3200" spc="-1" strike="noStrike">
                <a:solidFill>
                  <a:srgbClr val="2f1311"/>
                </a:solidFill>
                <a:latin typeface="Book Antiqua"/>
              </a:rPr>
              <a:t>ак же одевались люди во все времена? Обратимся к истории.  Как известно все новое - это хорошо забытое старо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Эволюция развития юбк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352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Из истории мы знаем, что самой первой деталью одежды, скорее всего была юбка. Или вернее далекое её напоминание. Кусок шкуры убитого животного сыграл её рол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492912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981000"/>
            <a:ext cx="36162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В средние века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юбка представляла собой присборенное у горла и подпоясанное в талии одеяние длиной до коле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3236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284720" y="1052640"/>
            <a:ext cx="3471840" cy="5041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284720" y="907920"/>
            <a:ext cx="36180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С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XV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века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женская готическая юбка разделилась на лиф и собственно юбку. Длинный шлейф заставлял женщин </a:t>
            </a:r>
            <a:r>
              <a:rPr b="0" lang="en-US" sz="2800" spc="-1" strike="noStrike">
                <a:solidFill>
                  <a:srgbClr val="2f1311"/>
                </a:solidFill>
                <a:latin typeface="Book Antiqua"/>
              </a:rPr>
              <a:t>XV 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века отклоняться при ходьб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032000" cy="397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476280"/>
            <a:ext cx="410508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В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XVI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веке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состоятельные женщины одевались в массивные, тяжелые одежды. На бедра надевали</a:t>
            </a:r>
            <a:r>
              <a:rPr b="0" i="1" lang="ru-RU" sz="2800" spc="-1" strike="noStrike">
                <a:solidFill>
                  <a:srgbClr val="2f1311"/>
                </a:solidFill>
                <a:latin typeface="Book Antiqua"/>
              </a:rPr>
              <a:t> кринолин 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-каркас из нескольких металлических обручей, уменьшающихся в диаметре и  висящих на кожаных ремня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2935080" cy="5192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24360" y="981000"/>
            <a:ext cx="36180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В</a:t>
            </a:r>
            <a:r>
              <a:rPr b="0" lang="en-US" sz="2800" spc="-1" strike="noStrike">
                <a:solidFill>
                  <a:srgbClr val="2f1311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XVII </a:t>
            </a: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веке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женщины носят </a:t>
            </a:r>
            <a:r>
              <a:rPr b="0" i="1" lang="ru-RU" sz="2800" spc="-1" strike="noStrike">
                <a:solidFill>
                  <a:srgbClr val="2f1311"/>
                </a:solidFill>
                <a:latin typeface="Book Antiqua"/>
              </a:rPr>
              <a:t>вертюгадены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- обручи вокруг талии. Нижняя юбка выглядывает из-под подогнутой верхне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23800" y="692280"/>
            <a:ext cx="332424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24360" y="765000"/>
            <a:ext cx="361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В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XVIII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веке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появляются гладкие юбки с большим количеством украшений: оборок, цветочных гирлянд, кружев, драпировок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328920" cy="482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836640"/>
            <a:ext cx="36162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До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40-х годов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XIX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века</a:t>
            </a:r>
            <a:r>
              <a:rPr b="0" lang="ru-RU" sz="2800" spc="-1" strike="noStrike">
                <a:solidFill>
                  <a:srgbClr val="2f1311"/>
                </a:solidFill>
                <a:latin typeface="Book Antiqua"/>
              </a:rPr>
              <a:t> женский стан  облачен в одеяние подобное античным туникам. Так одевались пушкинские герои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211640" y="981000"/>
            <a:ext cx="3192480" cy="4497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34:22Z</dcterms:created>
  <dc:creator>Sh28</dc:creator>
  <dc:description/>
  <dc:language>en-US</dc:language>
  <cp:lastModifiedBy/>
  <dcterms:modified xsi:type="dcterms:W3CDTF">2020-08-07T17:02:21Z</dcterms:modified>
  <cp:revision>13</cp:revision>
  <dc:subject/>
  <dc:title>Знакомство с юбкой.</dc:title>
</cp:coreProperties>
</file>