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C43-40F4-48A0-AC02-121BA37D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F71-28F0-4A8D-A785-4D8300B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134E8-6ACB-4937-94FE-6930682E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08CFA-BA01-411D-A600-53E08CDE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F5ED7-98F8-4A97-8D53-5CDAE87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F0F3F-31C4-4571-A35E-24F73CDA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5153E-A5BD-4C4A-9514-2C20A796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164F7-7BED-4D75-AF74-3027C9F5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34EB6-A5D6-4001-B38F-CCC27F79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F167F-210F-4A47-9B7D-B5EF917C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E45E8-D42A-4177-87E1-A6B47CEB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E34FE-89C1-463B-8DAB-AF1761BA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41F-B0CD-4898-B99C-0716172A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912FB-71BF-43D4-B46B-5AC3CF58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7E1FA-7DD8-4EFB-8199-7E90569F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5AF8A-404B-4706-B7F3-3251AEFB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C8DC8-7157-4082-9A7F-C47DC8C8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946AB-F502-4A43-A6CC-0DFD97BC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3B084-5A2D-47FE-B42C-E1A0119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9E723-1C55-403F-A62B-3F13D71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5BB3D-8408-449E-B0BD-D3252C38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7DA0A-9203-4BE7-98C9-2AA0EB37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CD520-9AFC-4C05-9929-9E4B7FEA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733-D604-4074-9337-E97E6384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1F63C-3431-4764-8A7F-7558A56C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6E55-45C6-498C-9216-BF944334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CC5C-2DBF-48EA-A647-2FACF5FB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ACED0-B5FF-49E9-9514-0626EC1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3214C-550E-4F1F-9526-7418511E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29D44-CF42-494F-9DC3-0FED96E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70FE9-014C-4ACA-9C74-3C6E2B6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F9569-B269-4BEF-B357-E666EB0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D3738-1CC3-4DA0-B05D-F2B4916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C3FB-7AFC-43DF-A544-0F8D2DBF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0691-8730-4B8C-A0B1-427485A5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24080-B656-4631-88D9-F3AE902D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1F56-525C-4AFC-9DD8-82D8778C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5C37-7120-4616-8989-C94F1AB7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8CE3C-D0D7-4CFF-A18C-3AFCF76A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A44E5-1950-4345-9AB7-94D6DF5E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04C2D-3347-436D-9AE9-9D2976E9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2DD88-22EA-4733-ABB5-502B4CA2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4CEFF-4497-4447-8DFB-084BD95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C9732-5D0F-4A70-BBC8-B2042C50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D9E22-ABFF-4F4B-9B25-E81EBD4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61EE-6AC0-4D0C-9142-CAD75C22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EC35C-B3DB-476D-917A-CD7258D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8F052-A755-45B5-B093-B1F378D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FD88C-B48F-4CC3-A954-A1A4157E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91251-0A3E-477B-B27E-7E996613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F4BE2-7688-41ED-8571-D7B7E4F7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04E9-FB8B-4F9B-98BB-3E11E89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0EE-04D2-42B6-8833-AD6129F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B187-D0B5-4BAF-A908-84768143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1A1-07FE-488E-B142-A458687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984-FDF1-438B-9B09-CA1F3DEA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676-6B1B-4EAD-BB37-0D4D1AC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945F-B9ED-4CE2-9BD6-050D57C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EE1-A502-46CD-8343-4E6BE7A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38BD-C1AE-4463-8886-625910B6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B6E4-26E5-4549-AF2F-FAC82BF8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5645-70A4-4099-B82A-385B6A46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691B-2E01-45FA-BD6E-E3A8597D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649B-C07A-4150-9F26-4CCA9143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1B92-E320-4A62-BD9E-285B542E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26CF-A45F-418E-8284-3C0D75E2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A41D-8F52-4C52-8321-53098AB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6A6-D7EC-41CF-844F-5FB04215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A934-CAE4-4F82-B841-D04B575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55F1-FE86-40AC-8EEB-D37EA76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5806-2616-419F-BFE1-A0D64C25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BF2CA-42B7-4793-9AEF-821AF86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F46C-F548-4B40-A307-04AC255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12D9-3935-4F82-AFD7-72EF30DC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D6EE-C313-4442-BAD1-DC514B6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A7BA-BD4E-496B-83DF-0413592A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BF05-FF1D-4F47-8B3C-121B04A4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5C29-81D0-4B35-9C67-470E8B7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C42-FC3E-405B-A897-0877D6A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7C08-6D8A-4112-AD74-2334F7E0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0B8F-EBC1-4C31-99C5-8B41A0B4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91C4-5208-43DD-9CEB-8AC12CC8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D6A1-DB10-4537-9165-B34B15A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2183-CEDC-45BC-9E52-A4F616E0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3157-FD99-4853-BC19-66D46FE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8AEA-246E-4088-BEE1-A40AE2B3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F54F-5DCB-46D1-88F6-8BFF15A5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D78C-6EDC-48BD-AC30-E6F50093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B5B0-659D-49FA-B674-862AC7B2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D10-E115-400E-9BD3-6C7A1E66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5BED7-65B1-441A-A993-4B5D3A25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D6AA-FA2D-4F5F-B3C2-084EE807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CD329-D825-4ACE-95BB-9DB99010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00A9F-B59C-4299-A7F2-E6680F6B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0E32-D812-4ABC-A139-33EAD45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972AC-24D3-432B-9CD8-56CC9C3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D6A2-3776-4298-A4B1-270F4A75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397C3-8990-4A2D-9B26-153097F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D22E-E84C-4172-8227-A7A86520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BFF8B-8CF8-40F3-BEFE-8FF577E5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186-58E7-4061-8270-98CB83C9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E417-B45B-447C-9C00-38DC42AB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6F37-C827-4C40-B72F-A8D42781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EF69-F362-4714-B61E-10662DC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12C36-00D6-4908-8A7D-FA9D8DCB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747C-3DBC-4E27-8CB5-3A26156C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F891-7131-4852-8552-CDED779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1E49D-F983-4CF9-AFA2-FD042C3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6BAB9-7FBD-458A-BBC5-87A575C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5B38-BF69-49A1-BC15-9BF1704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09E99-F9B0-4006-8B4D-8DF521AE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C74-87B9-46FF-8646-6F0EA896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2EDB-CFA8-4026-8B68-8078EC07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74D1-160D-4210-85FD-3690898B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F97B-295B-4891-8B71-7DF409C5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4E25B-EC24-4268-856C-6E0B3B09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911A-68C6-4876-8C0F-3E520FA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9FAF-D64A-4ACC-BC5D-3362F6E6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C4858-6273-4BD3-A20C-B5C3C69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16824-E79E-4D1B-A9BF-FEF86D10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A8CE3-50DB-4EC3-BA13-38CC9DD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BA1A6-E4ED-47B8-AC36-335D84A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791-64C1-42DF-BC6E-875824D6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1A11-CE97-4E52-9B50-CD5E956D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D93AE-5B45-4425-9DBF-AC8EFFC2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658F-B857-4DB7-8E09-E61595E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1E77-E356-4449-BDD4-424E8FE3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572F-1511-42D9-801C-0FA72467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08398-3372-471E-8437-B29B7A80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0A2EC-9ED1-435D-8428-5612D4AE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B89EA-B352-4B0B-8EB1-DFD2919A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AF3F-BBF6-4753-B774-A415ECB5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A0DC6-885C-429E-9AC5-7467B79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A69-1B92-4900-8E29-559B783D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98CBA-7B20-4804-9438-2F3F4B9C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F3E29-CD39-4836-9163-9308297C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D009F-2D15-40D1-B92A-D0ED1D4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7A034-16DF-4D01-87B0-8C17657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6DBA-72F7-4995-8092-521B4F8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29461-E4B7-41F2-B694-2EBD70BF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8E79-F72F-4D10-8EFA-F898DD6A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6F131-43FA-4890-80EE-77E02C13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B193B-FE32-4BB6-9A8F-D5FDF81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98D02-9E0F-443C-BA2A-289383DD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000-1622-4145-B5B5-5394EDEBD66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E4F-DC05-436D-800A-7D26E51DB3D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EA5-823E-4B19-A6BA-40658E06970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830F-274B-4967-968C-ADB4445D424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11D-ECC9-463D-8621-DDF92CAE004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6E4-82F1-4F7A-94DD-9677A8AB92E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5B7-D5FB-49A8-BB7B-18025093064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DCDD-75B2-45EF-B984-FFB67C6A5BC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9EA-5D0F-45AF-80EF-E75D3E24A93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E70A-ED63-480A-8D5F-4401E6692A0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Урок литературного чтения во 2 классе</a:t>
            </a:r>
            <a:br>
              <a:rPr sz="2000"/>
            </a:br>
            <a:r>
              <a:rPr b="0" lang="ru-RU" sz="2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Учитель Соколенко Н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КАЗКА «ЛИСИЧКА-СЕСТРИЧКА И ВОЛ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C:\Users\Пользователь\Desktop\лиса и влок.jpg"/>
          <p:cNvPicPr/>
          <p:nvPr/>
        </p:nvPicPr>
        <p:blipFill>
          <a:blip r:embed="rId1"/>
          <a:stretch/>
        </p:blipFill>
        <p:spPr>
          <a:xfrm>
            <a:off x="3048120" y="3559320"/>
            <a:ext cx="39002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на части. Озаглавливание ча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иса старика обман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волк рыбу лов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Русская народная сказка &quot;Лисичка-сестричка и серый волк&quot; в ..."/>
          <p:cNvPicPr/>
          <p:nvPr/>
        </p:nvPicPr>
        <p:blipFill>
          <a:blip r:embed="rId1"/>
          <a:stretch/>
        </p:blipFill>
        <p:spPr>
          <a:xfrm>
            <a:off x="539640" y="2133720"/>
            <a:ext cx="2087640" cy="2490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Русская народная сказка &quot;Лисичка-сестричка и серый волк&quot; в ..."/>
          <p:cNvPicPr/>
          <p:nvPr/>
        </p:nvPicPr>
        <p:blipFill>
          <a:blip r:embed="rId2"/>
          <a:stretch/>
        </p:blipFill>
        <p:spPr>
          <a:xfrm>
            <a:off x="6012000" y="3716280"/>
            <a:ext cx="2350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C:\Users\Пользователь\Desktop\2020-08-11_001 (2).jpg"/>
          <p:cNvPicPr/>
          <p:nvPr/>
        </p:nvPicPr>
        <p:blipFill>
          <a:blip r:embed="rId1"/>
          <a:stretch/>
        </p:blipFill>
        <p:spPr>
          <a:xfrm>
            <a:off x="826920" y="1557360"/>
            <a:ext cx="3168720" cy="4495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C:\Users\Пользователь\Desktop\2020-08-11_002 (2).jpg"/>
          <p:cNvPicPr/>
          <p:nvPr/>
        </p:nvPicPr>
        <p:blipFill>
          <a:blip r:embed="rId2"/>
          <a:stretch/>
        </p:blipFill>
        <p:spPr>
          <a:xfrm>
            <a:off x="4572000" y="1557360"/>
            <a:ext cx="3637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иллюстрацией Николая  Дмитрие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2" descr="C:\Users\Пользователь\Desktop\2020-08-11_003 (2).jpg"/>
          <p:cNvPicPr/>
          <p:nvPr/>
        </p:nvPicPr>
        <p:blipFill>
          <a:blip r:embed="rId1"/>
          <a:stretch/>
        </p:blipFill>
        <p:spPr>
          <a:xfrm>
            <a:off x="1336680" y="1484280"/>
            <a:ext cx="705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сказ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почка событ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2" descr="Сказка Волк и лиса - Братья Гримм, читать онлайн"/>
          <p:cNvPicPr/>
          <p:nvPr/>
        </p:nvPicPr>
        <p:blipFill>
          <a:blip r:embed="rId1"/>
          <a:stretch/>
        </p:blipFill>
        <p:spPr>
          <a:xfrm rot="20697600">
            <a:off x="2341080" y="4299120"/>
            <a:ext cx="1973520" cy="1944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Отзыв о Мультфильм &quot;Русские народные сказки - Лисичка сестричка и ..."/>
          <p:cNvPicPr/>
          <p:nvPr/>
        </p:nvPicPr>
        <p:blipFill>
          <a:blip r:embed="rId2"/>
          <a:stretch/>
        </p:blipFill>
        <p:spPr>
          <a:xfrm rot="450600">
            <a:off x="4213080" y="24220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Лиса и волк. Русская сказка в обр. А. Н. Толстого. Иллюстрации Е ..."/>
          <p:cNvPicPr/>
          <p:nvPr/>
        </p:nvPicPr>
        <p:blipFill>
          <a:blip r:embed="rId3"/>
          <a:stretch/>
        </p:blipFill>
        <p:spPr>
          <a:xfrm rot="21006000">
            <a:off x="6376680" y="3738240"/>
            <a:ext cx="2160360" cy="27622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Русская народная сказка «Лиса и Волк» читать онлайн. Сказка ..."/>
          <p:cNvPicPr/>
          <p:nvPr/>
        </p:nvPicPr>
        <p:blipFill>
          <a:blip r:embed="rId4"/>
          <a:stretch/>
        </p:blipFill>
        <p:spPr>
          <a:xfrm rot="21223200">
            <a:off x="519120" y="2228760"/>
            <a:ext cx="18954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Объект 3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319960" cy="4680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Лиса и волк - Русская сказка"/>
          <p:cNvPicPr/>
          <p:nvPr/>
        </p:nvPicPr>
        <p:blipFill>
          <a:blip r:embed="rId2"/>
          <a:stretch/>
        </p:blipFill>
        <p:spPr>
          <a:xfrm>
            <a:off x="1042920" y="1341360"/>
            <a:ext cx="7201080" cy="5291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1" descr="Лиса и Волк. Русские народные сказки."/>
          <p:cNvPicPr/>
          <p:nvPr/>
        </p:nvPicPr>
        <p:blipFill>
          <a:blip r:embed="rId3"/>
          <a:stretch/>
        </p:blipFill>
        <p:spPr>
          <a:xfrm>
            <a:off x="1042920" y="1287360"/>
            <a:ext cx="7201080" cy="5292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Mese: A róka és a farkas (avec images) | Enfants vintage, Enfant ..."/>
          <p:cNvPicPr/>
          <p:nvPr/>
        </p:nvPicPr>
        <p:blipFill>
          <a:blip r:embed="rId4"/>
          <a:stretch/>
        </p:blipFill>
        <p:spPr>
          <a:xfrm>
            <a:off x="1042920" y="1268280"/>
            <a:ext cx="7274160" cy="54007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5" descr="Основная мысль сказки волк и лиса. Чему учит сказка лиса и волк ..."/>
          <p:cNvPicPr/>
          <p:nvPr/>
        </p:nvPicPr>
        <p:blipFill>
          <a:blip r:embed="rId5"/>
          <a:stretch/>
        </p:blipFill>
        <p:spPr>
          <a:xfrm>
            <a:off x="2340000" y="1268280"/>
            <a:ext cx="4319640" cy="5400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7" descr="Русская народная сказка - Лиса и волк. Читать онлайн"/>
          <p:cNvPicPr/>
          <p:nvPr/>
        </p:nvPicPr>
        <p:blipFill>
          <a:blip r:embed="rId6"/>
          <a:stretch/>
        </p:blipFill>
        <p:spPr>
          <a:xfrm>
            <a:off x="611280" y="1268280"/>
            <a:ext cx="7704000" cy="525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9" descr="Дед-разиня, хитрая лиса и глупый волк Сказка в стихах — Oplace"/>
          <p:cNvPicPr/>
          <p:nvPr/>
        </p:nvPicPr>
        <p:blipFill>
          <a:blip r:embed="rId7"/>
          <a:stretch/>
        </p:blipFill>
        <p:spPr>
          <a:xfrm>
            <a:off x="2808360" y="1268280"/>
            <a:ext cx="3851280" cy="54486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37" descr="Лиса и волк: сказкотерапия безудержной веры наивных людей в магию ..."/>
          <p:cNvPicPr/>
          <p:nvPr/>
        </p:nvPicPr>
        <p:blipFill>
          <a:blip r:embed="rId8"/>
          <a:stretch/>
        </p:blipFill>
        <p:spPr>
          <a:xfrm>
            <a:off x="468360" y="9810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. 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С какой сказкой познаком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Чему учит нас эта сказ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ПРЕДЛОЖЕ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 ЗНАЮ О СКАЗКАХ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5f71"/>
                </a:solidFill>
                <a:latin typeface="Times New Roman"/>
                <a:ea typeface="Times New Roman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короговорку  медленно, затем наращивая тем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ст Федька редьку, ест репка Федь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«Проба поэтического пер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те рифму, продолжите начало стихотворной стро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ушечная кошка сидит на окошк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68360" y="98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волшебные русские сказки не лг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Кощееву смерть, про ковер-самол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праздные люди те сказки слагал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овидцы, в чьих замыслах правда жив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каком литературном жанре идет речь в стихотворе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Новости - Департамент инвестиций и промышленности"/>
          <p:cNvPicPr/>
          <p:nvPr/>
        </p:nvPicPr>
        <p:blipFill>
          <a:blip r:embed="rId1"/>
          <a:stretch/>
        </p:blipFill>
        <p:spPr>
          <a:xfrm rot="994800">
            <a:off x="4304880" y="4000680"/>
            <a:ext cx="1251000" cy="1844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Проект &quot;Иван - дурак - герой русской народной сказки&quot;"/>
          <p:cNvPicPr/>
          <p:nvPr/>
        </p:nvPicPr>
        <p:blipFill>
          <a:blip r:embed="rId2"/>
          <a:stretch/>
        </p:blipFill>
        <p:spPr>
          <a:xfrm rot="20294400">
            <a:off x="2781360" y="4959360"/>
            <a:ext cx="1147680" cy="14349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Веб-издательство ЭГО | Lyakhov.KZ - Большая энциклопедия Казнета"/>
          <p:cNvPicPr/>
          <p:nvPr/>
        </p:nvPicPr>
        <p:blipFill>
          <a:blip r:embed="rId3"/>
          <a:stretch/>
        </p:blipFill>
        <p:spPr>
          <a:xfrm rot="747000">
            <a:off x="820800" y="4695840"/>
            <a:ext cx="1224000" cy="1411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Герои русских сказок. Детские картинки для презентаций. | Началочка"/>
          <p:cNvPicPr/>
          <p:nvPr/>
        </p:nvPicPr>
        <p:blipFill>
          <a:blip r:embed="rId4"/>
          <a:stretch/>
        </p:blipFill>
        <p:spPr>
          <a:xfrm>
            <a:off x="5435640" y="3789360"/>
            <a:ext cx="3852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ты русских волшебных сказо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71280" y="2276280"/>
            <a:ext cx="75819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ин, концовка, волшебные геро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ят волшебные собы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екратные пов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Русская народная сказка &quot;Курочка Ряба&quot; в картинках, читать ..."/>
          <p:cNvPicPr/>
          <p:nvPr/>
        </p:nvPicPr>
        <p:blipFill>
          <a:blip r:embed="rId1"/>
          <a:stretch/>
        </p:blipFill>
        <p:spPr>
          <a:xfrm rot="873600">
            <a:off x="971640" y="4263840"/>
            <a:ext cx="1727280" cy="1931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РУССКИЕ НАРОДНЫЕ СКАЗКИ И НАЦИОНАЛЬНЫЙ ХАРАКТЕР"/>
          <p:cNvPicPr/>
          <p:nvPr/>
        </p:nvPicPr>
        <p:blipFill>
          <a:blip r:embed="rId2"/>
          <a:stretch/>
        </p:blipFill>
        <p:spPr>
          <a:xfrm rot="21173400">
            <a:off x="6665400" y="5057640"/>
            <a:ext cx="1967040" cy="1387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Сказки составляют основу нашей жизни, – Евгений Колтунов, научный ..."/>
          <p:cNvPicPr/>
          <p:nvPr/>
        </p:nvPicPr>
        <p:blipFill>
          <a:blip r:embed="rId3"/>
          <a:stretch/>
        </p:blipFill>
        <p:spPr>
          <a:xfrm>
            <a:off x="3492360" y="4076640"/>
            <a:ext cx="2722680" cy="18734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Конёк-Горбунок - WikiTranslate"/>
          <p:cNvPicPr/>
          <p:nvPr/>
        </p:nvPicPr>
        <p:blipFill>
          <a:blip r:embed="rId4"/>
          <a:stretch/>
        </p:blipFill>
        <p:spPr>
          <a:xfrm>
            <a:off x="7451640" y="2781360"/>
            <a:ext cx="12970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еревьями, куст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лькнуло будто плам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лькнуло, пробежало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 дыма, ни пожа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охотится всег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его нам всем п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ильный и зубасты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активный и опасны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вигаться быстро мож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лод снова его глож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2" descr="Сказка Лисичка-сестричка и Серый Волк, Русская народная сказка ..."/>
          <p:cNvPicPr/>
          <p:nvPr/>
        </p:nvPicPr>
        <p:blipFill>
          <a:blip r:embed="rId1"/>
          <a:stretch/>
        </p:blipFill>
        <p:spPr>
          <a:xfrm>
            <a:off x="6084720" y="836640"/>
            <a:ext cx="1876680" cy="2428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Русская народная сказка &quot;Лисичка-сестричка и серый волк&quot; в ..."/>
          <p:cNvPicPr/>
          <p:nvPr/>
        </p:nvPicPr>
        <p:blipFill>
          <a:blip r:embed="rId2"/>
          <a:stretch/>
        </p:blipFill>
        <p:spPr>
          <a:xfrm>
            <a:off x="6516720" y="3789360"/>
            <a:ext cx="227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ЛИСИЧКА-СЕСТРИЧКА И ВОЛ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Физика в русских сказках"/>
          <p:cNvPicPr/>
          <p:nvPr/>
        </p:nvPicPr>
        <p:blipFill>
          <a:blip r:embed="rId1"/>
          <a:stretch/>
        </p:blipFill>
        <p:spPr>
          <a:xfrm>
            <a:off x="539640" y="1484280"/>
            <a:ext cx="2136960" cy="30243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Детские книги в США - Купить онлайн - Лисичка-сестричка и волк ..."/>
          <p:cNvPicPr/>
          <p:nvPr/>
        </p:nvPicPr>
        <p:blipFill>
          <a:blip r:embed="rId2"/>
          <a:stretch/>
        </p:blipFill>
        <p:spPr>
          <a:xfrm>
            <a:off x="3059280" y="1989000"/>
            <a:ext cx="2411280" cy="3321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Лисичка-сестричка и Серый Волк (Русские народные сказки) (Russian ..."/>
          <p:cNvPicPr/>
          <p:nvPr/>
        </p:nvPicPr>
        <p:blipFill>
          <a:blip r:embed="rId3"/>
          <a:stretch/>
        </p:blipFill>
        <p:spPr>
          <a:xfrm>
            <a:off x="5651640" y="3213000"/>
            <a:ext cx="28256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бота в парах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непонятные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ица не ворохн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а улучила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д смекн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илу плет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5" descr="Лиса и волк - Русская сказка"/>
          <p:cNvPicPr/>
          <p:nvPr/>
        </p:nvPicPr>
        <p:blipFill>
          <a:blip r:embed="rId1"/>
          <a:stretch/>
        </p:blipFill>
        <p:spPr>
          <a:xfrm>
            <a:off x="4500720" y="2349360"/>
            <a:ext cx="2582640" cy="1936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Русская народная сказка &quot;Лисичка-сестричка и серый волк&quot; в ..."/>
          <p:cNvPicPr/>
          <p:nvPr/>
        </p:nvPicPr>
        <p:blipFill>
          <a:blip r:embed="rId2"/>
          <a:stretch/>
        </p:blipFill>
        <p:spPr>
          <a:xfrm>
            <a:off x="6300720" y="3965400"/>
            <a:ext cx="2121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бота в парах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непонятные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ица не ворохне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шевелится, не двиг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а улучила врем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ла подходящ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д смекну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образи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д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илу плетус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еле-еле и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2" descr="Сказка на ночь.Лисичка сестричка и серый волк... - YouTube"/>
          <p:cNvPicPr/>
          <p:nvPr/>
        </p:nvPicPr>
        <p:blipFill>
          <a:blip r:embed="rId1"/>
          <a:stretch/>
        </p:blipFill>
        <p:spPr>
          <a:xfrm>
            <a:off x="6084720" y="4005360"/>
            <a:ext cx="2303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зка с поклажей (груз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руб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рсти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убленное во льду водоё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овли рыб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мыс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олстая изогнутая деревянная палка, предмет для нош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дер на плече с крюч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ц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2" descr="Лиса и волк | Умка"/>
          <p:cNvPicPr/>
          <p:nvPr/>
        </p:nvPicPr>
        <p:blipFill>
          <a:blip r:embed="rId1"/>
          <a:stretch/>
        </p:blipFill>
        <p:spPr>
          <a:xfrm>
            <a:off x="6372360" y="1125360"/>
            <a:ext cx="1823760" cy="13669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Сообщество иллюстраторов | Иллюстрация Натюрморт с зефиром."/>
          <p:cNvPicPr/>
          <p:nvPr/>
        </p:nvPicPr>
        <p:blipFill>
          <a:blip r:embed="rId2"/>
          <a:stretch/>
        </p:blipFill>
        <p:spPr>
          <a:xfrm>
            <a:off x="5435640" y="256536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5" descr="Ведро, коромысло,горшок,туес. Предметы старины"/>
          <p:cNvPicPr/>
          <p:nvPr/>
        </p:nvPicPr>
        <p:blipFill>
          <a:blip r:embed="rId3"/>
          <a:stretch/>
        </p:blipFill>
        <p:spPr>
          <a:xfrm>
            <a:off x="5580000" y="4941720"/>
            <a:ext cx="28098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Пользователь Windows</cp:lastModifiedBy>
  <dcterms:modified xsi:type="dcterms:W3CDTF">2020-08-12T06:21:51Z</dcterms:modified>
  <cp:revision>63</cp:revision>
  <dc:subject/>
  <dc:title>Слайд 1</dc:title>
</cp:coreProperties>
</file>