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Century Gothic"/>
              </a:rPr>
              <a:t>Click to move the slide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8542-CBB5-444B-A0C4-740AD07DDA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5E44-0E48-4985-B4BB-AF2EFF612C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FF2E-EEA8-46AC-9116-3E29C948A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A590-005A-4E2B-81D5-E48E0759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818E-E095-4DEB-AF39-6C5A4EC42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D5E4-688D-4488-8EFA-733392517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5F18-DD55-4331-BF04-A457F93F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5D7F-D4FB-460C-BCC4-8029DB21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C8FA-2ADB-4C05-A1A2-8A0DE965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1FA4-EE03-4F65-85DC-D35B047A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A804-FEEB-4C45-9FAA-17432F29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C192-E474-492F-892B-7A151D3F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FAFA-7223-4266-9B94-9643C9C2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98A1-A3F2-4E0C-99B0-1495BE30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DCA7-5372-4899-BC39-5F41036A069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61840" y="2693880"/>
            <a:ext cx="7772400" cy="147024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04040"/>
                </a:solidFill>
                <a:latin typeface="Century Gothic"/>
              </a:rPr>
              <a:t>«ПРЕДСТАВЛЕНИЕ ЧИСЕЛ </a:t>
            </a:r>
            <a:br>
              <a:rPr sz="4400"/>
            </a:br>
            <a:r>
              <a:rPr b="1" i="1" lang="en-US" sz="4400" spc="-1" strike="noStrike">
                <a:solidFill>
                  <a:srgbClr val="404040"/>
                </a:solidFill>
                <a:latin typeface="Century Gothic"/>
              </a:rPr>
              <a:t>В ПАМЯТИ КОМПЬЮТЕРА»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348000" y="5013360"/>
            <a:ext cx="53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250920" y="439560"/>
            <a:ext cx="8642160" cy="5978880"/>
          </a:xfrm>
          <a:custGeom>
            <a:avLst/>
            <a:gdLst>
              <a:gd name="textAreaLeft" fmla="*/ 704520 w 8642160"/>
              <a:gd name="textAreaRight" fmla="*/ 7937640 w 8642160"/>
              <a:gd name="textAreaTop" fmla="*/ 704520 h 5978880"/>
              <a:gd name="textAreaBottom" fmla="*/ 5274360 h 5978880"/>
            </a:gdLst>
            <a:ahLst/>
            <a:rect l="textAreaLeft" t="textAreaTop" r="textAreaRight" b="textAreaBottom"/>
            <a:pathLst>
              <a:path w="3122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7621" y="21600"/>
                </a:lnTo>
                <a:arcTo wR="3600" hR="3600" stAng="10800000" swAng="5400000"/>
                <a:lnTo>
                  <a:pt x="31221" y="3600"/>
                </a:lnTo>
                <a:arcTo wR="3600" hR="3600" stAng="5400000" swAng="5400000"/>
                <a:close/>
              </a:path>
            </a:pathLst>
          </a:custGeom>
          <a:noFill/>
          <a:ln w="1522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1357200" y="714240"/>
            <a:ext cx="6715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втор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ведите двоичные числа в десятичну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101101; б) 110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Переведите десятичные числа в двоичн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55; б) 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1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DB78-1AA0-4D91-8DAB-9874FA55D4C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142920" y="428760"/>
            <a:ext cx="885816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f7f7f"/>
                </a:solidFill>
                <a:latin typeface="Century Gothic"/>
              </a:rPr>
              <a:t>ПРЕДСТАВЛЕНИЕ ЦЕЛЫХ ЧИС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Все числа в компьютере представляются в виде двоичных кодов, т.е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нулей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и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единиц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Элементы числа, называют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Century Gothic"/>
              </a:rPr>
              <a:t>разрядами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или битами. Память компьютера условно делиться на ячейки, каждая из которых имеет свой номер. Нумерация начинается с нуля(справа налев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Минимальной адресуемой ячейкой памяти называется байт – 8 двоичных разрядов. порядковый номер байта называется его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Century Gothic"/>
              </a:rPr>
              <a:t>адресом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Наибольшую последовательность битов, которую процессор может обрабатывать как единое целое, называют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Century Gothic"/>
              </a:rPr>
              <a:t>машинным словом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Длина машинного слова может быть разной - 8 , 16 , 32 бит и т.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>
            <a:lum contrast="10000"/>
          </a:blip>
          <a:srcRect l="24611" t="24172" r="22072" b="63382"/>
          <a:stretch/>
        </p:blipFill>
        <p:spPr>
          <a:xfrm>
            <a:off x="1042920" y="2708280"/>
            <a:ext cx="650088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714240" y="4357800"/>
            <a:ext cx="7500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очисленный формат (формат с фиксированной точкой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уется для представления в компьютере целых положительных и отрицательных чисел. Для представления в компьютере положительных и отрицательных чисел существуют правила. Под знак отводится старший разряд ячейк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0 - для положительных чисе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1 - для отрицательных чис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2"/>
          <a:srcRect l="27540" t="44679" r="25001" b="25294"/>
          <a:stretch/>
        </p:blipFill>
        <p:spPr>
          <a:xfrm>
            <a:off x="1071720" y="785880"/>
            <a:ext cx="70563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1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471E-5544-4026-B3F6-10BA43518EC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214200" y="285840"/>
            <a:ext cx="87156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ff0000"/>
                </a:solidFill>
                <a:uFillTx/>
                <a:latin typeface="Century Gothic"/>
              </a:rPr>
              <a:t>Для положительного числа прямой, обратный и дополнительный к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ff0000"/>
                </a:solidFill>
                <a:uFillTx/>
                <a:latin typeface="Century Gothic"/>
              </a:rPr>
              <a:t>выглядят одинако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Century Gothic"/>
              </a:rPr>
              <a:t>Прямой код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двоичного числа — это само двоичное число, причем значение знакового разряда для положительных чисел равно 0, а для отрицательных чисел -1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Century Gothic"/>
              </a:rPr>
              <a:t>Обратный код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отрицательного числа получается из прямого кода путем замены нулей единицами, а единиц нулями, исключая знаковый разря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Century Gothic"/>
              </a:rPr>
              <a:t>Дополнительный код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отрицательного числа образуется как результат суммирования обратного кода с единицей младшего разряда. Перенос в знаковый разряд при этом теря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1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4F6A-73DC-493C-B9DA-F2AC51486023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428760" y="285840"/>
            <a:ext cx="8501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мер 1. Определить прямой, обратный и дополнительный коды следующих двоичных чисе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)111000; б) -111011; в) -1000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удем считать, что число размещается в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6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итах (2 байтах) . Старший бит – знак разряда. Незначащие нули добавляются слева от числа. Результат представим в виде таблиц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42920" y="2928960"/>
          <a:ext cx="9001080" cy="1754280"/>
        </p:xfrm>
        <a:graphic>
          <a:graphicData uri="http://schemas.openxmlformats.org/drawingml/2006/table">
            <a:tbl>
              <a:tblPr/>
              <a:tblGrid>
                <a:gridCol w="2249280"/>
                <a:gridCol w="2252880"/>
                <a:gridCol w="2249280"/>
                <a:gridCol w="22496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Числ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5bd3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5bd3"/>
                      </a:solidFill>
                    </a:lnT>
                    <a:lnB w="5760">
                      <a:solidFill>
                        <a:srgbClr val="005bd3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ямой к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5bd3"/>
                      </a:solidFill>
                    </a:lnT>
                    <a:lnB w="5760">
                      <a:solidFill>
                        <a:srgbClr val="005bd3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ратный к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5bd3"/>
                      </a:solidFill>
                    </a:lnT>
                    <a:lnB w="5760">
                      <a:solidFill>
                        <a:srgbClr val="005bd3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ополнительный к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5bd3"/>
                      </a:solidFill>
                    </a:lnR>
                    <a:lnT w="5760">
                      <a:solidFill>
                        <a:srgbClr val="005bd3"/>
                      </a:solidFill>
                    </a:lnT>
                    <a:lnB w="5760">
                      <a:solidFill>
                        <a:srgbClr val="005bd3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1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5bd3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5bd3"/>
                      </a:solidFill>
                    </a:lnT>
                    <a:lnB w="5760">
                      <a:solidFill>
                        <a:srgbClr val="005bd3"/>
                      </a:solidFill>
                    </a:lnB>
                    <a:solidFill>
                      <a:srgbClr val="e7ea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00000000011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5bd3"/>
                      </a:solidFill>
                    </a:lnT>
                    <a:lnB w="5760">
                      <a:solidFill>
                        <a:srgbClr val="005bd3"/>
                      </a:solidFill>
                    </a:lnB>
                    <a:solidFill>
                      <a:srgbClr val="e7ea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00000000011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5bd3"/>
                      </a:solidFill>
                    </a:lnT>
                    <a:lnB w="5760">
                      <a:solidFill>
                        <a:srgbClr val="005bd3"/>
                      </a:solidFill>
                    </a:lnB>
                    <a:solidFill>
                      <a:srgbClr val="e7ea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00000000011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5bd3"/>
                      </a:solidFill>
                    </a:lnR>
                    <a:lnT w="5760">
                      <a:solidFill>
                        <a:srgbClr val="005bd3"/>
                      </a:solidFill>
                    </a:lnT>
                    <a:lnB w="5760">
                      <a:solidFill>
                        <a:srgbClr val="005bd3"/>
                      </a:solidFill>
                    </a:lnB>
                    <a:solidFill>
                      <a:srgbClr val="e7ea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11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5bd3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5bd3"/>
                      </a:solidFill>
                    </a:lnT>
                    <a:lnB w="5760">
                      <a:solidFill>
                        <a:srgbClr val="005bd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00000011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5bd3"/>
                      </a:solidFill>
                    </a:lnT>
                    <a:lnB w="5760">
                      <a:solidFill>
                        <a:srgbClr val="005bd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111111111000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5bd3"/>
                      </a:solidFill>
                    </a:lnT>
                    <a:lnB w="5760">
                      <a:solidFill>
                        <a:srgbClr val="005bd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111111111000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5bd3"/>
                      </a:solidFill>
                    </a:lnR>
                    <a:lnT w="5760">
                      <a:solidFill>
                        <a:srgbClr val="005bd3"/>
                      </a:solidFill>
                    </a:lnT>
                    <a:lnB w="5760">
                      <a:solidFill>
                        <a:srgbClr val="005bd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5bd3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5bd3"/>
                      </a:solidFill>
                    </a:lnT>
                    <a:lnB w="5760">
                      <a:solidFill>
                        <a:srgbClr val="005bd3"/>
                      </a:solidFill>
                    </a:lnB>
                    <a:solidFill>
                      <a:srgbClr val="e7ea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000000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5bd3"/>
                      </a:solidFill>
                    </a:lnT>
                    <a:lnB w="5760">
                      <a:solidFill>
                        <a:srgbClr val="005bd3"/>
                      </a:solidFill>
                    </a:lnB>
                    <a:solidFill>
                      <a:srgbClr val="e7ea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111111111011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5bd3"/>
                      </a:solidFill>
                    </a:lnT>
                    <a:lnB w="5760">
                      <a:solidFill>
                        <a:srgbClr val="005bd3"/>
                      </a:solidFill>
                    </a:lnB>
                    <a:solidFill>
                      <a:srgbClr val="e7ea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111111111011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5bd3"/>
                      </a:solidFill>
                    </a:lnR>
                    <a:lnT w="5760">
                      <a:solidFill>
                        <a:srgbClr val="005bd3"/>
                      </a:solidFill>
                    </a:lnT>
                    <a:lnB w="5760">
                      <a:solidFill>
                        <a:srgbClr val="005bd3"/>
                      </a:solidFill>
                    </a:lnB>
                    <a:solidFill>
                      <a:srgbClr val="e7eaf7"/>
                    </a:solidFill>
                  </a:tcPr>
                </a:tc>
              </a:tr>
            </a:tbl>
          </a:graphicData>
        </a:graphic>
      </p:graphicFrame>
      <p:pic>
        <p:nvPicPr>
          <p:cNvPr id="62" name="Picture 29" descr=""/>
          <p:cNvPicPr/>
          <p:nvPr/>
        </p:nvPicPr>
        <p:blipFill>
          <a:blip r:embed="rId2"/>
          <a:srcRect l="18010" t="18458" r="67816" b="71210"/>
          <a:stretch/>
        </p:blipFill>
        <p:spPr>
          <a:xfrm>
            <a:off x="6156360" y="4869000"/>
            <a:ext cx="2808360" cy="163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1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71BB-7155-4C26-92D1-41FEE5FF5A5D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500040" y="428760"/>
            <a:ext cx="842976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мер 2. Как будет представлено в памяти компьютера целое число 12345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10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ля размещения числа возьмем два бай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скольку число положительное, то в старшем (15-м) бите будет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ереведем число в двоичную систему счисл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2345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= 11000000111001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зульта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285920" y="2786040"/>
          <a:ext cx="3571920" cy="396720"/>
        </p:xfrm>
        <a:graphic>
          <a:graphicData uri="http://schemas.openxmlformats.org/drawingml/2006/table">
            <a:tbl>
              <a:tblPr/>
              <a:tblGrid>
                <a:gridCol w="714240"/>
                <a:gridCol w="1285920"/>
                <a:gridCol w="15717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5bd3"/>
                      </a:solidFill>
                    </a:lnL>
                    <a:lnR w="5760">
                      <a:solidFill>
                        <a:srgbClr val="005bd3"/>
                      </a:solidFill>
                    </a:lnR>
                    <a:lnT w="5760">
                      <a:solidFill>
                        <a:srgbClr val="005bd3"/>
                      </a:solidFill>
                    </a:lnT>
                    <a:lnB w="12240">
                      <a:solidFill>
                        <a:srgbClr val="005bd3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1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5bd3"/>
                      </a:solidFill>
                    </a:lnL>
                    <a:lnR w="5760">
                      <a:solidFill>
                        <a:srgbClr val="005bd3"/>
                      </a:solidFill>
                    </a:lnR>
                    <a:lnT w="5760">
                      <a:solidFill>
                        <a:srgbClr val="005bd3"/>
                      </a:solidFill>
                    </a:lnT>
                    <a:lnB w="12240">
                      <a:solidFill>
                        <a:srgbClr val="005bd3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0111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5bd3"/>
                      </a:solidFill>
                    </a:lnL>
                    <a:lnR w="5760">
                      <a:solidFill>
                        <a:srgbClr val="005bd3"/>
                      </a:solidFill>
                    </a:lnR>
                    <a:lnT w="5760">
                      <a:solidFill>
                        <a:srgbClr val="005bd3"/>
                      </a:solidFill>
                    </a:lnT>
                    <a:lnB w="12240">
                      <a:solidFill>
                        <a:srgbClr val="005bd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TextBox 4"/>
          <p:cNvSpPr/>
          <p:nvPr/>
        </p:nvSpPr>
        <p:spPr>
          <a:xfrm>
            <a:off x="571680" y="350028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нак числа                          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авая фигурная скобка 5"/>
          <p:cNvSpPr/>
          <p:nvPr/>
        </p:nvSpPr>
        <p:spPr>
          <a:xfrm rot="5400000">
            <a:off x="3339720" y="2089080"/>
            <a:ext cx="357120" cy="2608200"/>
          </a:xfrm>
          <a:custGeom>
            <a:avLst/>
            <a:gdLst>
              <a:gd name="textAreaLeft" fmla="*/ 0 w 357120"/>
              <a:gd name="textAreaRight" fmla="*/ 128880 w 357120"/>
              <a:gd name="textAreaTop" fmla="*/ 9000 h 2608200"/>
              <a:gd name="textAreaBottom" fmla="*/ 2599200 h 260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3"/>
                  <a:pt x="10800" y="246"/>
                </a:cubicBezTo>
                <a:lnTo>
                  <a:pt x="10800" y="10554"/>
                </a:lnTo>
                <a:cubicBezTo>
                  <a:pt x="10800" y="10677"/>
                  <a:pt x="16200" y="10800"/>
                  <a:pt x="21600" y="10800"/>
                </a:cubicBezTo>
                <a:cubicBezTo>
                  <a:pt x="16200" y="10800"/>
                  <a:pt x="10800" y="10923"/>
                  <a:pt x="10800" y="11046"/>
                </a:cubicBezTo>
                <a:lnTo>
                  <a:pt x="10800" y="21354"/>
                </a:lnTo>
                <a:cubicBezTo>
                  <a:pt x="10800" y="2147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2d2d8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Прямая со стрелкой 7"/>
          <p:cNvCxnSpPr/>
          <p:nvPr/>
        </p:nvCxnSpPr>
        <p:spPr>
          <a:xfrm flipV="1">
            <a:off x="1284840" y="3214440"/>
            <a:ext cx="214920" cy="357840"/>
          </a:xfrm>
          <a:prstGeom prst="straightConnector1">
            <a:avLst/>
          </a:prstGeom>
          <a:ln w="38160">
            <a:solidFill>
              <a:srgbClr val="2d2d8a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9:20:07Z</dcterms:created>
  <dc:creator>ANNA</dc:creator>
  <dc:description/>
  <dc:language>en-US</dc:language>
  <cp:lastModifiedBy>54</cp:lastModifiedBy>
  <dcterms:modified xsi:type="dcterms:W3CDTF">2019-12-25T19:29:32Z</dcterms:modified>
  <cp:revision>28</cp:revision>
  <dc:subject/>
  <dc:title>Слайд 1</dc:title>
</cp:coreProperties>
</file>