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C6F-D559-4A6B-847E-86A176A0A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BE9-ABCA-4DB9-8D8E-757C1DA7D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A4C-E0FF-4A67-871D-E7FC1AB0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AD2-FAE7-4473-9B04-62E47A1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B6D-977D-426E-BCB8-59BAAA1F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ED5-9EA2-4D4B-B287-726E5E14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559-BDB2-4DF5-9AEB-C9EC7A0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340-2F08-49BD-AF72-ED81C3A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989-665A-4005-8E41-7DAEE232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6A3-D4C1-480C-B64B-E04ABEA7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DFA-D5CB-459F-9F04-7B293EB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F28-B5E8-45E8-AB04-DAFDF9C2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137-F9DE-49F7-8FFF-8E92F2D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688-C7DB-470D-A5FC-D9AB9DF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DBC-89C1-4699-B0C5-B42E9E563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609480" y="228600"/>
            <a:ext cx="7620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ире танца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09480" y="220968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529d7"/>
                </a:solidFill>
                <a:latin typeface="Monotype Corsiva"/>
              </a:rPr>
              <a:t>Волшебный мир танца! Кто из нас не восхищался этим искусством, не испытывал той радости, которую дарит людям тане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 flipV="1" rot="10800000">
            <a:off x="4191120" y="4801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цирова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В.И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438280" y="1295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7200" y="3049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последствии из народных танцев появился классический та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9880" y="1332000"/>
            <a:ext cx="5029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нуэ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французский народный танец. Он появился на рубеже 16-17 в.. Изначально сельский танец он стал образцом классического балета и к  середине 18 в. ни один бал не обходился без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4920" y="2819520"/>
            <a:ext cx="3733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онез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польский национальный танец в отличие от других польских народных танцев, мелодии которых поются, полонез всегда был инструментальным жанром. Генрих Валуа после того, как возглавил трон, ввел полонез в обязательный элемент придворных б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I40014JY"/>
          <p:cNvPicPr/>
          <p:nvPr/>
        </p:nvPicPr>
        <p:blipFill>
          <a:blip r:embed="rId2"/>
          <a:stretch/>
        </p:blipFill>
        <p:spPr>
          <a:xfrm>
            <a:off x="4267080" y="3429000"/>
            <a:ext cx="4648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286000" y="1598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19320" y="228600"/>
            <a:ext cx="527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аво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ился в 17 в. и сначала был хороводным танцем. В 18 в. он превратился в парный танец и занял свое место при европейских дв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24280" y="1981080"/>
            <a:ext cx="3581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зур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тоже польский народный танец, который в начале 18 в. стал любимым танцем госпо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04920" y="4267080"/>
            <a:ext cx="4587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ь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илась позже остальных. Первое упоминание о польке датируется 1830 г.. Чешский энергичный танец быстро распространился по Европе и был принят всеми буржуа на "ур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H03405"/>
          <p:cNvPicPr/>
          <p:nvPr/>
        </p:nvPicPr>
        <p:blipFill>
          <a:blip r:embed="rId2"/>
          <a:stretch/>
        </p:blipFill>
        <p:spPr>
          <a:xfrm>
            <a:off x="304920" y="1676520"/>
            <a:ext cx="3504960" cy="263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000142A"/>
          <p:cNvPicPr/>
          <p:nvPr/>
        </p:nvPicPr>
        <p:blipFill>
          <a:blip r:embed="rId3"/>
          <a:stretch/>
        </p:blipFill>
        <p:spPr>
          <a:xfrm>
            <a:off x="4876920" y="3902040"/>
            <a:ext cx="3867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447920" y="4343400"/>
            <a:ext cx="36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зумеется , вечных танцев нет, они рождаются и умирают,. И все же , ни один из танцев не выдержал такого длительного испытания вре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04920" y="189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дин из самых молодых классических танцев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читается вальс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3529d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1219320"/>
            <a:ext cx="426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н был рожден почти три века назад, как народный танец на стыке трех стран- Германии, Австрии, Чехии. Танцевали его в городах и деревнях, танцевали всюду, где придется, в самой простой обстановке, где собирался и развлекался простой на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альс- вечно юный та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Порох"/>
          <p:cNvPicPr/>
          <p:nvPr/>
        </p:nvPicPr>
        <p:blipFill>
          <a:blip r:embed="rId2"/>
          <a:stretch/>
        </p:blipFill>
        <p:spPr>
          <a:xfrm>
            <a:off x="5257800" y="1523880"/>
            <a:ext cx="3657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6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715000" y="1295280"/>
            <a:ext cx="304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 вальсе сказано не ма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н в песнях и стихах восп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И сколько танцев не быва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А лучше вальса право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S000AEFE"/>
          <p:cNvPicPr/>
          <p:nvPr/>
        </p:nvPicPr>
        <p:blipFill>
          <a:blip r:embed="rId2"/>
          <a:stretch/>
        </p:blipFill>
        <p:spPr>
          <a:xfrm>
            <a:off x="762120" y="304920"/>
            <a:ext cx="449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438280" y="609480"/>
            <a:ext cx="4724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цвет вальса связан с творчеством австрийских композиторов; Штрауса-отца, и, позднее - его сыновей Йозефа и Иогана, которого прозвали "королем вальса". Прекрасная певучая мелодия парит и кружит , ослепляет своей красотой. "Жизнь прекрасна!"- вот что говорят композиторы своей музыкой и, кажется, хотят, чтобы все с ними согласились. Вальс наиболее выразительный поэтический танец. Не случайно, многие выдающиеся композиторы- Шопен, Брамс, Чайковский, Глазунов, Глинка- создавали валь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Чайковский"/>
          <p:cNvPicPr/>
          <p:nvPr/>
        </p:nvPicPr>
        <p:blipFill>
          <a:blip r:embed="rId2"/>
          <a:stretch/>
        </p:blipFill>
        <p:spPr>
          <a:xfrm>
            <a:off x="380880" y="15228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traussjr"/>
          <p:cNvPicPr/>
          <p:nvPr/>
        </p:nvPicPr>
        <p:blipFill>
          <a:blip r:embed="rId3"/>
          <a:stretch/>
        </p:blipFill>
        <p:spPr>
          <a:xfrm>
            <a:off x="7315200" y="28954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strauss"/>
          <p:cNvPicPr/>
          <p:nvPr/>
        </p:nvPicPr>
        <p:blipFill>
          <a:blip r:embed="rId4"/>
          <a:stretch/>
        </p:blipFill>
        <p:spPr>
          <a:xfrm>
            <a:off x="152280" y="4419720"/>
            <a:ext cx="2266920" cy="209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hopin"/>
          <p:cNvPicPr/>
          <p:nvPr/>
        </p:nvPicPr>
        <p:blipFill>
          <a:blip r:embed="rId5"/>
          <a:stretch/>
        </p:blipFill>
        <p:spPr>
          <a:xfrm>
            <a:off x="152280" y="213372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sviridov"/>
          <p:cNvPicPr/>
          <p:nvPr/>
        </p:nvPicPr>
        <p:blipFill>
          <a:blip r:embed="rId6"/>
          <a:stretch/>
        </p:blipFill>
        <p:spPr>
          <a:xfrm>
            <a:off x="6705720" y="502920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glinka"/>
          <p:cNvPicPr/>
          <p:nvPr/>
        </p:nvPicPr>
        <p:blipFill>
          <a:blip r:embed="rId7"/>
          <a:stretch/>
        </p:blipFill>
        <p:spPr>
          <a:xfrm>
            <a:off x="7162920" y="3808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4098960" y="4800600"/>
            <a:ext cx="50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сегодняшний день мы танцуем с вами классический вальс, бальный вальс, военный вальс, вальс в современной обрабо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Изображение 416"/>
          <p:cNvPicPr/>
          <p:nvPr/>
        </p:nvPicPr>
        <p:blipFill>
          <a:blip r:embed="rId2"/>
          <a:stretch/>
        </p:blipFill>
        <p:spPr>
          <a:xfrm>
            <a:off x="6400800" y="228600"/>
            <a:ext cx="2263680" cy="388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Изображение 464"/>
          <p:cNvPicPr/>
          <p:nvPr/>
        </p:nvPicPr>
        <p:blipFill>
          <a:blip r:embed="rId3"/>
          <a:stretch/>
        </p:blipFill>
        <p:spPr>
          <a:xfrm>
            <a:off x="3124080" y="838080"/>
            <a:ext cx="3618000" cy="396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Изображение 376"/>
          <p:cNvPicPr/>
          <p:nvPr/>
        </p:nvPicPr>
        <p:blipFill>
          <a:blip r:embed="rId4"/>
          <a:stretch/>
        </p:blipFill>
        <p:spPr>
          <a:xfrm>
            <a:off x="0" y="304920"/>
            <a:ext cx="4038480" cy="272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Изображение 476"/>
          <p:cNvPicPr/>
          <p:nvPr/>
        </p:nvPicPr>
        <p:blipFill>
          <a:blip r:embed="rId5"/>
          <a:stretch/>
        </p:blipFill>
        <p:spPr>
          <a:xfrm>
            <a:off x="228600" y="3505320"/>
            <a:ext cx="32004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143000" y="0"/>
            <a:ext cx="68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6 в. в Европе формируе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лет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- зрелище, составленное из плясок и немого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EXPO14000"/>
          <p:cNvPicPr/>
          <p:nvPr/>
        </p:nvPicPr>
        <p:blipFill>
          <a:blip r:embed="rId2"/>
          <a:stretch/>
        </p:blipFill>
        <p:spPr>
          <a:xfrm>
            <a:off x="6477120" y="304812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EXPO14020"/>
          <p:cNvPicPr/>
          <p:nvPr/>
        </p:nvPicPr>
        <p:blipFill>
          <a:blip r:embed="rId3"/>
          <a:stretch/>
        </p:blipFill>
        <p:spPr>
          <a:xfrm>
            <a:off x="5181480" y="1219320"/>
            <a:ext cx="324828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EXPO14001"/>
          <p:cNvPicPr/>
          <p:nvPr/>
        </p:nvPicPr>
        <p:blipFill>
          <a:blip r:embed="rId4"/>
          <a:stretch/>
        </p:blipFill>
        <p:spPr>
          <a:xfrm>
            <a:off x="228600" y="297180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EXPO14051"/>
          <p:cNvPicPr/>
          <p:nvPr/>
        </p:nvPicPr>
        <p:blipFill>
          <a:blip r:embed="rId5"/>
          <a:stretch/>
        </p:blipFill>
        <p:spPr>
          <a:xfrm>
            <a:off x="3429000" y="228600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EXPO14025"/>
          <p:cNvPicPr/>
          <p:nvPr/>
        </p:nvPicPr>
        <p:blipFill>
          <a:blip r:embed="rId6"/>
          <a:stretch/>
        </p:blipFill>
        <p:spPr>
          <a:xfrm>
            <a:off x="1066680" y="914400"/>
            <a:ext cx="2000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33520" y="5562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егодня балет приобретает все более многообразные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555.wmv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458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809880" y="4191120"/>
            <a:ext cx="495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ежда женщин стала другой- изменилась длина юбки, ушли в прошлое корсеты, пышные нижние юбки. А движения танцев приобрели более раскованный, ритмичный, подвижный характер. Это была настоящая революц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45720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чале 20 века появились танцы 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кстрот, квикстеп, танго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рльстон, степ(чечетка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20век"/>
          <p:cNvPicPr/>
          <p:nvPr/>
        </p:nvPicPr>
        <p:blipFill>
          <a:blip r:embed="rId2"/>
          <a:stretch/>
        </p:blipFill>
        <p:spPr>
          <a:xfrm>
            <a:off x="4495680" y="13716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40003US"/>
          <p:cNvPicPr/>
          <p:nvPr/>
        </p:nvPicPr>
        <p:blipFill>
          <a:blip r:embed="rId3"/>
          <a:stretch/>
        </p:blipFill>
        <p:spPr>
          <a:xfrm>
            <a:off x="6934320" y="152280"/>
            <a:ext cx="1995480" cy="3048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S001ADC2"/>
          <p:cNvPicPr/>
          <p:nvPr/>
        </p:nvPicPr>
        <p:blipFill>
          <a:blip r:embed="rId4"/>
          <a:stretch/>
        </p:blipFill>
        <p:spPr>
          <a:xfrm>
            <a:off x="1447920" y="1676520"/>
            <a:ext cx="2895480" cy="242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EXPO14091"/>
          <p:cNvPicPr/>
          <p:nvPr/>
        </p:nvPicPr>
        <p:blipFill>
          <a:blip r:embed="rId5"/>
          <a:stretch/>
        </p:blipFill>
        <p:spPr>
          <a:xfrm>
            <a:off x="152280" y="3581280"/>
            <a:ext cx="2032200" cy="3048120"/>
          </a:xfrm>
          <a:prstGeom prst="rect">
            <a:avLst/>
          </a:prstGeom>
          <a:ln w="0">
            <a:noFill/>
          </a:ln>
        </p:spPr>
      </p:pic>
      <p:pic>
        <p:nvPicPr>
          <p:cNvPr id="154" name="Аллегрова 1- Track 12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838080" y="2286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В середине века появилось такое понятие, как "бальный танец". Программа бальных танцев имеет 2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3520" y="3581280"/>
            <a:ext cx="368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виксте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4960" y="5641920"/>
            <a:ext cx="23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нский ва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18760" y="4840200"/>
            <a:ext cx="11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н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6880" y="24415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ленный валь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35320" y="320364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кст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012440" y="4803840"/>
            <a:ext cx="1808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садоб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859440" y="228924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-ча-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378200" y="3011400"/>
            <a:ext cx="11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088040" y="5641920"/>
            <a:ext cx="113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ай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7393680" y="3813120"/>
            <a:ext cx="11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м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I4000L49"/>
          <p:cNvPicPr/>
          <p:nvPr/>
        </p:nvPicPr>
        <p:blipFill>
          <a:blip r:embed="rId2"/>
          <a:stretch/>
        </p:blipFill>
        <p:spPr>
          <a:xfrm>
            <a:off x="2743200" y="2895480"/>
            <a:ext cx="4114800" cy="2776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8"/>
          <p:cNvSpPr/>
          <p:nvPr/>
        </p:nvSpPr>
        <p:spPr>
          <a:xfrm>
            <a:off x="1069200" y="167652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5337000" y="167652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тиноамерик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Аллегрова 1- Track 1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5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5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5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5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5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5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54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48320" y="411480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жениями и жестами они передавали свое настроение: радость, печаль. Танцами сопровождались битвы, походы на войну, проводы в последний путь. Музыкальное сопровождение было самым простым: удары барабана, хлопанье в ладоши, 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04920" y="228600"/>
            <a:ext cx="431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нец появился очень давно, на заре человечества. Первые танцы не были похожи на наши современные. В основе первых плясок были движения , связанные с трудом первобытного человека: ловлей рыбы, сбором плодов, ох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Рисунок1"/>
          <p:cNvPicPr/>
          <p:nvPr/>
        </p:nvPicPr>
        <p:blipFill>
          <a:blip r:embed="rId2"/>
          <a:stretch/>
        </p:blipFill>
        <p:spPr>
          <a:xfrm>
            <a:off x="5257800" y="228600"/>
            <a:ext cx="359100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Рисунок2"/>
          <p:cNvPicPr/>
          <p:nvPr/>
        </p:nvPicPr>
        <p:blipFill>
          <a:blip r:embed="rId3"/>
          <a:stretch/>
        </p:blipFill>
        <p:spPr>
          <a:xfrm>
            <a:off x="2438280" y="2209680"/>
            <a:ext cx="3025800" cy="22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Рисунок3"/>
          <p:cNvPicPr/>
          <p:nvPr/>
        </p:nvPicPr>
        <p:blipFill>
          <a:blip r:embed="rId4"/>
          <a:stretch/>
        </p:blipFill>
        <p:spPr>
          <a:xfrm>
            <a:off x="609480" y="3962520"/>
            <a:ext cx="34196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8120" y="152280"/>
            <a:ext cx="580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егодня мы танцуем самые разнообразные танцы, медленные и быстрые, плавные, лиричные и энергичные, те, которые люди танцуют с давних пор и те, которые вошли в наш репертуар недавно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S0015FDB"/>
          <p:cNvPicPr/>
          <p:nvPr/>
        </p:nvPicPr>
        <p:blipFill>
          <a:blip r:embed="rId2"/>
          <a:stretch/>
        </p:blipFill>
        <p:spPr>
          <a:xfrm>
            <a:off x="152280" y="380880"/>
            <a:ext cx="2819520" cy="224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8030070"/>
          <p:cNvPicPr/>
          <p:nvPr/>
        </p:nvPicPr>
        <p:blipFill>
          <a:blip r:embed="rId3"/>
          <a:stretch/>
        </p:blipFill>
        <p:spPr>
          <a:xfrm>
            <a:off x="4546440" y="2895480"/>
            <a:ext cx="4597560" cy="3140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1"/>
          <p:cNvPicPr/>
          <p:nvPr/>
        </p:nvPicPr>
        <p:blipFill>
          <a:blip r:embed="rId4"/>
          <a:stretch/>
        </p:blipFill>
        <p:spPr>
          <a:xfrm>
            <a:off x="3505320" y="4267080"/>
            <a:ext cx="2438280" cy="240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безымянный1"/>
          <p:cNvPicPr/>
          <p:nvPr/>
        </p:nvPicPr>
        <p:blipFill>
          <a:blip r:embed="rId5"/>
          <a:stretch/>
        </p:blipFill>
        <p:spPr>
          <a:xfrm>
            <a:off x="1371600" y="2362320"/>
            <a:ext cx="3124080" cy="2147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джайв"/>
          <p:cNvPicPr/>
          <p:nvPr/>
        </p:nvPicPr>
        <p:blipFill>
          <a:blip r:embed="rId6"/>
          <a:stretch/>
        </p:blipFill>
        <p:spPr>
          <a:xfrm>
            <a:off x="228600" y="3886200"/>
            <a:ext cx="2089080" cy="2781360"/>
          </a:xfrm>
          <a:prstGeom prst="rect">
            <a:avLst/>
          </a:prstGeom>
          <a:ln w="0">
            <a:noFill/>
          </a:ln>
        </p:spPr>
      </p:pic>
      <p:pic>
        <p:nvPicPr>
          <p:cNvPr id="178" name="Аллегрова 1- Track 12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61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0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28600" y="30492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ликий мир танца! Танец- это театр пластики, мимики и жеста. Язык телодвижений- самый выразительный и эмоциональный. Может быть поэтому танец- это самый массовый вид искусства. В нашей школе ребята тоже любят танцевать, а самые способные- являются участниками ансамбля «Росинка". Давайте чуть ближе познакомимся с н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P8030051"/>
          <p:cNvPicPr/>
          <p:nvPr/>
        </p:nvPicPr>
        <p:blipFill>
          <a:blip r:embed="rId2"/>
          <a:stretch/>
        </p:blipFill>
        <p:spPr>
          <a:xfrm>
            <a:off x="3505320" y="3048120"/>
            <a:ext cx="4978440" cy="3319200"/>
          </a:xfrm>
          <a:prstGeom prst="rect">
            <a:avLst/>
          </a:prstGeom>
          <a:ln w="0">
            <a:noFill/>
          </a:ln>
        </p:spPr>
      </p:pic>
      <p:pic>
        <p:nvPicPr>
          <p:cNvPr id="182" name="Сборник - 1 - Cuba Club - Cub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23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2680" y="60948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29d7"/>
                </a:solidFill>
                <a:latin typeface="Arial"/>
              </a:rPr>
              <a:t>Ито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52480" y="152280"/>
            <a:ext cx="793296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Что такое «танец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ие народные танцы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ие корни имеют классические тан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ой жанр хореографии появился в 16 век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существует по сегодняшний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О каких композиторов вы узнали сегод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А каких композиторов вы еще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Назовите танцы, входящие в латиноамериканс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програм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ие стили танцевального искусства прису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20-21 в.?</a:t>
            </a:r>
            <a:r>
              <a:rPr b="0" i="1" lang="ru-RU" sz="2000" spc="-1" strike="noStrike">
                <a:solidFill>
                  <a:srgbClr val="3529d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4"/>
          <p:cNvSpPr txBox="1"/>
          <p:nvPr/>
        </p:nvSpPr>
        <p:spPr>
          <a:xfrm>
            <a:off x="304920" y="22860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- это движение. Движение - жизнь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 же танце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37.wmv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7" dur="688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1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838080" y="0"/>
            <a:ext cx="723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 изменением социального строя и условий жизни людей изменились характер, тематика и манера исполнения та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На Руси издавна любили этот жанр музыкального искусства. Одним из самых древних танцев является хоровод, который дошел и до наших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ереза"/>
          <p:cNvPicPr/>
          <p:nvPr/>
        </p:nvPicPr>
        <p:blipFill>
          <a:blip r:embed="rId2"/>
          <a:stretch/>
        </p:blipFill>
        <p:spPr>
          <a:xfrm>
            <a:off x="1752480" y="1905120"/>
            <a:ext cx="5715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09480" y="2286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Русской же пляске прежде всего присуща содержательность, величественная широта жеста. Народная пляска первая формировала хореографический вкус русского общества. Под ее влиянием создавались шедевры музыкальной и художественной культуры, мировой классической литературы, делались научные открытия.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5"/>
          <p:cNvPicPr/>
          <p:nvPr/>
        </p:nvPicPr>
        <p:blipFill>
          <a:blip r:embed="rId2"/>
          <a:stretch/>
        </p:blipFill>
        <p:spPr>
          <a:xfrm>
            <a:off x="5715000" y="533520"/>
            <a:ext cx="2868480" cy="426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Рисунок4"/>
          <p:cNvPicPr/>
          <p:nvPr/>
        </p:nvPicPr>
        <p:blipFill>
          <a:blip r:embed="rId3"/>
          <a:stretch/>
        </p:blipFill>
        <p:spPr>
          <a:xfrm>
            <a:off x="533520" y="3505320"/>
            <a:ext cx="45720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04920" y="380880"/>
            <a:ext cx="85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Bernard MT Condensed"/>
              </a:rPr>
              <a:t>Во все времена танец характеризовал тот народ, у которого он зародился, выражая мысли, чувства и переживания этого народа, их традиции и обыча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28600" y="1828800"/>
            <a:ext cx="480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зги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это воинственность и храбрость духа грузинского нар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rod_263"/>
          <p:cNvPicPr/>
          <p:nvPr/>
        </p:nvPicPr>
        <p:blipFill>
          <a:blip r:embed="rId2"/>
          <a:stretch/>
        </p:blipFill>
        <p:spPr>
          <a:xfrm>
            <a:off x="5638680" y="17524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4000SXQ"/>
          <p:cNvPicPr/>
          <p:nvPr/>
        </p:nvPicPr>
        <p:blipFill>
          <a:blip r:embed="rId3"/>
          <a:stretch/>
        </p:blipFill>
        <p:spPr>
          <a:xfrm>
            <a:off x="304920" y="4038480"/>
            <a:ext cx="3562200" cy="2500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4419720" y="4724280"/>
            <a:ext cx="4190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б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 яркие краски Бразилии, энергия,  задор, радость в каждом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943600" y="38088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дрил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это игривый и добрый нрав сибиря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9080" y="3465360"/>
            <a:ext cx="329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ыганочк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сель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свободолюбие кочующе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6"/>
          <p:cNvPicPr/>
          <p:nvPr/>
        </p:nvPicPr>
        <p:blipFill>
          <a:blip r:embed="rId2"/>
          <a:stretch/>
        </p:blipFill>
        <p:spPr>
          <a:xfrm>
            <a:off x="380880" y="152280"/>
            <a:ext cx="4432320" cy="336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Рисунок7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5843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садобл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это страстная н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029200" y="312408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дийски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анец поражает своей философией и пластикой жес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04920" y="1905120"/>
            <a:ext cx="200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анце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Рисунок9"/>
          <p:cNvPicPr/>
          <p:nvPr/>
        </p:nvPicPr>
        <p:blipFill>
          <a:blip r:embed="rId2"/>
          <a:stretch/>
        </p:blipFill>
        <p:spPr>
          <a:xfrm>
            <a:off x="3200400" y="1066680"/>
            <a:ext cx="198612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Рисунок10"/>
          <p:cNvPicPr/>
          <p:nvPr/>
        </p:nvPicPr>
        <p:blipFill>
          <a:blip r:embed="rId3"/>
          <a:stretch/>
        </p:blipFill>
        <p:spPr>
          <a:xfrm>
            <a:off x="228600" y="2743200"/>
            <a:ext cx="2206800" cy="327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Рисунок11"/>
          <p:cNvPicPr/>
          <p:nvPr/>
        </p:nvPicPr>
        <p:blipFill>
          <a:blip r:embed="rId4"/>
          <a:stretch/>
        </p:blipFill>
        <p:spPr>
          <a:xfrm>
            <a:off x="1752480" y="3886200"/>
            <a:ext cx="2176560" cy="251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Рисунок12"/>
          <p:cNvPicPr/>
          <p:nvPr/>
        </p:nvPicPr>
        <p:blipFill>
          <a:blip r:embed="rId5"/>
          <a:stretch/>
        </p:blipFill>
        <p:spPr>
          <a:xfrm>
            <a:off x="3581280" y="4724280"/>
            <a:ext cx="2889360" cy="1936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Рисунок8"/>
          <p:cNvPicPr/>
          <p:nvPr/>
        </p:nvPicPr>
        <p:blipFill>
          <a:blip r:embed="rId6"/>
          <a:stretch/>
        </p:blipFill>
        <p:spPr>
          <a:xfrm>
            <a:off x="5105520" y="228600"/>
            <a:ext cx="3789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Рисунок13"/>
          <p:cNvPicPr/>
          <p:nvPr/>
        </p:nvPicPr>
        <p:blipFill>
          <a:blip r:embed="rId2"/>
          <a:stretch/>
        </p:blipFill>
        <p:spPr>
          <a:xfrm>
            <a:off x="152280" y="228600"/>
            <a:ext cx="5151600" cy="341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4"/>
          <p:cNvPicPr/>
          <p:nvPr/>
        </p:nvPicPr>
        <p:blipFill>
          <a:blip r:embed="rId3"/>
          <a:stretch/>
        </p:blipFill>
        <p:spPr>
          <a:xfrm>
            <a:off x="5410080" y="533520"/>
            <a:ext cx="3552840" cy="25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Рисунок15"/>
          <p:cNvPicPr/>
          <p:nvPr/>
        </p:nvPicPr>
        <p:blipFill>
          <a:blip r:embed="rId4"/>
          <a:stretch/>
        </p:blipFill>
        <p:spPr>
          <a:xfrm>
            <a:off x="533520" y="3733920"/>
            <a:ext cx="3049560" cy="28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Рисунок16"/>
          <p:cNvPicPr/>
          <p:nvPr/>
        </p:nvPicPr>
        <p:blipFill>
          <a:blip r:embed="rId5"/>
          <a:stretch/>
        </p:blipFill>
        <p:spPr>
          <a:xfrm>
            <a:off x="4343400" y="3505320"/>
            <a:ext cx="4572000" cy="3136680"/>
          </a:xfrm>
          <a:prstGeom prst="rect">
            <a:avLst/>
          </a:prstGeom>
          <a:ln w="0">
            <a:noFill/>
          </a:ln>
        </p:spPr>
      </p:pic>
      <p:sp>
        <p:nvSpPr>
          <p:cNvPr id="92" name="WordArt 13"/>
          <p:cNvSpPr txBox="1"/>
          <p:nvPr/>
        </p:nvSpPr>
        <p:spPr>
          <a:xfrm>
            <a:off x="1371600" y="1905120"/>
            <a:ext cx="5562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зия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EXPO8340"/>
          <p:cNvPicPr/>
          <p:nvPr/>
        </p:nvPicPr>
        <p:blipFill>
          <a:blip r:embed="rId2"/>
          <a:stretch/>
        </p:blipFill>
        <p:spPr>
          <a:xfrm>
            <a:off x="5486400" y="228600"/>
            <a:ext cx="3409920" cy="228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XPO8310"/>
          <p:cNvPicPr/>
          <p:nvPr/>
        </p:nvPicPr>
        <p:blipFill>
          <a:blip r:embed="rId3"/>
          <a:stretch/>
        </p:blipFill>
        <p:spPr>
          <a:xfrm>
            <a:off x="380880" y="380880"/>
            <a:ext cx="4419720" cy="295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001B2AE"/>
          <p:cNvPicPr/>
          <p:nvPr/>
        </p:nvPicPr>
        <p:blipFill>
          <a:blip r:embed="rId4"/>
          <a:stretch/>
        </p:blipFill>
        <p:spPr>
          <a:xfrm>
            <a:off x="609480" y="388620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H03406"/>
          <p:cNvPicPr/>
          <p:nvPr/>
        </p:nvPicPr>
        <p:blipFill>
          <a:blip r:embed="rId5"/>
          <a:stretch/>
        </p:blipFill>
        <p:spPr>
          <a:xfrm>
            <a:off x="4343400" y="3129120"/>
            <a:ext cx="4543560" cy="293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3"/>
          <p:cNvSpPr txBox="1"/>
          <p:nvPr/>
        </p:nvSpPr>
        <p:spPr>
          <a:xfrm>
            <a:off x="1752480" y="2666880"/>
            <a:ext cx="5562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вроп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rakanStudio</cp:lastModifiedBy>
  <dcterms:modified xsi:type="dcterms:W3CDTF">2020-05-26T15:06:10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