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5240" y="93312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1158840" y="933480"/>
            <a:ext cx="435312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90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92240" y="933480"/>
            <a:ext cx="4471920" cy="33544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5990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158840" y="933480"/>
            <a:ext cx="435312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90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158840" y="933480"/>
            <a:ext cx="435312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90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158840" y="933480"/>
            <a:ext cx="435312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90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155600" y="933480"/>
            <a:ext cx="4348440" cy="33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90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426-40D8-4365-B0E9-FB528286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398-DA5A-4453-A28D-B991945F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D8C2-C96A-47ED-BA3B-AED46534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9BB-B32B-4A1E-AC38-95962664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EAA2-4B3F-42A1-984A-78473E3D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4F6B-99CF-4EF1-B22B-CD976B21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90BD-5FB0-431C-AAAF-A17D1593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AD42-1E6F-465D-B7BB-91745706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D89D-6C56-4C27-89E1-A2A99969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00B5-F0FA-435A-ABF1-07AF5CC4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8B2B-F97B-433C-BF4D-DF694F05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C31-0C76-41DB-A103-DBF0E1D8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1168-99E6-4382-AACD-E66539C6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1336-26E8-42A5-8188-BFE5D4AF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077C-9CBD-4469-8DDC-5EBF5527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DD2D-DD66-4632-BCF4-E8509AE7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EADE-545E-4C4D-B931-0787F89D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F22-A858-4383-9183-A80AB9C2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73C-F244-439A-9A84-AB65D5AA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EBF-AA0A-40EA-843B-0A9C6127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9F9-D35A-4147-A3A3-68E18DE1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5D2-CAE6-418B-AB53-38F9716F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B105-213C-4330-B865-62ACD38F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AF1-AE66-4752-A43A-9C00FB5E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cc00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c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cc00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0B8D7E-26F7-4101-A2C4-A7A1B620FF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cc00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c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cc00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2BC6A5-D439-42F6-9248-5F411AD298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21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round/>
          </a:ln>
          <a:effectLst>
            <a:outerShdw dist="107932" dir="13500000" blurRad="0" rotWithShape="0">
              <a:srgbClr val="bb5f03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90303"/>
                </a:solidFill>
                <a:latin typeface="Times New Roman"/>
              </a:rPr>
              <a:t>Мой дедушка,</a:t>
            </a:r>
            <a:br>
              <a:rPr sz="4800"/>
            </a:br>
            <a:r>
              <a:rPr b="0" i="1" lang="ru-RU" sz="4800" spc="-1" strike="noStrike">
                <a:solidFill>
                  <a:srgbClr val="690303"/>
                </a:solidFill>
                <a:latin typeface="Times New Roman"/>
              </a:rPr>
              <a:t>Синяков Леонид Алексеевич</a:t>
            </a:r>
            <a:br>
              <a:rPr sz="4800"/>
            </a:br>
            <a:r>
              <a:rPr b="0" i="1" lang="ru-RU" sz="4800" spc="-1" strike="noStrike">
                <a:solidFill>
                  <a:srgbClr val="690303"/>
                </a:solidFill>
                <a:latin typeface="Times New Roman"/>
              </a:rPr>
              <a:t>1926-2001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987640" y="3499920"/>
            <a:ext cx="590544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2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10058400"/>
              </a:tabLst>
            </a:pPr>
            <a:r>
              <a:rPr b="0" lang="en-GB" sz="2800" spc="-1" strike="noStrike">
                <a:solidFill>
                  <a:srgbClr val="feec94"/>
                </a:solidFill>
                <a:latin typeface="Times New Roman"/>
              </a:rPr>
              <a:t>Выполнила</a:t>
            </a: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2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ученица 3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Г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класс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2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МОУ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«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Лицей г.Козьмодемьянска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2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Ярунова Эльмир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2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Руководител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2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2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онина Надежда Фёдоро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8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3827520" cy="44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чень любил работать в саду, ходить в лес за грибами, рыбачить. Пробовал писать стихи и  неплохо рисова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2000 году, в честь 55-летия Победы  ему было присвоено звание старшего лейтенант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 горжусь своим дедушкой и для нас он всегда жив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4284720" y="1916280"/>
            <a:ext cx="4680000" cy="37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 узнала очень много интересного о своем дедушке Лёне. Вся его биография связана с историей нашей Родины. Мой дедушка был трудолюбивым, смелым, добрым человеком  и очень любил свою Родин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ели и задач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накомиться с биографией любимого дедуш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лиже узнать о его жизни, его дел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ез историю своей семьи лучше узнать историю Род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4052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932360" y="691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й дедушка,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няков Леонид Алексеевич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родился 4 марта 1926 года в деревне Малый Серманангер Виловатовского  сельсовета Горномарийского района Марийской АСС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40028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820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07880"/>
                <a:tab algn="l" pos="857160"/>
                <a:tab algn="l" pos="1306440"/>
                <a:tab algn="l" pos="1755720"/>
                <a:tab algn="l" pos="2205000"/>
                <a:tab algn="l" pos="2654280"/>
                <a:tab algn="l" pos="3103560"/>
                <a:tab algn="l" pos="3552840"/>
                <a:tab algn="l" pos="4002120"/>
                <a:tab algn="l" pos="4451400"/>
                <a:tab algn="l" pos="4900680"/>
                <a:tab algn="l" pos="5349960"/>
                <a:tab algn="l" pos="5799240"/>
                <a:tab algn="l" pos="6248520"/>
                <a:tab algn="l" pos="6697800"/>
                <a:tab algn="l" pos="7147080"/>
                <a:tab algn="l" pos="7596360"/>
                <a:tab algn="l" pos="8045280"/>
                <a:tab algn="l" pos="8494560"/>
                <a:tab algn="l" pos="894384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его семье было четверо детей, а он самым старшим. Его папа, мой прадедушка, был участником Гражданской войны, воевал в Чапаевской дивизии и был тяжело ранен. Вернулся домой инвалидом. Поэтому на  Леониде, как на старшем, лежала ответственность за младших детей и непосильная работа с целью прокормить семь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07880"/>
                <a:tab algn="l" pos="857160"/>
                <a:tab algn="l" pos="1306440"/>
                <a:tab algn="l" pos="1755720"/>
                <a:tab algn="l" pos="2205000"/>
                <a:tab algn="l" pos="2654280"/>
                <a:tab algn="l" pos="3103560"/>
                <a:tab algn="l" pos="3552840"/>
                <a:tab algn="l" pos="4002120"/>
                <a:tab algn="l" pos="4451400"/>
                <a:tab algn="l" pos="4900680"/>
                <a:tab algn="l" pos="5349960"/>
                <a:tab algn="l" pos="5799240"/>
                <a:tab algn="l" pos="6248520"/>
                <a:tab algn="l" pos="6697800"/>
                <a:tab algn="l" pos="7147080"/>
                <a:tab algn="l" pos="7596360"/>
                <a:tab algn="l" pos="8045280"/>
                <a:tab algn="l" pos="8494560"/>
                <a:tab algn="l" pos="894384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гда началась Великая Отечественная война с Германией, ему было 15 лет.  Это были тяжелые годы для всего народа. Немцы не дошли до нашего края, но кровавые отблески войны были везде. Все взрослые мужчины ушли на фронт.  И на мальчишек  подростков, 13-17 лет легла вся мужская работ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8000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7984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SzPct val="109968"/>
              <a:buBlip>
                <a:blip r:embed="rId1"/>
              </a:buBlip>
              <a:tabLst>
                <a:tab algn="l" pos="3538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рез 2 года, в 17 лет, Синякова Леонида   призвали в Армию на защиту Родины. После окончания  снайперской школы, в декабре 1944 года его отправили на  фронт. Дедушка, еще совсем молодой, оказался в самом центре военных событий – на Магнушевском    плацдарме. В составе 1-го Белорусского фронта он  прошел через  всю Польшу, участвовал в освобождении Варшавы и других польских городов. Они гнали врагов всё дальше и дальше, из одной атаки в другую, проходили с боями за сутки 35 – 40 км   и дошли до реки Одер, который перешли в феврале 1945 года. 14 февраля 1945 г.  дедушка во  время разведки был ранен, контужен, но чудом добрался до своих. Затем лечился в военном госпитале,  где  из его плеча извлекли отравленные оскол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8000">
    <p:diamond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ранения дедушка уже не мог быть снайпером и с 19 марта 1945 г. в составе  второй танковой Армии был назначен командиром отделения связистов. Шли они по направлению к Берлину. Освободили город Познань, Потсдам и здесь же узнали   о Победе  Советских войск над фашисткой Германи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4392720" cy="3943440"/>
          </a:xfrm>
          <a:prstGeom prst="rect">
            <a:avLst/>
          </a:prstGeom>
          <a:ln w="0">
            <a:noFill/>
          </a:ln>
        </p:spPr>
      </p:pic>
    </p:spTree>
  </p:cSld>
  <p:transition spd="med" advTm="58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 победы дедушка прослужил в военных частях   до 1954 года. Служил рядовым и на должностях сержантского состава. Уволен в запас 25.01.1954г.  в  звании младшего лейтенан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326120" cy="3630600"/>
          </a:xfrm>
          <a:prstGeom prst="rect">
            <a:avLst/>
          </a:prstGeom>
          <a:ln w="0">
            <a:noFill/>
          </a:ln>
        </p:spPr>
      </p:pic>
    </p:spTree>
  </p:cSld>
  <p:transition spd="med" advTm="58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дедушки было много наград, но главными он считал медали «За отвагу», «За освобождение Варшавы», «За взятие Берлина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1"/>
          <a:stretch/>
        </p:blipFill>
        <p:spPr>
          <a:xfrm>
            <a:off x="4356000" y="1844640"/>
            <a:ext cx="4680000" cy="3330720"/>
          </a:xfrm>
          <a:prstGeom prst="rect">
            <a:avLst/>
          </a:prstGeom>
          <a:ln w="0">
            <a:noFill/>
          </a:ln>
        </p:spPr>
      </p:pic>
    </p:spTree>
  </p:cSld>
  <p:transition spd="med" advTm="58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439236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душка был очень энергичный, жизнерадостный, трудолюбивый человек. Очень любил жизнь и стремился к совершенствованию. Окончил среднюю общеобразовательную школу уже в возрасте, окончил Елабужскую школу милиции, заочно Канашский финансовый техникум. Работал и жил в городе Козьмодемьянске. Снайпер, связист, бригадир, начальник, директор, председатель – вот  неполный список должностей, которые он исполнял. Хоть он и был инвалидом Великой Отечественной войны 2 группы, он никогда не унывал и не сидел сложа ру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11" descr=""/>
          <p:cNvPicPr/>
          <p:nvPr/>
        </p:nvPicPr>
        <p:blipFill>
          <a:blip r:embed="rId1"/>
          <a:stretch/>
        </p:blipFill>
        <p:spPr>
          <a:xfrm>
            <a:off x="5003640" y="692280"/>
            <a:ext cx="3845160" cy="5949720"/>
          </a:xfrm>
          <a:prstGeom prst="rect">
            <a:avLst/>
          </a:prstGeom>
          <a:ln w="0">
            <a:noFill/>
          </a:ln>
        </p:spPr>
      </p:pic>
    </p:spTree>
  </p:cSld>
  <p:transition spd="med" advTm="58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птека</dc:creator>
  <dc:description/>
  <dc:language>en-US</dc:language>
  <cp:lastModifiedBy>Виктор</cp:lastModifiedBy>
  <dcterms:modified xsi:type="dcterms:W3CDTF">2020-08-09T08:42:31Z</dcterms:modified>
  <cp:revision>20</cp:revision>
  <dc:subject/>
  <dc:title>Проект посудомоечной машины</dc:title>
</cp:coreProperties>
</file>