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A0F-01DA-4873-B8E6-46E9052D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846-D0D3-4168-A4DF-EBE02C99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699-6C2E-481F-BBB6-DA1CC06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B93-B29B-4DD6-B5DC-8E11CB32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22E-3574-494A-BEFB-5CFC13C2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D3B-5445-41F0-A260-02A5C01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4D9D-98B0-4562-8E91-6851D50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57C-54A5-4191-B4D6-F82E888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FBF8-F1A6-4A95-AFD3-C788E43E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424-190C-4DBE-BF9F-F1E904DD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0035-4EE5-4563-AE31-D118EF0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D8D-2C9D-401E-8151-B3C1837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1E18-536C-429F-890F-D404A6E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D023-11CA-4F5C-BEF8-205516B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CA9A-7DFD-4827-8FBB-90450CD9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AFD-0A0B-49A0-BDCE-22FEAA30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96C2-2F74-41DA-9592-E156CA64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2308-5989-4485-84F2-E7907273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676B-9ED5-4069-856A-99CE831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2644-84B5-4C95-BB2F-A9808882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7CC4-61AA-4432-806C-FF2A3547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445E-047C-4517-8F37-9E4320BD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5B4-477B-4975-A388-8E54F32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9B6D-9B24-47D1-AD54-12FA14D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AB06-027A-42BC-A0B0-58904B3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0A78-AB27-4D3E-92AC-6916AA2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4C00-F437-4C13-93B5-19D346D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2C44-9B71-41B1-85D4-4295456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B0E6-FDEF-49F9-BEB9-0581D027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3F23-728B-4EF8-90C0-1AEC68CB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E24E-DBC9-457B-98A0-5C469849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47A9-7D83-4F93-A92F-3073D86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CA3C-F72D-4F30-AC7E-657B6973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907-1CE0-4D14-8839-E8CD1BCB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069E-76A8-4593-B0A2-A402CDE0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C592-1145-429A-BE56-8DCCFAA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FCBB-C094-4AF3-9B39-33595E3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B4EA-59C2-4F84-9774-21358C1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3FCF-165B-4AE2-B29B-A8255A1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D199-A42A-44A7-86E1-E3EF597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CD1D-B7FF-48B5-AE27-1F39A3C7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E19C-8340-4DDD-834A-A0164261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8F90-EA21-40C3-9FEF-E1E8CC0C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AC1-06F5-4B6D-86DF-9D99FA1A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E1D-B709-410F-8197-A7B1C0C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D77-B342-4A11-B91F-A8870A0D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522-4237-492C-9CEC-3132F85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092-19A6-4C33-B64E-98F0E4E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8A54-0842-41BF-9F45-F54DCA5177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28D-0DD1-47F5-8C72-6F53AB883C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D8A-E18C-4BFA-962E-56209BE204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0ED-995F-4BAC-979C-CC7557B458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492000" y="4428720"/>
            <a:ext cx="52945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c65"/>
                </a:solidFill>
                <a:latin typeface="Trebuchet MS"/>
              </a:rPr>
              <a:t>Л.Н. Толстой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360360" y="1736640"/>
            <a:ext cx="84549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s://storage.myseldon.com/news_pict_54/54049F550011A8D049406784AD58F913"/>
          <p:cNvPicPr/>
          <p:nvPr/>
        </p:nvPicPr>
        <p:blipFill>
          <a:blip r:embed="rId1"/>
          <a:stretch/>
        </p:blipFill>
        <p:spPr>
          <a:xfrm>
            <a:off x="971640" y="333360"/>
            <a:ext cx="7386480" cy="5183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2124000" y="551664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c65"/>
                </a:solidFill>
                <a:latin typeface="Arial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s://botana.biz/prepod/_bloks/pic/nq1xdvk-001.jpg"/>
          <p:cNvPicPr/>
          <p:nvPr/>
        </p:nvPicPr>
        <p:blipFill>
          <a:blip r:embed="rId1"/>
          <a:stretch/>
        </p:blipFill>
        <p:spPr>
          <a:xfrm>
            <a:off x="468360" y="33336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50920" y="1557360"/>
            <a:ext cx="417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подле них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напрасн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не сул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он напал на реку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помянуть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беги без оглядк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395280" y="47628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d79ca"/>
                </a:solidFill>
                <a:latin typeface="Arial"/>
                <a:ea typeface="Aharoni"/>
              </a:rPr>
              <a:t>Задание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4427640" y="177336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около 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безрезультатно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не обещ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внезапно увид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вспом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c65"/>
                </a:solidFill>
                <a:latin typeface="Arial"/>
              </a:rPr>
              <a:t>беги очень быстро, изо всех сил, не оглядыва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7928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79ca"/>
                </a:solidFill>
                <a:latin typeface="Arial"/>
              </a:rPr>
              <a:t>Задание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108000" y="1341360"/>
            <a:ext cx="475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«Искать большого счастия — малое потеря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«Не сули журавля в небе, а дай синицу в ру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«Волков бояться, в лес не ход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«Под лежачий камень вода не потечё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859280" y="134136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Нужно ценить то, что мы имеем, радоваться мелоч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Не нужно обещать много, нужно дать, хотя бы и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Чтобы добиться какого-либо успеха, необходимо рисковать, действовать см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У того, кто не пытается что-либо сделать, ничего не полу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24000" y="1484280"/>
          <a:ext cx="8424720" cy="4930920"/>
        </p:xfrm>
        <a:graphic>
          <a:graphicData uri="http://schemas.openxmlformats.org/drawingml/2006/table">
            <a:tbl>
              <a:tblPr/>
              <a:tblGrid>
                <a:gridCol w="2598480"/>
                <a:gridCol w="2913120"/>
                <a:gridCol w="2913120"/>
              </a:tblGrid>
              <a:tr h="4366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арший  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ладший  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9032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сказывания о предсказ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исано на см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расно писать не стали 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366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ступ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лся на бер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плыл р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946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ил ни богато, ни бе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арствовал пять лет, потом опять стал странств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2082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ерты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решительный, практичный, добрый, спокойный, ровный, недоверчивый, осторожный, серьёз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мелый, отчаянный, вспыльчивый, решительный, легковерный, бесшабашный, неунывающий, жизнерадос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2"/>
          <p:cNvSpPr/>
          <p:nvPr/>
        </p:nvSpPr>
        <p:spPr>
          <a:xfrm>
            <a:off x="2220120" y="333360"/>
            <a:ext cx="46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79ca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395280" y="1557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c65"/>
                </a:solidFill>
                <a:latin typeface="Arial"/>
              </a:rPr>
              <a:t>Каждый человек воспринимает счаст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c65"/>
                </a:solidFill>
                <a:latin typeface="Arial"/>
              </a:rPr>
              <a:t>по-своем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26:28Z</dcterms:created>
  <dc:creator>stalker</dc:creator>
  <dc:description/>
  <dc:language>en-US</dc:language>
  <cp:lastModifiedBy>888</cp:lastModifiedBy>
  <dcterms:modified xsi:type="dcterms:W3CDTF">2020-02-25T02:43:16Z</dcterms:modified>
  <cp:revision>37</cp:revision>
  <dc:subject/>
  <dc:title>Окружающий мир</dc:title>
</cp:coreProperties>
</file>